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995D-7FCD-412C-BFF9-96A3B7C8C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30B-E871-4A9D-8CE1-D9FF3C7F2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13D-F59F-4069-9254-D0BD9141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B7B-EFBF-4A8D-BA4A-2A6933AD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A56-4193-42FB-938C-DB9ADE08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0C6-AAAE-4526-A7C8-D5882BE0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277-E182-4D70-BAAD-CDFA5E3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7EF-47EF-44C6-8E96-F68AB9D3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44F-380C-46C1-B93A-92FBCD4A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6B0-86E0-44AC-A651-8567C0AE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7AA-2C78-4D1B-AA43-BC51BDF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134-1AF4-40BA-BFDA-9BFB1DBF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9B3-B823-48F0-BAD0-E33F39D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5D9-76A6-4FD2-AEE8-CCCC8C4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5642-33B7-4D61-B91D-8353318D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2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 rot="21173400">
            <a:off x="1012320" y="1557000"/>
            <a:ext cx="1000152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9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Cluedo – ein geheimnisvoller Mord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422100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r hat Herr Hetherington ermorde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175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rosemary\AppData\Local\Microsoft\Windows\Temporary Internet Files\Content.IE5\E07MC5OW\MPj04431130000[1].jpg"/>
          <p:cNvPicPr/>
          <p:nvPr/>
        </p:nvPicPr>
        <p:blipFill>
          <a:blip r:embed="rId2"/>
          <a:stretch/>
        </p:blipFill>
        <p:spPr>
          <a:xfrm>
            <a:off x="357120" y="2000160"/>
            <a:ext cx="1428840" cy="214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524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0 RH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rr Hetherington ermorder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428480"/>
            <a:ext cx="5307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recklich!! Gestern abend hat man um Mitternacht die Polizei gerufen, als man den ermorderten Herrn Hetherington gefunden hat. Die Polizei hat Herr Hetherington im Schwimmbad gefunde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837480" y="4714920"/>
            <a:ext cx="2068560" cy="155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rosemary\AppData\Local\Microsoft\Windows\Temporary Internet Files\Content.IE5\E07MC5OW\MPj04431130000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142884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48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400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Temperatur seines Körpers zeigt,dass er zwischen 10 Uhr et 11 Uhr ermordert wu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71680" y="3643200"/>
            <a:ext cx="4547880" cy="303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7093080" y="1700280"/>
            <a:ext cx="187488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4859280" y="404640"/>
            <a:ext cx="20955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2852280"/>
            <a:ext cx="55562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Polizei weißt noch nicht  welche Waffe man benuzt hat,um den Mord zu  begehen, aber sie hat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ila Faser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ben der Leich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funden, die warscheinlich den Kleidern des Mörders gehö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6510240" y="3645000"/>
            <a:ext cx="2427480" cy="296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4762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2920" y="999720"/>
            <a:ext cx="4000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Die Polizei möchte erstellen in welchem Zimmer der Mord stattgefunden h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99404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2149200" cy="14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204444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072200" y="4286160"/>
            <a:ext cx="1681200" cy="16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357200" y="4714920"/>
            <a:ext cx="22320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03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Die Polizei will wissen, welche Waffe man benutzt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18734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43280" y="14288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e Pi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7000920" y="2000160"/>
            <a:ext cx="1871640" cy="1598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6696000" y="35733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n Küchen-me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42960" y="2571840"/>
            <a:ext cx="1711440" cy="1871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14200" y="4500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elschn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3059280" y="3860640"/>
            <a:ext cx="2160360" cy="1119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2843280" y="508464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 Baseballschl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7286760" y="4786200"/>
            <a:ext cx="914400" cy="1285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7143840" y="6072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Die Polizei möchte wissen, wer ihn ermordert 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Polizei interviewt zur Zeit die Schüler der neunten Klasse, die alle bei  Herrn Hetherington waren, um sein Geburtstag zu fei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929200" y="1714680"/>
            <a:ext cx="2787840" cy="41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785880" y="5273640"/>
            <a:ext cx="114912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714840" y="5143680"/>
            <a:ext cx="128592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agen 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in any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6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ist dein Hobb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hast du heute abend gem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 hast du den Rest des Abends verbr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trgst d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05200" y="1844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che Waf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ibi zwischen 10 und 11 U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ches Zim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Im Kur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1258920" y="33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haltspunk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F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4067280" y="1700280"/>
            <a:ext cx="1152360" cy="100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5292720" y="1700280"/>
            <a:ext cx="1511280" cy="10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6877080" y="170028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7"/>
          <a:stretch/>
        </p:blipFill>
        <p:spPr>
          <a:xfrm>
            <a:off x="4067280" y="278136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8"/>
          <a:stretch/>
        </p:blipFill>
        <p:spPr>
          <a:xfrm>
            <a:off x="5580000" y="2781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9"/>
          <a:stretch/>
        </p:blipFill>
        <p:spPr>
          <a:xfrm>
            <a:off x="6732720" y="2781360"/>
            <a:ext cx="1368360" cy="104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0"/>
          <a:stretch/>
        </p:blipFill>
        <p:spPr>
          <a:xfrm>
            <a:off x="4067280" y="4221000"/>
            <a:ext cx="1368360" cy="80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11"/>
          <a:stretch/>
        </p:blipFill>
        <p:spPr>
          <a:xfrm>
            <a:off x="5580000" y="4221000"/>
            <a:ext cx="93672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12"/>
          <a:stretch/>
        </p:blipFill>
        <p:spPr>
          <a:xfrm>
            <a:off x="6659640" y="4221000"/>
            <a:ext cx="131760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13"/>
          <a:stretch/>
        </p:blipFill>
        <p:spPr>
          <a:xfrm>
            <a:off x="8028000" y="4221000"/>
            <a:ext cx="914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14"/>
          <a:stretch/>
        </p:blipFill>
        <p:spPr>
          <a:xfrm>
            <a:off x="5148360" y="5084640"/>
            <a:ext cx="1368360" cy="7081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0"/>
          <p:cNvSpPr txBox="1"/>
          <p:nvPr/>
        </p:nvSpPr>
        <p:spPr>
          <a:xfrm>
            <a:off x="3635280" y="170028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1" name="WordArt 21"/>
          <p:cNvSpPr txBox="1"/>
          <p:nvPr/>
        </p:nvSpPr>
        <p:spPr>
          <a:xfrm>
            <a:off x="3635280" y="422100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2" name="WordArt 22"/>
          <p:cNvSpPr txBox="1"/>
          <p:nvPr/>
        </p:nvSpPr>
        <p:spPr>
          <a:xfrm>
            <a:off x="3635280" y="609300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15"/>
          <a:stretch/>
        </p:blipFill>
        <p:spPr>
          <a:xfrm>
            <a:off x="4140360" y="5516640"/>
            <a:ext cx="768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05:56Z</dcterms:created>
  <dc:creator>Noémie Neighbour</dc:creator>
  <dc:description/>
  <dc:language>en-US</dc:language>
  <cp:lastModifiedBy>Clare Seccombe</cp:lastModifiedBy>
  <dcterms:modified xsi:type="dcterms:W3CDTF">2010-04-19T14:04:59Z</dcterms:modified>
  <cp:revision>13</cp:revision>
  <dc:subject/>
  <dc:title>Qui a tué Monsieur Hammond?</dc:title>
</cp:coreProperties>
</file>