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2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05DD-5D40-418C-84E5-EB75612585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D7DF-584A-46A1-B48D-9761E97585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856-2750-47C7-B9F2-941ABEFD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E55-7A90-4C29-BBB6-E48FA029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5080-F3A1-4703-94A4-EAB682BC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0DC5-2482-4052-82AF-E65003D1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CAFC-8FCB-4A55-AE36-EE91D5FC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771-AF8F-49BC-90C1-E8A23461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A239-ACAE-4258-B731-74815D96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9AEB-B9D6-48E7-8DE7-BB7B4929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BD4-2154-4641-A523-A7BEB6E7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4294-A46B-4DC6-854A-D95EA740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859-0016-4CB8-83E4-F568DB9E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985-F763-4E4C-8FA6-B06ED281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66B0-33B4-4E79-AB71-08D0B06B9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6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2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 rot="21173400">
            <a:off x="1012320" y="1557000"/>
            <a:ext cx="10001520" cy="11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9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546000"/>
                </a:gradFill>
                <a:latin typeface="Impact"/>
              </a:rPr>
              <a:t>Cluedo – ein geheimnisvoller Mord!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546000"/>
              </a:gradFill>
              <a:latin typeface="Impact"/>
              <a:ea typeface="Impact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4221000"/>
            <a:ext cx="80629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r hat Herr Hetherington ermorde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175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Users\rosemary\AppData\Local\Microsoft\Windows\Temporary Internet Files\Content.IE5\E07MC5OW\MPj04431130000[1].jpg"/>
          <p:cNvPicPr/>
          <p:nvPr/>
        </p:nvPicPr>
        <p:blipFill>
          <a:blip r:embed="rId2"/>
          <a:stretch/>
        </p:blipFill>
        <p:spPr>
          <a:xfrm>
            <a:off x="357120" y="2000160"/>
            <a:ext cx="1428840" cy="2140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35280" y="652464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2010 RH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ea typeface="Arial"/>
                <a:hlinkClick r:id="rId3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err Hetherington ermorder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8000" y="1428480"/>
            <a:ext cx="530712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chrecklich!! Gestern abend hat man um Mitternacht die Polizei gerufen, als man den ermorderten Herrn Hetherington gefunden hat. Die Polizei hat Herr Hetherington im Schwimmbad gefunde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837480" y="4714920"/>
            <a:ext cx="2068560" cy="1555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C:\Users\rosemary\AppData\Local\Microsoft\Windows\Temporary Internet Files\Content.IE5\E07MC5OW\MPj04431130000[1].jpg"/>
          <p:cNvPicPr/>
          <p:nvPr/>
        </p:nvPicPr>
        <p:blipFill>
          <a:blip r:embed="rId2"/>
          <a:stretch/>
        </p:blipFill>
        <p:spPr>
          <a:xfrm>
            <a:off x="357120" y="1357200"/>
            <a:ext cx="1428840" cy="21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48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4006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e Temperatur seines Körpers zeigt,dass er zwischen 10 Uhr et 11 Uhr ermordert wur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571680" y="3643200"/>
            <a:ext cx="4547880" cy="3038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7093080" y="1700280"/>
            <a:ext cx="1874880" cy="280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5724360" y="4581360"/>
            <a:ext cx="1143000" cy="115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4"/>
          <a:stretch/>
        </p:blipFill>
        <p:spPr>
          <a:xfrm>
            <a:off x="7093080" y="479736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5"/>
          <a:stretch/>
        </p:blipFill>
        <p:spPr>
          <a:xfrm>
            <a:off x="4859280" y="404640"/>
            <a:ext cx="20955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11280" y="2852280"/>
            <a:ext cx="55562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e Polizei weißt noch nicht  welche Waffe man benuzt hat,um den Mord zu  begehen, aber sie hat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i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ila Faser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eben der Leich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efunden, die warscheinlich den Kleidern des Mörders gehö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6084720" y="1125360"/>
            <a:ext cx="2657520" cy="1994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6510240" y="3645000"/>
            <a:ext cx="2427480" cy="2966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826920" y="260280"/>
            <a:ext cx="4762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42920" y="999720"/>
            <a:ext cx="40003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. Die Polizei möchte erstellen in welchem Zimmer der Mord stattgefunden ha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6877080" y="260280"/>
            <a:ext cx="1994040" cy="132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1800360" cy="1576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6732720" y="2205000"/>
            <a:ext cx="2149200" cy="1433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4"/>
          <a:stretch/>
        </p:blipFill>
        <p:spPr>
          <a:xfrm>
            <a:off x="4500720" y="3357720"/>
            <a:ext cx="2044440" cy="1546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5"/>
          <a:stretch/>
        </p:blipFill>
        <p:spPr>
          <a:xfrm>
            <a:off x="7072200" y="4286160"/>
            <a:ext cx="1681200" cy="1681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6"/>
          <a:stretch/>
        </p:blipFill>
        <p:spPr>
          <a:xfrm>
            <a:off x="1357200" y="4714920"/>
            <a:ext cx="22320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4032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. Die Polizei will wissen, welche Waffe man benutzt 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4929120" y="285840"/>
            <a:ext cx="1873440" cy="11048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643280" y="14288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ine Pi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7000920" y="2000160"/>
            <a:ext cx="1871640" cy="15987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6696000" y="357336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in Küchen-mes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642960" y="2571840"/>
            <a:ext cx="1711440" cy="1871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214200" y="4500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gelschn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4"/>
          <a:stretch/>
        </p:blipFill>
        <p:spPr>
          <a:xfrm>
            <a:off x="3059280" y="3860640"/>
            <a:ext cx="2160360" cy="1119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1"/>
          <p:cNvSpPr/>
          <p:nvPr/>
        </p:nvSpPr>
        <p:spPr>
          <a:xfrm>
            <a:off x="2843280" y="5084640"/>
            <a:ext cx="41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in Baseballschlä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7286760" y="4786200"/>
            <a:ext cx="914400" cy="1285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3"/>
          <p:cNvSpPr/>
          <p:nvPr/>
        </p:nvSpPr>
        <p:spPr>
          <a:xfrm>
            <a:off x="7143840" y="6072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. Die Polizei möchte wissen, wer ihn ermordert 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5076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e Polizei interviewt zur Zeit die Schüler der neunten Klasse, die alle bei  Herrn Hetherington waren, um sein Geburtstag zu fei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5929200" y="1714680"/>
            <a:ext cx="2787840" cy="417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785880" y="5273640"/>
            <a:ext cx="1149120" cy="158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714840" y="5143680"/>
            <a:ext cx="1285920" cy="12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ragen …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in any or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864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as ist dein Hobb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as hast du heute abend gemac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o hast du den Rest des Abends verbrac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as trgst d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605200" y="184464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che Waff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ibi zwischen 10 und 11 Uh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ches Zimm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Im Kurz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28760" y="285768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1763640" y="278136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96" name="Line 6"/>
          <p:cNvSpPr/>
          <p:nvPr/>
        </p:nvSpPr>
        <p:spPr>
          <a:xfrm>
            <a:off x="1258920" y="3357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3"/>
          <a:stretch/>
        </p:blipFill>
        <p:spPr>
          <a:xfrm>
            <a:off x="395280" y="4508640"/>
            <a:ext cx="1512720" cy="1135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87868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haltspunk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F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4"/>
          <a:stretch/>
        </p:blipFill>
        <p:spPr>
          <a:xfrm>
            <a:off x="4067280" y="1700280"/>
            <a:ext cx="1152360" cy="1009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5"/>
          <a:stretch/>
        </p:blipFill>
        <p:spPr>
          <a:xfrm>
            <a:off x="5292720" y="1700280"/>
            <a:ext cx="1511280" cy="1004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6"/>
          <a:stretch/>
        </p:blipFill>
        <p:spPr>
          <a:xfrm>
            <a:off x="6877080" y="1700280"/>
            <a:ext cx="1511280" cy="100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7"/>
          <a:stretch/>
        </p:blipFill>
        <p:spPr>
          <a:xfrm>
            <a:off x="4067280" y="2781360"/>
            <a:ext cx="1296720" cy="981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"/>
          <p:cNvPicPr/>
          <p:nvPr/>
        </p:nvPicPr>
        <p:blipFill>
          <a:blip r:embed="rId8"/>
          <a:stretch/>
        </p:blipFill>
        <p:spPr>
          <a:xfrm>
            <a:off x="5580000" y="2781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"/>
          <p:cNvPicPr/>
          <p:nvPr/>
        </p:nvPicPr>
        <p:blipFill>
          <a:blip r:embed="rId9"/>
          <a:stretch/>
        </p:blipFill>
        <p:spPr>
          <a:xfrm>
            <a:off x="6732720" y="2781360"/>
            <a:ext cx="1368360" cy="1044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"/>
          <p:cNvPicPr/>
          <p:nvPr/>
        </p:nvPicPr>
        <p:blipFill>
          <a:blip r:embed="rId10"/>
          <a:stretch/>
        </p:blipFill>
        <p:spPr>
          <a:xfrm>
            <a:off x="4067280" y="4221000"/>
            <a:ext cx="1368360" cy="806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"/>
          <p:cNvPicPr/>
          <p:nvPr/>
        </p:nvPicPr>
        <p:blipFill>
          <a:blip r:embed="rId11"/>
          <a:stretch/>
        </p:blipFill>
        <p:spPr>
          <a:xfrm>
            <a:off x="5580000" y="4221000"/>
            <a:ext cx="936720" cy="80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"/>
          <p:cNvPicPr/>
          <p:nvPr/>
        </p:nvPicPr>
        <p:blipFill>
          <a:blip r:embed="rId12"/>
          <a:stretch/>
        </p:blipFill>
        <p:spPr>
          <a:xfrm>
            <a:off x="6659640" y="4221000"/>
            <a:ext cx="1317600" cy="144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"/>
          <p:cNvPicPr/>
          <p:nvPr/>
        </p:nvPicPr>
        <p:blipFill>
          <a:blip r:embed="rId13"/>
          <a:stretch/>
        </p:blipFill>
        <p:spPr>
          <a:xfrm>
            <a:off x="8028000" y="4221000"/>
            <a:ext cx="914400" cy="128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"/>
          <p:cNvPicPr/>
          <p:nvPr/>
        </p:nvPicPr>
        <p:blipFill>
          <a:blip r:embed="rId14"/>
          <a:stretch/>
        </p:blipFill>
        <p:spPr>
          <a:xfrm>
            <a:off x="5148360" y="5084640"/>
            <a:ext cx="1368360" cy="708120"/>
          </a:xfrm>
          <a:prstGeom prst="rect">
            <a:avLst/>
          </a:prstGeom>
          <a:ln w="0">
            <a:noFill/>
          </a:ln>
        </p:spPr>
      </p:pic>
      <p:sp>
        <p:nvSpPr>
          <p:cNvPr id="110" name="WordArt 20"/>
          <p:cNvSpPr txBox="1"/>
          <p:nvPr/>
        </p:nvSpPr>
        <p:spPr>
          <a:xfrm>
            <a:off x="3635280" y="1700280"/>
            <a:ext cx="287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1" name="WordArt 21"/>
          <p:cNvSpPr txBox="1"/>
          <p:nvPr/>
        </p:nvSpPr>
        <p:spPr>
          <a:xfrm>
            <a:off x="3635280" y="4221000"/>
            <a:ext cx="287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2" name="WordArt 22"/>
          <p:cNvSpPr txBox="1"/>
          <p:nvPr/>
        </p:nvSpPr>
        <p:spPr>
          <a:xfrm>
            <a:off x="3635280" y="6093000"/>
            <a:ext cx="287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13" name="Picture 23" descr=""/>
          <p:cNvPicPr/>
          <p:nvPr/>
        </p:nvPicPr>
        <p:blipFill>
          <a:blip r:embed="rId15"/>
          <a:stretch/>
        </p:blipFill>
        <p:spPr>
          <a:xfrm>
            <a:off x="4140360" y="5516640"/>
            <a:ext cx="7682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2:05:56Z</dcterms:created>
  <dc:creator>Noémie Neighbour</dc:creator>
  <dc:description/>
  <dc:language>en-US</dc:language>
  <cp:lastModifiedBy>Clare Seccombe</cp:lastModifiedBy>
  <dcterms:modified xsi:type="dcterms:W3CDTF">2010-04-19T14:04:59Z</dcterms:modified>
  <cp:revision>13</cp:revision>
  <dc:subject/>
  <dc:title>Qui a tué Monsieur Hammond?</dc:title>
</cp:coreProperties>
</file>