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F7C-281F-4631-9622-3D23C048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819-8894-471F-95F5-0CCB9B4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7D2-59C0-4823-BD62-DF8EA48D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1D1-BC54-4863-BD93-E6B188F1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832-40AF-4CD3-9110-C595399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2B7-64EF-4123-9C18-1DB9D4E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988-D04B-492A-BC44-6CDBD9AB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19C-3D53-4967-B80B-97E13027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C3E-788D-49CD-A52B-8CF0AB20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BF9-9628-477D-89CD-5919CA5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E24-5EF5-49E2-8A90-5289C93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26D-50B3-441E-9B23-92DB753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E02D-83E1-4F95-8F5F-BB7466FF6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er wohne i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be able to give more detail about where you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wohnst d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Zu Ha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45788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2819520" cy="16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74320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010280" y="2743200"/>
            <a:ext cx="148428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33520" y="2286000"/>
            <a:ext cx="2514600" cy="166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09880" y="4343400"/>
            <a:ext cx="2667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ier wohne ich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133720" cy="150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1844640" cy="137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2210040" cy="19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2122560" cy="165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352680" y="4419720"/>
            <a:ext cx="1524240" cy="146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162920" y="2666880"/>
            <a:ext cx="1562040" cy="139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28600" y="2500200"/>
            <a:ext cx="144792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867280" y="44956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2133360" cy="150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1844640" cy="137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209680" cy="19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2122200" cy="165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257800" y="4952880"/>
            <a:ext cx="15238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1562040" cy="139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828800" y="1371600"/>
            <a:ext cx="144792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04920" y="28954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762120" cy="80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762120" cy="99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8120" y="4876920"/>
            <a:ext cx="990360" cy="771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124080" y="5715000"/>
            <a:ext cx="99072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124080" y="2209680"/>
            <a:ext cx="838440" cy="74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914400" cy="8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600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woh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523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Kö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22096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a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12408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r Wo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120" y="40384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r St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1520" y="49528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m Do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59562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m Ha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429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m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800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r Kü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04920" y="4038480"/>
            <a:ext cx="1218960" cy="81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457200" y="25909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23623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819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59092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9528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ü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1814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42900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ttg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4876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04812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8195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676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ch wohn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0" y="533520"/>
            <a:ext cx="1523880" cy="138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1600200" cy="14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15000" y="4343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657600" y="4038480"/>
            <a:ext cx="1447920" cy="1389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715000" y="2362320"/>
            <a:ext cx="2122560" cy="16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457200" y="42670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3:23:28Z</dcterms:created>
  <dc:creator>Miss E Abrahams</dc:creator>
  <dc:description/>
  <dc:language>en-US</dc:language>
  <cp:lastModifiedBy>PSeccombe</cp:lastModifiedBy>
  <dcterms:modified xsi:type="dcterms:W3CDTF">2004-05-12T11:36:43Z</dcterms:modified>
  <cp:revision>7</cp:revision>
  <dc:subject/>
  <dc:title>Zu Hause</dc:title>
</cp:coreProperties>
</file>