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13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B09-1F58-4034-B7D1-A21D166E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786-9968-441F-9DCE-47053CF4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BEB-D3E1-4D35-AFDB-7E7249BE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14C-5FA2-496E-9E28-CECD5F79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631-243D-4228-8112-60B00415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A28-CE29-4AED-BB07-96442956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9FC-1874-40C4-AB03-80C8E57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3D8-AD60-4B15-A577-21A6C094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52B-C5A7-43F5-9F9B-C844E8F2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0B3-6723-4965-AF11-8DE4F33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E2B-C402-44E3-9430-8B6CCD9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50E-13DD-4BBC-98AD-AE959C7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6BC9-9782-4EC8-8E25-8442B9202D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9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er wohne ic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oday’s lesson you will be able to give more detail about where you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wohnst d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Zu Ha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45788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2819520" cy="16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274320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010280" y="2743200"/>
            <a:ext cx="148428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33520" y="2286000"/>
            <a:ext cx="2514600" cy="166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809880" y="4343400"/>
            <a:ext cx="2667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ier wohne ich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133720" cy="150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1844640" cy="137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2210040" cy="192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38080" y="4495680"/>
            <a:ext cx="2122560" cy="165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352680" y="4419720"/>
            <a:ext cx="1524240" cy="146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162920" y="2666880"/>
            <a:ext cx="1562040" cy="139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28600" y="2500200"/>
            <a:ext cx="144792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867280" y="4495680"/>
            <a:ext cx="257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2133360" cy="150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1844640" cy="1378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209680" cy="19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76520" y="4724280"/>
            <a:ext cx="2122200" cy="165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257800" y="4952880"/>
            <a:ext cx="15238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1562040" cy="1396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828800" y="1371600"/>
            <a:ext cx="1447920" cy="131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04920" y="2895480"/>
            <a:ext cx="257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762120" cy="80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762120" cy="99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8120" y="4876920"/>
            <a:ext cx="990360" cy="771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124080" y="5715000"/>
            <a:ext cx="990720" cy="950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124080" y="2209680"/>
            <a:ext cx="838440" cy="74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914400" cy="83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600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h woh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523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Kö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2560" y="220968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am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12408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r Wo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120" y="40384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r St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1520" y="49528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m Do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59562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einem Ha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429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m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800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r Kü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304920" y="4038480"/>
            <a:ext cx="1218960" cy="81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457200" y="25909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47920" y="23623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819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59092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49528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ü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1814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42900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ö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7242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ttg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48769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304812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8195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Wo wohnst du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3676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ch wohn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0" y="533520"/>
            <a:ext cx="1523880" cy="138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819520" y="2438280"/>
            <a:ext cx="1600200" cy="14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15000" y="43434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657600" y="4038480"/>
            <a:ext cx="1447920" cy="1389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715000" y="2362320"/>
            <a:ext cx="2122560" cy="165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457200" y="4267080"/>
            <a:ext cx="257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3:23:28Z</dcterms:created>
  <dc:creator>Miss E Abrahams</dc:creator>
  <dc:description/>
  <dc:language>en-US</dc:language>
  <cp:lastModifiedBy>PSeccombe</cp:lastModifiedBy>
  <dcterms:modified xsi:type="dcterms:W3CDTF">2004-05-12T11:36:43Z</dcterms:modified>
  <cp:revision>7</cp:revision>
  <dc:subject/>
  <dc:title>Zu Hause</dc:title>
</cp:coreProperties>
</file>