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63B-4BEF-43E5-843F-C74F2171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5D7-895B-4E85-A913-46D3718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AC9-D637-45D6-A0FC-0AF80CAD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5B1-E610-4D31-8DAB-83D75AC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16E-BADF-490E-9581-6395D579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462-EAC3-4682-A5EB-B034FFC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D6C-5BEF-45AC-8ECF-149EFAA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401-98F8-452E-9F6A-20AE17D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609-0899-4512-B8AB-E77331E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BBC-93F0-47F9-833E-17F1001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9B9-1021-4A3C-957F-DD93140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93C-5232-4792-B7CB-8410D25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CB43-BEEC-427D-9C2F-6CBCD4A96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.uk/imgres?imgurl=http://www.datakeypprep.com/images/clipart.jpg&amp;imgrefurl=http://www.datakeypprep.com/analyst.html&amp;h=127&amp;w=127&amp;sz=7&amp;hl=en&amp;start=17&amp;um=1&amp;tbnid=3MXLC10VcEY5nM:&amp;tbnh=90&amp;tbnw=90&amp;prev=/images%3Fq%3Dit%2Bconsultant%2Bclipart%26svnum%3D10%26um%3D1%26hl%3Den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14" Type="http://schemas.openxmlformats.org/officeDocument/2006/relationships/image" Target="../media/image24.jpeg"/><Relationship Id="rId15" Type="http://schemas.openxmlformats.org/officeDocument/2006/relationships/image" Target="../media/image10.png"/><Relationship Id="rId16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Beruf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learn masculine and feminine words for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76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581600">
            <a:off x="4355280" y="6165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7764800">
            <a:off x="1114920" y="24217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74200">
            <a:off x="6876720" y="5157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555200">
            <a:off x="250920" y="3573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469600">
            <a:off x="3132000" y="12679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9957600">
            <a:off x="7524720" y="2492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33400">
            <a:off x="4932360" y="549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394800">
            <a:off x="7524000" y="83700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92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</a:t>
            </a: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pfl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et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enieu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805360"/>
            <a:ext cx="194472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beits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ein/ein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in Vater ist Kauf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Meine Mutter is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rz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04640"/>
            <a:ext cx="201636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333360"/>
            <a:ext cx="165564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</a:t>
            </a: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pfl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et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enieu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142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5805360"/>
            <a:ext cx="194472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beits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7632720" cy="639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60280"/>
            <a:ext cx="4622760" cy="518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205000"/>
            <a:ext cx="3836880" cy="465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136000">
            <a:off x="1908000" y="691920"/>
            <a:ext cx="5348520" cy="539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64200">
            <a:off x="4284360" y="260280"/>
            <a:ext cx="4457520" cy="597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58920" y="1268280"/>
            <a:ext cx="2468520" cy="25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19280" y="549360"/>
            <a:ext cx="5834160" cy="583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611280" y="3141720"/>
            <a:ext cx="7777080" cy="993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1882200">
            <a:off x="2777760" y="620640"/>
            <a:ext cx="3822840" cy="4032360"/>
          </a:xfrm>
          <a:prstGeom prst="rect">
            <a:avLst/>
          </a:prstGeom>
          <a:ln w="0">
            <a:noFill/>
          </a:ln>
        </p:spPr>
      </p:pic>
      <p:sp>
        <p:nvSpPr>
          <p:cNvPr id="162" name="PubCross"/>
          <p:cNvSpPr/>
          <p:nvPr/>
        </p:nvSpPr>
        <p:spPr>
          <a:xfrm rot="2623800">
            <a:off x="1835280" y="404640"/>
            <a:ext cx="5767200" cy="5642280"/>
          </a:xfrm>
          <a:custGeom>
            <a:avLst/>
            <a:gdLst>
              <a:gd name="textAreaLeft" fmla="*/ 2017800 w 5767200"/>
              <a:gd name="textAreaRight" fmla="*/ 3749400 w 5767200"/>
              <a:gd name="textAreaTop" fmla="*/ 2028960 h 5642280"/>
              <a:gd name="textAreaBottom" fmla="*/ 3613320 h 564228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43:21Z</dcterms:created>
  <dc:creator>Lynne</dc:creator>
  <dc:description/>
  <dc:language>en-US</dc:language>
  <cp:lastModifiedBy>Clare Seccombe</cp:lastModifiedBy>
  <dcterms:modified xsi:type="dcterms:W3CDTF">2014-04-25T12:31:09Z</dcterms:modified>
  <cp:revision>7</cp:revision>
  <dc:subject/>
  <dc:title>Les métiers</dc:title>
</cp:coreProperties>
</file>