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49D-AD58-41BC-ACC5-657E8C8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A07-BF79-4636-A8B4-D096689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459-54DE-4D98-95C7-0139E3EA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704-977A-4FE6-A364-31AF450F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B57-5A24-4E3C-8BE2-3307761D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4F3-4695-403F-AB55-BF9B595C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23B-B267-4A82-88A6-A9C82A4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EFD-D241-48EA-9E30-7EF75AD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024-20A1-4C6C-B887-1E0D9FC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35F-0498-401F-BD7F-56E08CE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C04-3F21-4317-84DA-760E012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C88-A8F7-4FAA-A5A4-49A0E00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565-68CB-4FFC-9289-77332FBB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google.co.uk/imgres?imgurl=http://www.datakeypprep.com/images/clipart.jpg&amp;imgrefurl=http://www.datakeypprep.com/analyst.html&amp;h=127&amp;w=127&amp;sz=7&amp;hl=en&amp;start=17&amp;um=1&amp;tbnid=3MXLC10VcEY5nM:&amp;tbnh=90&amp;tbnw=90&amp;prev=/images%3Fq%3Dit%2Bconsultant%2Bclipart%26svnum%3D10%26um%3D1%26hl%3Den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clipartheaven.com/clipart/health_%26_medical/cartoons/nurse_04.gif&amp;imgrefurl=http://www.ac-nancy-metz.fr/enseign/anglais/Henry/sante.htm&amp;h=536&amp;w=490&amp;sz=16&amp;hl=en&amp;start=8&amp;um=1&amp;tbnid=-0qOicswrKARUM:&amp;tbnh=132&amp;tbnw=121&amp;prev=/images%3Fq%3Dnurse%2Bclipart%26svnum%3D10%26um%3D1%26hl%3Den%26rls%3Dcom.microsoft:en-US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imajlar.com/free_clipart/business_clipart/business_clipart_waiter.gif&amp;imgrefurl=http://www.free-clipart-pictures.net/business_clipart.html&amp;h=200&amp;w=123&amp;sz=5&amp;hl=en&amp;start=3&amp;um=1&amp;tbnid=_CMelXNjCwCZ1M:&amp;tbnh=104&amp;tbnw=64&amp;prev=/images%3Fq%3Dwaiter%2Bclipart%26svnum%3D10%26um%3D1%26hl%3Den%26rls%3Dcom.microsoft:en-US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s.google.com/imgres?imgurl=http://www.fotosearch.com/comp/IMZ/IMZ124/pgi0023.jpg&amp;imgrefurl=http://www.fotosearch.com/IMZ124/pgi0023/&amp;h=264&amp;w=300&amp;sz=31&amp;hl=en&amp;start=18&amp;um=1&amp;tbnid=l4gf48xRY0skcM:&amp;tbnh=102&amp;tbnw=116&amp;prev=/images%3Fq%3Dphysiotherapist%2Bclipart%26svnum%3D10%26um%3D1%26hl%3Den%26rls%3Dcom.microsoft:en-US" TargetMode="Externa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majlar.com/free_clipart/business_clipart/business_clipart_engineer.gif&amp;imgrefurl=http://www.free-clipart-pictures.net/business_clipart.html&amp;h=200&amp;w=150&amp;sz=7&amp;hl=en&amp;start=1&amp;um=1&amp;tbnid=KmXfVCfcunlrlM:&amp;tbnh=104&amp;tbnw=78&amp;prev=/images%3Fq%3Dclipart%2Bengineer%26svnum%3D10%26um%3D1%26hl%3De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mages.google.com/imgres?imgurl=http://ngfl.northumberland.gov.uk/clipart/People/images/builder_jpg.jpg&amp;imgrefurl=http://ngfl.northumberland.gov.uk/clipart/People/pages/builder_jpg.htm&amp;h=375&amp;w=319&amp;sz=19&amp;hl=en&amp;start=1&amp;um=1&amp;tbnid=srJQTrTqJWRwcM:&amp;tbnh=122&amp;tbnw=104&amp;prev=/images%3Fq%3Dbuilder%2Bclipart%26svnum%3D10%26um%3D1%26hl%3Den%26rls%3Dcom.microsoft:en-US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fotosearch.fr/comp/ARP/ARP112/Farmer.jpg&amp;imgrefurl=http://www.fotosearch.fr/ARP112/farmer/&amp;h=264&amp;w=300&amp;sz=20&amp;hl=en&amp;start=15&amp;um=1&amp;tbnid=q_z8NOmByhF3WM:&amp;tbnh=102&amp;tbnw=116&amp;prev=/images%3Fq%3Dfarmer%2Bclipart%26svnum%3D10%26um%3D1%26hl%3Den%26rls%3Dcom.microsoft:en-US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asaexplores.com/lessons/04-069/images/pilot_and_plane.gif&amp;imgrefurl=http://www.nasaexplores.com/show_912_teacher_st.php%3Fid%3D041027130527&amp;h=192&amp;w=192&amp;sz=3&amp;hl=en&amp;start=2&amp;um=1&amp;tbnid=GbRrnsM3k6YhuM:&amp;tbnh=103&amp;tbnw=103&amp;prev=/images%3Fq%3Dpilot%2Bclipart%26svnum%3D10%26um%3D1%26hl%3Den%26rls%3Dcom.microsoft:en-US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northerngrid.org/ngflwebsite/cjearlyyears/EarlyYears/images/ttimages/shops/thumbnails/till_jpg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m/imgres?imgurl=http://www.bhrsd.org/mmrhs/internship/mechanic.jpg&amp;imgrefurl=http://www.bhrsd.org/mmrhs/internship/intern.html&amp;h=408&amp;w=720&amp;sz=141&amp;hl=en&amp;start=7&amp;um=1&amp;tbnid=hZwdA1VSJh_o0M:&amp;tbnh=79&amp;tbnw=140&amp;prev=/images%3Fq%3Dmechanic%26svnum%3D10%26um%3D1%26hl%3Den%26rls%3Dcom.microsoft:en-US%26sa%3D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.uk/imgres?imgurl=http://www.fitec-it.co.uk/Artwork_images/Clipart/Businessman_1_flipped.gif&amp;imgrefurl=http://www.fitec-it.co.uk/Consultancy.html&amp;h=300&amp;w=150&amp;sz=11&amp;hl=en&amp;start=7&amp;um=1&amp;tbnid=ybSWja1MsslDvM:&amp;tbnh=116&amp;tbnw=58&amp;prev=/images%3Fq%3Dbusiness%2Bman%2Bclipart%26svnum%3D10%26um%3D1%26hl%3Den" TargetMode="External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ever.com/freeclipart/clipart/police3.gif&amp;imgrefurl=http://www.freefever.com/freeclipart/police.html&amp;h=209&amp;w=250&amp;sz=8&amp;hl=en&amp;start=5&amp;um=1&amp;tbnid=cMxViPvLBu_bYM:&amp;tbnh=93&amp;tbnw=111&amp;prev=/images%3Fq%3Dpoliceman%2Bclipart%26svnum%3D10%26um%3D1%26hl%3Den%26rls%3Dcom.microsoft:en-US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lipartreview.com/_gallery/_TN/2904824.gif&amp;imgrefurl=http://www.clipartreview.com/_gallery/_search_term_pages/blackboard.html&amp;h=135&amp;w=120&amp;sz=3&amp;hl=en&amp;start=24&amp;um=1&amp;tbnid=mxkgiZVlcpBfZM:&amp;tbnh=92&amp;tbnw=82&amp;prev=/images%3Fq%3Dteacher%2Bclipart%26start%3D20%26ndsp%3D20%26svnum%3D10%26um%3D1%26hl%3Den%26rls%3Dcom.microsoft:en-US%26sa%3D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patrickweb.com/images/clipart.com/secretary.jpg&amp;imgrefurl=http://patrickweb.com/weblog/categories/ibm/&amp;h=128&amp;w=106&amp;sz=10&amp;hl=en&amp;start=1&amp;um=1&amp;tbnid=7WEKTeaJ7RbvsM:&amp;tbnh=91&amp;tbnw=75&amp;prev=/images%3Fq%3Dsecretary%2Bclipart%26svnum%3D10%26um%3D1%26hl%3Den%26rls%3Dcom.microsoft:en-U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abkldesigns.com/clipart1/peop11s.gif&amp;imgrefurl=http://abkldesigns.com/clipart1/friends1.html&amp;h=247&amp;w=244&amp;sz=14&amp;hl=en&amp;start=5&amp;um=1&amp;tbnid=ew-SpuBhCcwDBM:&amp;tbnh=110&amp;tbnw=109&amp;prev=/images%3Fq%3Ddentist%2Bclipart%26svnum%3D10%26um%3D1%26hl%3Den%26rls%3Dcom.microsoft:en-US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.uk/imgres?imgurl=http://ngfl.northumberland.gov.uk/clipart/People/images/chef_jpg.jpg&amp;imgrefurl=http://ngfl.northumberland.gov.uk/clipart/People/pages/chef_jpg.htm&amp;h=325&amp;w=241&amp;sz=13&amp;hl=en&amp;start=1&amp;um=1&amp;tbnid=dJ4E3Ct26b2xiM:&amp;tbnh=118&amp;tbnw=88&amp;prev=/images%3Fq%3Dclipart%2Bchef%26svnum%3D10%26um%3D1%26hl%3Den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ftpclipart.com/clipart/soldier_shlp1.gif&amp;imgrefurl=http://www.vector-clipart.ru/warriors.php&amp;h=150&amp;w=147&amp;sz=5&amp;hl=en&amp;start=11&amp;um=1&amp;tbnid=GwMvlpPWcnbWNM:&amp;tbnh=96&amp;tbnw=94&amp;prev=/images%3Fq%3Dsoldier%2Bclipart%26svnum%3D10%26um%3D1%26hl%3Den%26rls%3Dcom.microsoft:en-US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google.com/imgres?imgurl=http://www.eslkidstuff.com/images/busdriver.gif&amp;imgrefurl=http://www.kinderhelper.com/Jobs2.htm&amp;h=451&amp;w=434&amp;sz=15&amp;hl=en&amp;start=1&amp;um=1&amp;tbnid=mXxPQOaD9cPGfM:&amp;tbnh=127&amp;tbnw=122&amp;prev=/images%3Fq%3Dbus%2Bdriver%2Bclipart%26svnum%3D10%26um%3D1%26hl%3Den%26rls%3Dcom.microsoft:en-US" TargetMode="External"/><Relationship Id="rId14" Type="http://schemas.openxmlformats.org/officeDocument/2006/relationships/image" Target="../media/image24.jpeg"/><Relationship Id="rId15" Type="http://schemas.openxmlformats.org/officeDocument/2006/relationships/image" Target="../media/image10.png"/><Relationship Id="rId16" Type="http://schemas.openxmlformats.org/officeDocument/2006/relationships/hyperlink" Target="http://images.google.com/imgres?imgurl=http://www.clipartguide.com/_small/0060-0505-2517-3137.jpg&amp;imgrefurl=http://www.clipartguide.com/_pages/0060-0505-2517-3137.html&amp;h=300&amp;w=285&amp;sz=37&amp;hl=en&amp;start=2&amp;um=1&amp;tbnid=JdJ6om21CQc4wM:&amp;tbnh=116&amp;tbnw=110&amp;prev=/images%3Fq%3Daccountant%2Bclipart%26svnum%3D10%26um%3D1%26hl%3Den%26rls%3Dcom.microsoft:en-US" TargetMode="External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Beruf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learn masculine and feminine words for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76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581600">
            <a:off x="4355280" y="6165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7764800">
            <a:off x="1114920" y="24217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174200">
            <a:off x="6876720" y="5157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555200">
            <a:off x="250920" y="357300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469600">
            <a:off x="3132000" y="1267920"/>
            <a:ext cx="1152720" cy="100836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9957600">
            <a:off x="7524720" y="249228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33400">
            <a:off x="4932360" y="549360"/>
            <a:ext cx="115236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8394800">
            <a:off x="7524000" y="837000"/>
            <a:ext cx="1152720" cy="1008000"/>
          </a:xfrm>
          <a:prstGeom prst="rect">
            <a:avLst/>
          </a:prstGeom>
          <a:solidFill>
            <a:srgbClr val="12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92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LRichardson 2014 http://www.lightbulblanguages.co.u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</a:t>
            </a: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pfl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et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enieu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805360"/>
            <a:ext cx="194472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beits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8000"/>
                </a:solidFill>
                <a:latin typeface="Comic Sans MS"/>
              </a:rPr>
              <a:t>ein/eine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in Vater ist Kaufm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Meine Mutter is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rz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04640"/>
            <a:ext cx="201636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333360"/>
            <a:ext cx="1655640" cy="10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airdresser clipart"/>
          <p:cNvPicPr/>
          <p:nvPr/>
        </p:nvPicPr>
        <p:blipFill>
          <a:blip r:embed="rId1"/>
          <a:stretch/>
        </p:blipFill>
        <p:spPr>
          <a:xfrm>
            <a:off x="324000" y="549360"/>
            <a:ext cx="16398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7628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3933720"/>
            <a:ext cx="151776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usiness clipart doctor"/>
          <p:cNvPicPr/>
          <p:nvPr/>
        </p:nvPicPr>
        <p:blipFill>
          <a:blip r:embed="rId6"/>
          <a:stretch/>
        </p:blipFill>
        <p:spPr>
          <a:xfrm>
            <a:off x="611280" y="3716280"/>
            <a:ext cx="100008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4005360"/>
            <a:ext cx="171108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14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59280" y="404640"/>
            <a:ext cx="10191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005360"/>
            <a:ext cx="18716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2349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276640"/>
            <a:ext cx="187200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o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elln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</a:t>
            </a: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Le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73408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7"/>
                </a:solidFill>
                <a:latin typeface="Comic Sans MS"/>
              </a:rPr>
              <a:t>Krankenpfl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96000" y="5805360"/>
            <a:ext cx="2448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hysiotherape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ar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Zahn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z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357720"/>
            <a:ext cx="13507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087640" cy="1486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645000"/>
            <a:ext cx="147312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573360"/>
            <a:ext cx="180036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11280" y="404640"/>
            <a:ext cx="14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427640" y="549360"/>
            <a:ext cx="2087640" cy="16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620640"/>
            <a:ext cx="133992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47628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276640"/>
            <a:ext cx="187164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tä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ekret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76640"/>
            <a:ext cx="2303280" cy="86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Feuerwehr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oliz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51664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Handwer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445000"/>
            <a:ext cx="187200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537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en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genieu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1582560" cy="15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3360"/>
            <a:ext cx="15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33360"/>
            <a:ext cx="1521000" cy="158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4005360"/>
            <a:ext cx="187164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72360" y="476280"/>
            <a:ext cx="2232000" cy="1258920"/>
          </a:xfrm>
          <a:prstGeom prst="rect">
            <a:avLst/>
          </a:prstGeom>
          <a:ln w="0">
            <a:noFill/>
          </a:ln>
        </p:spPr>
      </p:pic>
      <p:sp>
        <p:nvSpPr>
          <p:cNvPr id="142" name="PubCross"/>
          <p:cNvSpPr/>
          <p:nvPr/>
        </p:nvSpPr>
        <p:spPr>
          <a:xfrm rot="2623800">
            <a:off x="7314840" y="3789360"/>
            <a:ext cx="1828800" cy="1828800"/>
          </a:xfrm>
          <a:custGeom>
            <a:avLst/>
            <a:gdLst>
              <a:gd name="textAreaLeft" fmla="*/ 639720 w 1828800"/>
              <a:gd name="textAreaRight" fmla="*/ 1189080 w 1828800"/>
              <a:gd name="textAreaTop" fmla="*/ 657720 h 1828800"/>
              <a:gd name="textAreaBottom" fmla="*/ 1171080 h 182880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0500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Pilo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Busfahr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13372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Sold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2060640"/>
            <a:ext cx="2087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Mechan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Verk</a:t>
            </a:r>
            <a:r>
              <a:rPr b="0" lang="en-US" sz="2400" spc="-1" strike="noStrike">
                <a:solidFill>
                  <a:srgbClr val="fffff7"/>
                </a:solidFill>
                <a:latin typeface="Comic Sans MS"/>
              </a:rPr>
              <a:t>äu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5805360"/>
            <a:ext cx="194472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Kauf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5805360"/>
            <a:ext cx="2303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Informati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43280" y="364500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5148360" y="393372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272360" y="5805360"/>
            <a:ext cx="1871640" cy="863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7"/>
                </a:solidFill>
                <a:latin typeface="Comic Sans MS"/>
              </a:rPr>
              <a:t>Arbeits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d9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0"/>
            <a:ext cx="7632720" cy="639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260280"/>
            <a:ext cx="4622760" cy="518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205000"/>
            <a:ext cx="3836880" cy="465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136000">
            <a:off x="1908000" y="691920"/>
            <a:ext cx="5348520" cy="539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64200">
            <a:off x="4284360" y="260280"/>
            <a:ext cx="4457520" cy="597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58920" y="1268280"/>
            <a:ext cx="2468520" cy="25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19280" y="549360"/>
            <a:ext cx="5834160" cy="583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611280" y="3141720"/>
            <a:ext cx="7777080" cy="993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1882200">
            <a:off x="2777760" y="620640"/>
            <a:ext cx="3822840" cy="4032360"/>
          </a:xfrm>
          <a:prstGeom prst="rect">
            <a:avLst/>
          </a:prstGeom>
          <a:ln w="0">
            <a:noFill/>
          </a:ln>
        </p:spPr>
      </p:pic>
      <p:sp>
        <p:nvSpPr>
          <p:cNvPr id="162" name="PubCross"/>
          <p:cNvSpPr/>
          <p:nvPr/>
        </p:nvSpPr>
        <p:spPr>
          <a:xfrm rot="2623800">
            <a:off x="1835280" y="404640"/>
            <a:ext cx="5767200" cy="5642280"/>
          </a:xfrm>
          <a:custGeom>
            <a:avLst/>
            <a:gdLst>
              <a:gd name="textAreaLeft" fmla="*/ 2017800 w 5767200"/>
              <a:gd name="textAreaRight" fmla="*/ 3749400 w 5767200"/>
              <a:gd name="textAreaTop" fmla="*/ 2028960 h 5642280"/>
              <a:gd name="textAreaBottom" fmla="*/ 3613320 h 5642280"/>
            </a:gdLst>
            <a:ahLst/>
            <a:rect l="textAreaLeft" t="textAreaTop" r="textAreaRight" b="textAreaBottom"/>
            <a:pathLst>
              <a:path w="21600" h="21600">
                <a:moveTo>
                  <a:pt x="7558" y="0"/>
                </a:moveTo>
              </a:path>
              <a:path w="21600" h="21600">
                <a:moveTo>
                  <a:pt x="7558" y="7767"/>
                </a:moveTo>
                <a:lnTo>
                  <a:pt x="0" y="7767"/>
                </a:lnTo>
                <a:lnTo>
                  <a:pt x="0" y="13833"/>
                </a:lnTo>
              </a:path>
              <a:path w="21600" h="21600">
                <a:moveTo>
                  <a:pt x="7558" y="13833"/>
                </a:moveTo>
                <a:lnTo>
                  <a:pt x="7558" y="21600"/>
                </a:lnTo>
                <a:lnTo>
                  <a:pt x="14042" y="21600"/>
                </a:lnTo>
              </a:path>
              <a:path w="21600" h="21600">
                <a:moveTo>
                  <a:pt x="14042" y="13833"/>
                </a:moveTo>
                <a:lnTo>
                  <a:pt x="21600" y="13833"/>
                </a:lnTo>
                <a:lnTo>
                  <a:pt x="21600" y="7767"/>
                </a:lnTo>
                <a:lnTo>
                  <a:pt x="14042" y="7767"/>
                </a:lnTo>
                <a:lnTo>
                  <a:pt x="14042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43:21Z</dcterms:created>
  <dc:creator>Lynne</dc:creator>
  <dc:description/>
  <dc:language>en-US</dc:language>
  <cp:lastModifiedBy>Clare Seccombe</cp:lastModifiedBy>
  <dcterms:modified xsi:type="dcterms:W3CDTF">2014-04-25T12:31:09Z</dcterms:modified>
  <cp:revision>7</cp:revision>
  <dc:subject/>
  <dc:title>Les métiers</dc:title>
</cp:coreProperties>
</file>