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B55-1A9D-4433-BB48-FD1EAF59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98F-EF5A-45B1-9385-2CAAF74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026-8ED6-4C10-B0A0-C369ABEF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FE0-66C8-4DF2-ABBC-FB303AB8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04E-C9FA-44CC-81D0-1F8AC12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E59-5D79-4628-94AF-A553AEC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5B4-BC0B-432B-A439-EC35AB0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938-4E6E-4040-BB69-AE92795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C9B-3659-4511-8A3B-65BD7896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4AC-A2D5-46FD-88E2-735AA9F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7F7-4BB6-44A9-ADE8-0169909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8AF-C7C2-4B1F-9A2E-8F3FB7E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255-CBD3-481E-BE37-064403E77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rt.uk.com/includes/image.asp?img=2356_20070213030306_e&amp;ext=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hrt.uk.com/includes/image.asp?img=2356_20070213030306_e&amp;ext=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Kannst du diese deutsche S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ädte alphabetisch ordn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6643800"/>
            <a:ext cx="71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/LRichardson 2014 http://www.lightbulblanguages.co.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584360" cy="11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655640" cy="100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511280" cy="1103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72000" y="1611360"/>
            <a:ext cx="1512720" cy="1104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3033600">
            <a:off x="4363560" y="2052360"/>
            <a:ext cx="458640" cy="474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333360"/>
            <a:ext cx="62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Ich wohne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628640"/>
            <a:ext cx="216036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429000"/>
            <a:ext cx="216036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d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551664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177336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m Stad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500280"/>
            <a:ext cx="216072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 der 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373720"/>
            <a:ext cx="216072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 den Be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561080" cy="5519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3033600">
            <a:off x="-119160" y="2363400"/>
            <a:ext cx="2232000" cy="1187640"/>
          </a:xfrm>
          <a:prstGeom prst="rightArrow">
            <a:avLst>
              <a:gd name="adj1" fmla="val 50000"/>
              <a:gd name="adj2" fmla="val 469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12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765000"/>
            <a:ext cx="734364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Wo wohnst du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become more familiar with some towns in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 To be able to talk about where you live and what type of house you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1716120" cy="187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Self catering (rental) modern bungalow in scenic location near Ballinrobe in County Mayo, west of Ireland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ch wohne 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223640" cy="938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9280" y="1241280"/>
            <a:ext cx="66466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Einfamilie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Doppel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Reihe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Bauern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m Bunga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iner Wo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05000"/>
            <a:ext cx="1152360" cy="8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1223640" cy="91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4221000"/>
            <a:ext cx="122400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8360" y="6048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Self catering (rental) modern bungalow in scenic location near Ballinrobe in County Mayo, west of Ireland"/>
          <p:cNvPicPr/>
          <p:nvPr/>
        </p:nvPicPr>
        <p:blipFill>
          <a:blip r:embed="rId7"/>
          <a:stretch/>
        </p:blipFill>
        <p:spPr>
          <a:xfrm>
            <a:off x="395280" y="5157720"/>
            <a:ext cx="12970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34364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Self catering (rental) modern bungalow in scenic location near Ballinrobe in County Mayo, west of Ireland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50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5092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Wie hei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Comic Sans MS"/>
              </a:rPr>
              <a:t>β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n die Deutschen St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ädte 1-10?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874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54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99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eide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1171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19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997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4560" y="39798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ür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4941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o wohn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158436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1655640" cy="12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56000" y="105264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ppel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 D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56000" y="256536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ihen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m Stad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93372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auernha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uf dem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373720"/>
            <a:ext cx="446400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ch wohne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ohnu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r 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484360" y="5516640"/>
            <a:ext cx="172872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971640" y="4076640"/>
            <a:ext cx="1728720" cy="121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484360" y="4076640"/>
            <a:ext cx="1656000" cy="1166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900000" y="5408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627280" y="2565360"/>
            <a:ext cx="1584360" cy="1157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3033600">
            <a:off x="2409120" y="3024000"/>
            <a:ext cx="478080" cy="461880"/>
          </a:xfrm>
          <a:prstGeom prst="rightArrow">
            <a:avLst>
              <a:gd name="adj1" fmla="val 50000"/>
              <a:gd name="adj2" fmla="val 258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as hast du Heute geler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na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different areas to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erman t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ds ending in ‘-haus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ds beginning with ‘B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      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erman town beginning with ‘M’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17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8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9" dur="500" autoRev="1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8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9" dur="500" autoRev="1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8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9" dur="500" autoRev="1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7561080" cy="551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3033600">
            <a:off x="-119160" y="2363400"/>
            <a:ext cx="2232000" cy="1187640"/>
          </a:xfrm>
          <a:prstGeom prst="rightArrow">
            <a:avLst>
              <a:gd name="adj1" fmla="val 50000"/>
              <a:gd name="adj2" fmla="val 469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12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01:58Z</dcterms:created>
  <dc:creator>Lynne</dc:creator>
  <dc:description/>
  <dc:language>en-US</dc:language>
  <cp:lastModifiedBy>Clare Seccombe</cp:lastModifiedBy>
  <dcterms:modified xsi:type="dcterms:W3CDTF">2014-04-25T12:36:48Z</dcterms:modified>
  <cp:revision>9</cp:revision>
  <dc:subject/>
  <dc:title>Wo wohnst du?</dc:title>
</cp:coreProperties>
</file>