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6A2-5B9F-44DC-A5FB-19598EBE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09C-6E82-4CCA-B048-CF40BCFB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8A4-FE79-4D1A-8CE5-438AF9A6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991-7C02-4F9A-8909-6480671D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2A9-D809-43FF-B113-909718A8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1D0-7891-4BA0-B0F1-28B702CC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1CD-4B42-4955-A30E-792D69BF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789-74E4-4206-8C74-5C350025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2D8-F1DB-49B4-9996-BFC4C326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496-4350-463F-862F-EB63789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DC0-9347-4595-81C6-20918137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D0F-A7F9-49A1-B8E6-2CB35BA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FCDD-4379-4DC3-B9AB-F92F1D867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words and 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the end of this lesson you will have revised questi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the end of this lesson you will be able to use question words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412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0120" y="53341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– 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do you say: “</a:t>
            </a:r>
            <a:r>
              <a:rPr b="0" lang="en-GB" sz="3200" spc="-1" strike="noStrike">
                <a:solidFill>
                  <a:srgbClr val="9900ff"/>
                </a:solidFill>
                <a:latin typeface="Times New Roman"/>
              </a:rPr>
              <a:t>you</a:t>
            </a:r>
            <a:r>
              <a:rPr b="0" lang="en-GB" sz="3200" spc="-1" strike="noStrike">
                <a:solidFill>
                  <a:srgbClr val="33cc33"/>
                </a:solidFill>
                <a:latin typeface="Times New Roman"/>
              </a:rPr>
              <a:t> play </a:t>
            </a:r>
            <a:r>
              <a:rPr b="0" lang="en-GB" sz="3200" spc="-1" strike="noStrike">
                <a:solidFill>
                  <a:srgbClr val="00cc99"/>
                </a:solidFill>
                <a:latin typeface="Times New Roman"/>
              </a:rPr>
              <a:t>tenn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ff"/>
                </a:solidFill>
                <a:latin typeface="Times New Roman"/>
              </a:rPr>
              <a:t>Du</a:t>
            </a:r>
            <a:r>
              <a:rPr b="0" lang="en-GB" sz="3200" spc="-1" strike="noStrike">
                <a:solidFill>
                  <a:srgbClr val="33cc33"/>
                </a:solidFill>
                <a:latin typeface="Times New Roman"/>
              </a:rPr>
              <a:t> spiel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cc99"/>
                </a:solidFill>
                <a:latin typeface="Times New Roman"/>
              </a:rPr>
              <a:t>Tenn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do you say: “</a:t>
            </a:r>
            <a:r>
              <a:rPr b="0" lang="en-GB" sz="3200" spc="-1" strike="noStrike">
                <a:solidFill>
                  <a:srgbClr val="ff5050"/>
                </a:solidFill>
                <a:latin typeface="Times New Roman"/>
              </a:rPr>
              <a:t>W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669900"/>
                </a:solidFill>
                <a:latin typeface="Times New Roman"/>
              </a:rPr>
              <a:t>do you pla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enn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5050"/>
                </a:solidFill>
                <a:latin typeface="Times New Roman"/>
              </a:rPr>
              <a:t>Wan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cc33"/>
                </a:solidFill>
                <a:latin typeface="Times New Roman"/>
              </a:rPr>
              <a:t>spiel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9900ff"/>
                </a:solidFill>
                <a:latin typeface="Times New Roman"/>
              </a:rPr>
              <a:t>d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enn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669900"/>
                </a:solidFill>
                <a:latin typeface="Times New Roman"/>
              </a:rPr>
              <a:t>subj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9900ff"/>
                </a:solidFill>
                <a:latin typeface="Times New Roman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669900"/>
                </a:solidFill>
                <a:latin typeface="Times New Roman"/>
              </a:rPr>
              <a:t>d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3200" spc="-1" strike="noStrike">
                <a:solidFill>
                  <a:srgbClr val="9900ff"/>
                </a:solidFill>
                <a:latin typeface="Times New Roman"/>
              </a:rPr>
              <a:t>spiel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ff5050"/>
                </a:solidFill>
                <a:latin typeface="Times New Roman"/>
              </a:rPr>
              <a:t>change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75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75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75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75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75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mory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r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oh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s fü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t w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Für wie l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m wie viel Uh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ere…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… 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at sort of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wh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For how l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what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 words and 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, Where, What, Why, When, How, How long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very important for you to understand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question wor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ff5050"/>
                </a:solidFill>
                <a:latin typeface="Times New Roman"/>
              </a:rPr>
              <a:t>where, when etc..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 that you fully understand the question and answer it corr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GCSE, students are often asked a question, answer it in good German but have answered the wrong 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 “</a:t>
            </a:r>
            <a:r>
              <a:rPr b="0" lang="en-GB" sz="3200" spc="-1" strike="noStrike">
                <a:solidFill>
                  <a:srgbClr val="33cc33"/>
                </a:solidFill>
                <a:latin typeface="Times New Roman"/>
              </a:rPr>
              <a:t>When are your holiday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” “</a:t>
            </a: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n Gree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o the questions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W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t da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ff9900"/>
                </a:solidFill>
                <a:latin typeface="Times New Roman"/>
              </a:rPr>
              <a:t>What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s tha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cc33"/>
                </a:solidFill>
                <a:latin typeface="Times New Roman"/>
              </a:rPr>
              <a:t>Wer</a:t>
            </a:r>
            <a:r>
              <a:rPr b="0" lang="en-GB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t  da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s ist mein Bruder, Andr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cc33"/>
                </a:solidFill>
                <a:latin typeface="Times New Roman"/>
              </a:rPr>
              <a:t>Who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is tha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Times New Roman"/>
              </a:rPr>
              <a:t>W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ohnt Andrew? Er wohnt in Wo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0" i="1" lang="en-GB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oes A live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Wan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st du Geburtsta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ff5050"/>
                </a:solidFill>
                <a:latin typeface="Times New Roman"/>
              </a:rPr>
              <a:t>When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is your B’da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Wi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eht’s? G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How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are you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Times New Roman"/>
              </a:rPr>
              <a:t>Wohi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ehst du? Ins Caf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669900"/>
                </a:solidFill>
                <a:latin typeface="Times New Roman"/>
              </a:rPr>
              <a:t>Wher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are you going </a:t>
            </a:r>
            <a:r>
              <a:rPr b="1" i="1" lang="en-GB" sz="2800" spc="-1" strike="noStrike">
                <a:solidFill>
                  <a:srgbClr val="669900"/>
                </a:solidFill>
                <a:latin typeface="Times New Roman"/>
              </a:rPr>
              <a:t>to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ff"/>
                </a:solidFill>
                <a:latin typeface="Times New Roman"/>
              </a:rPr>
              <a:t>Waru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pielst du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9900ff"/>
                </a:solidFill>
                <a:latin typeface="Times New Roman"/>
              </a:rPr>
              <a:t>Why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o you play tenni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75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75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o the questions mean ctd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Times New Roman"/>
              </a:rPr>
              <a:t>Woher</a:t>
            </a:r>
            <a:r>
              <a:rPr b="0" lang="en-GB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mmst du? Ich komme aus Eng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900ff"/>
                </a:solidFill>
                <a:latin typeface="Times New Roman"/>
              </a:rPr>
              <a:t>Where</a:t>
            </a:r>
            <a:r>
              <a:rPr b="0" i="1" lang="en-GB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e you</a:t>
            </a:r>
            <a:r>
              <a:rPr b="0" i="1" lang="en-GB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9900ff"/>
                </a:solidFill>
                <a:latin typeface="Times New Roman"/>
              </a:rPr>
              <a:t>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Times New Roman"/>
              </a:rPr>
              <a:t>Was fü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sik magst du? Pop Mus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9900"/>
                </a:solidFill>
                <a:latin typeface="Times New Roman"/>
              </a:rPr>
              <a:t>What sort of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usic do you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Times New Roman"/>
              </a:rPr>
              <a:t>Um wie viel Uh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ielst du Tennis? Um 11 Uh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cc99"/>
                </a:solidFill>
                <a:latin typeface="Times New Roman"/>
              </a:rPr>
              <a:t>At what time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e you playing Tenn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Mit w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pielst du Tennis? Mit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5050"/>
                </a:solidFill>
                <a:latin typeface="Times New Roman"/>
              </a:rPr>
              <a:t>With whom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are you play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Für wie lan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pielst du? Für 30 Minu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How long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re you playing 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mory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r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oh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s fü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t w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Für wie l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m wie viel Uh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ere…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… 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at sort of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wh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For how l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what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oose the correct question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Wi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GB" sz="2800" spc="-1" strike="noStrike">
                <a:solidFill>
                  <a:srgbClr val="33cc33"/>
                </a:solidFill>
                <a:latin typeface="Times New Roman"/>
              </a:rPr>
              <a:t>W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eht’s dir? Gut danke und d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cc33"/>
                </a:solidFill>
                <a:latin typeface="Times New Roman"/>
              </a:rPr>
              <a:t>W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GB" sz="2800" spc="-1" strike="noStrike">
                <a:solidFill>
                  <a:srgbClr val="00cc99"/>
                </a:solidFill>
                <a:latin typeface="Times New Roman"/>
              </a:rPr>
              <a:t>W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pielst du Tennis? In R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99"/>
                </a:solidFill>
                <a:latin typeface="Times New Roman"/>
              </a:rPr>
              <a:t>Wohi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GB" sz="2800" spc="-1" strike="noStrike">
                <a:solidFill>
                  <a:srgbClr val="669900"/>
                </a:solidFill>
                <a:latin typeface="Times New Roman"/>
              </a:rPr>
              <a:t>Woh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ommst du? Ich komme aus Eng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Times New Roman"/>
              </a:rPr>
              <a:t>Wa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GB" sz="2800" spc="-1" strike="noStrike">
                <a:solidFill>
                  <a:srgbClr val="00cc99"/>
                </a:solidFill>
                <a:latin typeface="Times New Roman"/>
              </a:rPr>
              <a:t>Wer</a:t>
            </a:r>
            <a:r>
              <a:rPr b="0" lang="en-GB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t das? Das ist Gabrie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Waru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Was fü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agst du Biologie? Weil der Lehrer sehr interessant 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Wan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GB" sz="2800" spc="-1" strike="noStrike">
                <a:solidFill>
                  <a:srgbClr val="33cc33"/>
                </a:solidFill>
                <a:latin typeface="Times New Roman"/>
              </a:rPr>
              <a:t>Wi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ginnt die Schule? Mont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cc33"/>
                </a:solidFill>
                <a:latin typeface="Times New Roman"/>
              </a:rPr>
              <a:t>Was fü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mit we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ort spielst du? Tennis und Rugb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ssible or not?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rrect the bad 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W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achen wir heute abend? Wir gehen ins K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99"/>
                </a:solidFill>
                <a:latin typeface="Times New Roman"/>
              </a:rPr>
              <a:t>Wan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t das Kino? In Berlin Zen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We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effen wir? Am Bahnho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Wi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ginnt der Film? Um 20 U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Times New Roman"/>
              </a:rPr>
              <a:t>W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ommt mit uns? Stefan und Geor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ff"/>
                </a:solidFill>
                <a:latin typeface="Times New Roman"/>
              </a:rPr>
              <a:t>Waru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sst der Film? Notting 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Times New Roman"/>
              </a:rPr>
              <a:t>Was fü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in Film ist das? Eine Komöd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Wa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ommen wir zum Kino? Mit dem B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5893800">
            <a:off x="1185120" y="2977200"/>
            <a:ext cx="5331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ebdings"/>
              </a:rPr>
              <a:t>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ebdings"/>
              <a:ea typeface="Webdings"/>
            </a:endParaRPr>
          </a:p>
        </p:txBody>
      </p:sp>
      <p:sp>
        <p:nvSpPr>
          <p:cNvPr id="65" name=""/>
          <p:cNvSpPr txBox="1"/>
          <p:nvPr/>
        </p:nvSpPr>
        <p:spPr>
          <a:xfrm rot="5893800">
            <a:off x="1173240" y="3778920"/>
            <a:ext cx="470160" cy="9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ebdings"/>
              </a:rPr>
              <a:t>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ebdings"/>
              <a:ea typeface="Webdings"/>
            </a:endParaRPr>
          </a:p>
        </p:txBody>
      </p:sp>
      <p:sp>
        <p:nvSpPr>
          <p:cNvPr id="66" name=""/>
          <p:cNvSpPr txBox="1"/>
          <p:nvPr/>
        </p:nvSpPr>
        <p:spPr>
          <a:xfrm rot="5893800">
            <a:off x="1034640" y="4601880"/>
            <a:ext cx="398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ebdings"/>
              </a:rPr>
              <a:t>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ebdings"/>
              <a:ea typeface="Webdings"/>
            </a:endParaRPr>
          </a:p>
        </p:txBody>
      </p:sp>
      <p:sp>
        <p:nvSpPr>
          <p:cNvPr id="67" name=""/>
          <p:cNvSpPr txBox="1"/>
          <p:nvPr/>
        </p:nvSpPr>
        <p:spPr>
          <a:xfrm rot="5893800">
            <a:off x="5565960" y="2427840"/>
            <a:ext cx="40320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ebdings"/>
              </a:rPr>
              <a:t>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ebdings"/>
              <a:ea typeface="Webdings"/>
            </a:endParaRPr>
          </a:p>
        </p:txBody>
      </p:sp>
      <p:sp>
        <p:nvSpPr>
          <p:cNvPr id="68" name=""/>
          <p:cNvSpPr txBox="1"/>
          <p:nvPr/>
        </p:nvSpPr>
        <p:spPr>
          <a:xfrm rot="5893800">
            <a:off x="5495760" y="4262040"/>
            <a:ext cx="392040" cy="9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ebdings"/>
              </a:rPr>
              <a:t>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ebdings"/>
              <a:ea typeface="Webding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 ist Englisch? 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Montag und Freit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 ist deine Schule? </a:t>
            </a: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In Basingst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 beginnt die Schule? </a:t>
            </a:r>
            <a:r>
              <a:rPr b="0" lang="en-GB" sz="2400" spc="-1" strike="noStrike">
                <a:solidFill>
                  <a:srgbClr val="33cc33"/>
                </a:solidFill>
                <a:latin typeface="Times New Roman"/>
              </a:rPr>
              <a:t>Um 8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 wohnst du? </a:t>
            </a:r>
            <a:r>
              <a:rPr b="0" lang="en-GB" sz="2400" spc="-1" strike="noStrike">
                <a:solidFill>
                  <a:srgbClr val="9900ff"/>
                </a:solidFill>
                <a:latin typeface="Times New Roman"/>
              </a:rPr>
              <a:t>Meine Mutter und Vater und 2 Schwes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 fährst du?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Ich fahre nach Köl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 fährst du nach Köln ? 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Weil es sonnig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 bleibst du?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Eine  Wo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 fährst du? </a:t>
            </a:r>
            <a:r>
              <a:rPr b="0" lang="en-GB" sz="2400" spc="-1" strike="noStrike">
                <a:solidFill>
                  <a:srgbClr val="33cc33"/>
                </a:solidFill>
                <a:latin typeface="Times New Roman"/>
              </a:rPr>
              <a:t>Mit dem Flugzeug (British Airw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905120"/>
            <a:ext cx="990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657600"/>
            <a:ext cx="9907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419720"/>
            <a:ext cx="1295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t w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1905120"/>
            <a:ext cx="10670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819520"/>
            <a:ext cx="12193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581280"/>
            <a:ext cx="1600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e l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4343400"/>
            <a:ext cx="838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3:37:32Z</dcterms:created>
  <dc:creator>abh</dc:creator>
  <dc:description/>
  <dc:language>en-US</dc:language>
  <cp:lastModifiedBy>PSeccombe</cp:lastModifiedBy>
  <dcterms:modified xsi:type="dcterms:W3CDTF">2004-05-12T11:37:56Z</dcterms:modified>
  <cp:revision>11</cp:revision>
  <dc:subject/>
  <dc:title>Question wo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20836493</vt:r8>
  </property>
  <property fmtid="{D5CDD505-2E9C-101B-9397-08002B2CF9AE}" pid="3" name="_AuthorEmail">
    <vt:lpwstr>Philip.Bates@pangcoll.co.uk</vt:lpwstr>
  </property>
  <property fmtid="{D5CDD505-2E9C-101B-9397-08002B2CF9AE}" pid="4" name="_AuthorEmailDisplayName">
    <vt:lpwstr>Philip Bates</vt:lpwstr>
  </property>
  <property fmtid="{D5CDD505-2E9C-101B-9397-08002B2CF9AE}" pid="5" name="_EmailSubject">
    <vt:lpwstr>some powerpoints that aren't up on the dept site</vt:lpwstr>
  </property>
  <property fmtid="{D5CDD505-2E9C-101B-9397-08002B2CF9AE}" pid="6" name="_ReviewingToolsShownOnce">
    <vt:lpwstr/>
  </property>
</Properties>
</file>