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E4F-F5E0-4370-85FC-91D2CB5E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E74-CEA8-4D6B-88F8-24E12B1B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07E-24A3-480E-8480-89104709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760-CFB3-403A-A5EB-195434C4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CDF-A5E3-4FA7-BDAA-93F94BE0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312-A8EC-4BB9-8BDF-70A385B2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934-0018-417E-9EAB-AB6A3D6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4A6-AF40-459E-B723-594E1614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DF7-E8D6-4FC4-B7BF-C17115B7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E0C-F705-4E54-8E45-FAA4F91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D00-9611-4F4A-989B-703CA62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35F-F8B1-42F0-973F-FE7105C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086-4982-439F-8ADE-9A682283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words and 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the end of this lesson you will have revised questi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the end of this lesson you will be able to use question words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41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– 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do you say: “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you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 play </a:t>
            </a: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Du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 spiel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do you say: “</a:t>
            </a: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669900"/>
                </a:solidFill>
                <a:latin typeface="Times New Roman"/>
              </a:rPr>
              <a:t>do you pla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Wan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spiel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d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669900"/>
                </a:solidFill>
                <a:latin typeface="Times New Roman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669900"/>
                </a:solidFill>
                <a:latin typeface="Times New Roman"/>
              </a:rPr>
              <a:t>d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3200" spc="-1" strike="noStrike">
                <a:solidFill>
                  <a:srgbClr val="9900ff"/>
                </a:solidFill>
                <a:latin typeface="Times New Roman"/>
              </a:rPr>
              <a:t>spiel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change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75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75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75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75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75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mory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r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oh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 fü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w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ür wie l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m wie viel Uh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ere…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…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 sort of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wh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or how l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what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 words and 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, Where, What, Why, When, How, How long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very important for you to understand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question wor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ff5050"/>
                </a:solidFill>
                <a:latin typeface="Times New Roman"/>
              </a:rPr>
              <a:t>where, when etc..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 that you fully understand the question and answer it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GCSE, students are often asked a question, answer it in good German but have answered the wrong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 “</a:t>
            </a:r>
            <a:r>
              <a:rPr b="0" lang="en-GB" sz="3200" spc="-1" strike="noStrike">
                <a:solidFill>
                  <a:srgbClr val="33cc33"/>
                </a:solidFill>
                <a:latin typeface="Times New Roman"/>
              </a:rPr>
              <a:t>When are your holiday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” “</a:t>
            </a: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in Gree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the questions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t d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What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s tha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er</a:t>
            </a:r>
            <a:r>
              <a:rPr b="0" lang="en-GB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t  d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s ist mein Bruder, Andr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cc33"/>
                </a:solidFill>
                <a:latin typeface="Times New Roman"/>
              </a:rPr>
              <a:t>Who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s tha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Times New Roman"/>
              </a:rPr>
              <a:t>W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ohnt Andrew? Er wohnt in Wo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0" i="1" lang="en-GB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oes A liv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an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st du Geburtsta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When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s your B’da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i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eht’s? G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How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re you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ohi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ehst du? Ins Caf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669900"/>
                </a:solidFill>
                <a:latin typeface="Times New Roman"/>
              </a:rPr>
              <a:t>Wher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re you going </a:t>
            </a:r>
            <a:r>
              <a:rPr b="1" i="1" lang="en-GB" sz="2800" spc="-1" strike="noStrike">
                <a:solidFill>
                  <a:srgbClr val="669900"/>
                </a:solidFill>
                <a:latin typeface="Times New Roman"/>
              </a:rPr>
              <a:t>to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ff"/>
                </a:solidFill>
                <a:latin typeface="Times New Roman"/>
              </a:rPr>
              <a:t>War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9900ff"/>
                </a:solidFill>
                <a:latin typeface="Times New Roman"/>
              </a:rPr>
              <a:t>Why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o you play tenni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75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the questions mean ct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Times New Roman"/>
              </a:rPr>
              <a:t>Woher</a:t>
            </a:r>
            <a:r>
              <a:rPr b="0" lang="en-GB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mmst du? Ich komme aus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900ff"/>
                </a:solidFill>
                <a:latin typeface="Times New Roman"/>
              </a:rPr>
              <a:t>Where</a:t>
            </a:r>
            <a:r>
              <a:rPr b="0" i="1" lang="en-GB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e you</a:t>
            </a:r>
            <a:r>
              <a:rPr b="0" i="1" lang="en-GB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9900ff"/>
                </a:solidFill>
                <a:latin typeface="Times New Roman"/>
              </a:rPr>
              <a:t>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Times New Roman"/>
              </a:rPr>
              <a:t>Was fü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sik magst du? Pop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9900"/>
                </a:solidFill>
                <a:latin typeface="Times New Roman"/>
              </a:rPr>
              <a:t>What sort of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sic do you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Times New Roman"/>
              </a:rPr>
              <a:t>Um wie viel Uh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ielst du Tennis? Um 11 Uh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cc99"/>
                </a:solidFill>
                <a:latin typeface="Times New Roman"/>
              </a:rPr>
              <a:t>At what time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e you playing Tenn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Mit w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 Tennis? Mit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With whom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re you play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Für wie lan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? Für 30 Minu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How long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re you playing 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mory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r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oh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s fü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w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ür wie l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m wie viel Uh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ere…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…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hat sort of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wh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or how l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what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oose the correct question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i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eht’s dir? Gut danke und d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pielst du Tennis? In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ohi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oh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ommst du? Ich komme aus Eng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a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er</a:t>
            </a:r>
            <a:r>
              <a:rPr b="0" lang="en-GB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t das? Das ist Gabri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aru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as fü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gst du Biologie? Weil der Lehrer sehr interessant 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an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i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ginnt die Schule? Mont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cc33"/>
                </a:solidFill>
                <a:latin typeface="Times New Roman"/>
              </a:rPr>
              <a:t>Was fü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mit we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ort spielst du? Tennis und Rug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sible or not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rrect the bad 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chen wir heute abend? Wir gehen ins K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99"/>
                </a:solidFill>
                <a:latin typeface="Times New Roman"/>
              </a:rPr>
              <a:t>Wan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t das Kino? In Berlin Zen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effen wir? Am Bahnho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i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ginnt der Film? Um 20 U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ommt mit uns? Stefan und Geor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ff"/>
                </a:solidFill>
                <a:latin typeface="Times New Roman"/>
              </a:rPr>
              <a:t>Waru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sst der Film?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Times New Roman"/>
              </a:rPr>
              <a:t>Was fü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in Film ist das? Eine Komö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ommen wir zum Kino? Mit dem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5893800">
            <a:off x="1185120" y="2977200"/>
            <a:ext cx="5331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5" name=""/>
          <p:cNvSpPr txBox="1"/>
          <p:nvPr/>
        </p:nvSpPr>
        <p:spPr>
          <a:xfrm rot="5893800">
            <a:off x="1173240" y="3778920"/>
            <a:ext cx="47016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6" name=""/>
          <p:cNvSpPr txBox="1"/>
          <p:nvPr/>
        </p:nvSpPr>
        <p:spPr>
          <a:xfrm rot="5893800">
            <a:off x="1034640" y="4601880"/>
            <a:ext cx="398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7" name=""/>
          <p:cNvSpPr txBox="1"/>
          <p:nvPr/>
        </p:nvSpPr>
        <p:spPr>
          <a:xfrm rot="5893800">
            <a:off x="5565960" y="2427840"/>
            <a:ext cx="40320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  <p:sp>
        <p:nvSpPr>
          <p:cNvPr id="68" name=""/>
          <p:cNvSpPr txBox="1"/>
          <p:nvPr/>
        </p:nvSpPr>
        <p:spPr>
          <a:xfrm rot="5893800">
            <a:off x="5495760" y="4262040"/>
            <a:ext cx="392040" cy="9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Webdings"/>
              </a:rPr>
              <a:t>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Webdings"/>
              <a:ea typeface="Webding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 ist Englisch?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Montag und Frei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 ist deine Schule? 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In Basingst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beginnt die Schule? </a:t>
            </a:r>
            <a:r>
              <a:rPr b="0" lang="en-GB" sz="2400" spc="-1" strike="noStrike">
                <a:solidFill>
                  <a:srgbClr val="33cc33"/>
                </a:solidFill>
                <a:latin typeface="Times New Roman"/>
              </a:rPr>
              <a:t>Um 8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 wohnst du? </a:t>
            </a:r>
            <a:r>
              <a:rPr b="0" lang="en-GB" sz="2400" spc="-1" strike="noStrike">
                <a:solidFill>
                  <a:srgbClr val="9900ff"/>
                </a:solidFill>
                <a:latin typeface="Times New Roman"/>
              </a:rPr>
              <a:t>Meine Mutter und Vater und 2 Schwes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fährst du?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Ich fahre nach Kö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fährst du nach Köln ?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Weil es sonnig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 bleibst du?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Eine  Wo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 fährst du? </a:t>
            </a:r>
            <a:r>
              <a:rPr b="0" lang="en-GB" sz="2400" spc="-1" strike="noStrike">
                <a:solidFill>
                  <a:srgbClr val="33cc33"/>
                </a:solidFill>
                <a:latin typeface="Times New Roman"/>
              </a:rPr>
              <a:t>Mit dem Flugzeug (British Airw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905120"/>
            <a:ext cx="990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657600"/>
            <a:ext cx="990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41972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w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1905120"/>
            <a:ext cx="10670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819520"/>
            <a:ext cx="12193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581280"/>
            <a:ext cx="1600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 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343400"/>
            <a:ext cx="838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3:37:32Z</dcterms:created>
  <dc:creator>abh</dc:creator>
  <dc:description/>
  <dc:language>en-US</dc:language>
  <cp:lastModifiedBy>PSeccombe</cp:lastModifiedBy>
  <dcterms:modified xsi:type="dcterms:W3CDTF">2004-05-12T11:37:56Z</dcterms:modified>
  <cp:revision>11</cp:revision>
  <dc:subject/>
  <dc:title>Question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0836493</vt:r8>
  </property>
  <property fmtid="{D5CDD505-2E9C-101B-9397-08002B2CF9AE}" pid="3" name="_AuthorEmail">
    <vt:lpwstr>Philip.Bates@pangcoll.co.uk</vt:lpwstr>
  </property>
  <property fmtid="{D5CDD505-2E9C-101B-9397-08002B2CF9AE}" pid="4" name="_AuthorEmailDisplayName">
    <vt:lpwstr>Philip Bates</vt:lpwstr>
  </property>
  <property fmtid="{D5CDD505-2E9C-101B-9397-08002B2CF9AE}" pid="5" name="_EmailSubject">
    <vt:lpwstr>some powerpoints that aren't up on the dept site</vt:lpwstr>
  </property>
  <property fmtid="{D5CDD505-2E9C-101B-9397-08002B2CF9AE}" pid="6" name="_ReviewingToolsShownOnce">
    <vt:lpwstr/>
  </property>
</Properties>
</file>