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3AF7-7635-496B-90D9-3A6F4120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9E1B-1FCD-4BCD-AC15-93A93ED3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42F4-226C-4E39-91FA-B23AF3D3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926F-5E0C-4081-8201-5DF72543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14EE-67B6-4568-938F-675DEA56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2FA0-BD84-402D-A996-D30D8D23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E075-D0DB-420D-85D6-BF35DDB4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154E-4DC4-451E-A00C-6C6572CF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3556-3C3C-43E6-AC10-143BD56D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7E3F-024A-4A53-9854-BF7C6A08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904E-9076-48D6-A00F-383E25E7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B05E-0A59-4EC7-81C7-771F0903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1EFF-0E52-417F-A9C1-A3995EFEA9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In meinem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he end of this lesson you will be able to write longer sentences, using the correct 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77120" y="4572000"/>
            <a:ext cx="18208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order in a sentence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mportant in Germ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an also change the emphasis of the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1240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33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Ich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 esse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in der Kü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00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In der Küche       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esse </a:t>
            </a: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ich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!!!! If you begin the sentence with a room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ver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es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pers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i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change places 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21023400">
            <a:off x="3200400" y="4343400"/>
            <a:ext cx="1523880" cy="45720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3257" y="10294"/>
                </a:moveTo>
                <a:arcTo wR="-7560" hR="-7560" stAng="-10569765" swAng="-11261264"/>
                <a:lnTo>
                  <a:pt x="24" y="11525"/>
                </a:lnTo>
                <a:arcTo wR="10800" hR="10800" stAng="10568971" swAng="11261264"/>
                <a:lnTo>
                  <a:pt x="24270" y="11703"/>
                </a:lnTo>
                <a:lnTo>
                  <a:pt x="19670" y="15725"/>
                </a:lnTo>
                <a:lnTo>
                  <a:pt x="15649" y="111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7432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1952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4343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5334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5334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752480"/>
            <a:ext cx="5029200" cy="2133720"/>
          </a:xfrm>
          <a:prstGeom prst="wedgeEllipseCallout">
            <a:avLst>
              <a:gd name="adj1" fmla="val 53694"/>
              <a:gd name="adj2" fmla="val 454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715000" y="3048120"/>
            <a:ext cx="226548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you unjumble these senten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gin with the room eg “Im Schlafzimmer…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6172200"/>
            <a:ext cx="800280" cy="343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6172200"/>
            <a:ext cx="800280" cy="343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6172200"/>
            <a:ext cx="800280" cy="343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6172200"/>
            <a:ext cx="800280" cy="343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6172200"/>
            <a:ext cx="1257120" cy="343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ezi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15000" y="2590920"/>
            <a:ext cx="800280" cy="342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2590920"/>
            <a:ext cx="1028520" cy="342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ud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2590920"/>
            <a:ext cx="800280" cy="342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2590920"/>
            <a:ext cx="1028880" cy="342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un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2590920"/>
            <a:ext cx="799920" cy="342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2590920"/>
            <a:ext cx="1485720" cy="342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lafzi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3124080"/>
            <a:ext cx="799920" cy="34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3124080"/>
            <a:ext cx="800280" cy="34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e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3124080"/>
            <a:ext cx="1028880" cy="34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mp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3124080"/>
            <a:ext cx="800280" cy="34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3124080"/>
            <a:ext cx="1485720" cy="34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hnzi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3733920"/>
            <a:ext cx="800280" cy="34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3733920"/>
            <a:ext cx="799920" cy="34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e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3733920"/>
            <a:ext cx="800280" cy="34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52880" y="3733920"/>
            <a:ext cx="1028880" cy="34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3733920"/>
            <a:ext cx="800280" cy="34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3733920"/>
            <a:ext cx="1371600" cy="34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szi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4419720"/>
            <a:ext cx="800280" cy="342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4419720"/>
            <a:ext cx="800280" cy="342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4419720"/>
            <a:ext cx="799920" cy="342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4419720"/>
            <a:ext cx="800280" cy="342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4419720"/>
            <a:ext cx="914400" cy="342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ü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5029200"/>
            <a:ext cx="79992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5029200"/>
            <a:ext cx="8002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5029200"/>
            <a:ext cx="79992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5029200"/>
            <a:ext cx="8002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5029200"/>
            <a:ext cx="9144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ilet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5638680"/>
            <a:ext cx="799920" cy="34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5638680"/>
            <a:ext cx="800280" cy="34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638680"/>
            <a:ext cx="800280" cy="34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5638680"/>
            <a:ext cx="800280" cy="34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304920" y="1371600"/>
            <a:ext cx="914400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380880" y="4191120"/>
            <a:ext cx="9144000" cy="17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514600"/>
            <a:ext cx="624816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 Schlafzimme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ude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c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it Fre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124080"/>
            <a:ext cx="609624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 Wohnzimme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ie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c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romp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733920"/>
            <a:ext cx="6019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 Esszimmer spiele ich am Compu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419720"/>
            <a:ext cx="472464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der Küche koche 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502920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der Toilette lese 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5638680"/>
            <a:ext cx="41148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 Garten helfe 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6172200"/>
            <a:ext cx="46483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 Badezimmer wasche ich m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086600" y="304920"/>
            <a:ext cx="1687680" cy="2038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04920" y="2514600"/>
            <a:ext cx="624816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 Schlafzimmer plaudere ich </a:t>
            </a:r>
            <a:r>
              <a:rPr b="1" lang="en-GB" sz="2400" spc="-1" strike="noStrike" u="sng">
                <a:solidFill>
                  <a:srgbClr val="990099"/>
                </a:solidFill>
                <a:uFillTx/>
                <a:latin typeface="Times New Roman"/>
              </a:rPr>
              <a:t>oft</a:t>
            </a:r>
            <a:r>
              <a:rPr b="0" lang="en-GB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t Fre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429000"/>
            <a:ext cx="47242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der Küche koche ich </a:t>
            </a:r>
            <a:r>
              <a:rPr b="1" lang="en-GB" sz="2400" spc="-1" strike="noStrike" u="sng">
                <a:solidFill>
                  <a:srgbClr val="990099"/>
                </a:solidFill>
                <a:uFillTx/>
                <a:latin typeface="Times New Roman"/>
              </a:rPr>
              <a:t>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267080"/>
            <a:ext cx="7238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 Esszimmer spiele ich </a:t>
            </a:r>
            <a:r>
              <a:rPr b="1" lang="en-GB" sz="2400" spc="-1" strike="noStrike" u="sng">
                <a:solidFill>
                  <a:srgbClr val="990099"/>
                </a:solidFill>
                <a:uFillTx/>
                <a:latin typeface="Times New Roman"/>
              </a:rPr>
              <a:t>manchm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m Compu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502920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der Toilette lese ich </a:t>
            </a:r>
            <a:r>
              <a:rPr b="1" lang="en-GB" sz="2400" spc="-1" strike="noStrike" u="sng">
                <a:solidFill>
                  <a:srgbClr val="990099"/>
                </a:solidFill>
                <a:uFillTx/>
                <a:latin typeface="Times New Roman"/>
              </a:rPr>
              <a:t>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791320"/>
            <a:ext cx="9144000" cy="4597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99"/>
                </a:solidFill>
                <a:uFillTx/>
                <a:latin typeface="Times New Roman"/>
              </a:rPr>
              <a:t>o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t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 u="sng">
                <a:solidFill>
                  <a:srgbClr val="990099"/>
                </a:solidFill>
                <a:uFillTx/>
                <a:latin typeface="Times New Roman"/>
              </a:rPr>
              <a:t>im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990099"/>
                </a:solidFill>
                <a:uFillTx/>
                <a:latin typeface="Times New Roman"/>
              </a:rPr>
              <a:t>manch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eti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990099"/>
                </a:solidFill>
                <a:uFillTx/>
                <a:latin typeface="Times New Roman"/>
              </a:rPr>
              <a:t>n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52280"/>
            <a:ext cx="5486400" cy="2133720"/>
          </a:xfrm>
          <a:prstGeom prst="cloudCallout">
            <a:avLst>
              <a:gd name="adj1" fmla="val 63888"/>
              <a:gd name="adj2" fmla="val -15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Wie oft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machst du da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Was machst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du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zu Hau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Times New Roman"/>
              </a:rPr>
              <a:t>Wie findest du d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2767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5181480"/>
            <a:ext cx="7620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Bradley Hand ITC"/>
              </a:rPr>
              <a:t>Was machst du zu Hause? Wie of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Bradley Hand ITC"/>
              </a:rPr>
              <a:t>Schreib ein Paar Details über dein Ha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1246320" cy="1406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553080" y="2743200"/>
            <a:ext cx="982800" cy="1406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33520" y="2590920"/>
            <a:ext cx="10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057400" y="3048120"/>
            <a:ext cx="137160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09:24:32Z</dcterms:created>
  <dc:creator>Miss E Abrahams</dc:creator>
  <dc:description/>
  <dc:language>en-US</dc:language>
  <cp:lastModifiedBy>PSeccombe</cp:lastModifiedBy>
  <dcterms:modified xsi:type="dcterms:W3CDTF">2004-05-12T11:39:03Z</dcterms:modified>
  <cp:revision>2</cp:revision>
  <dc:subject/>
  <dc:title>In meinem Haus</dc:title>
</cp:coreProperties>
</file>