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24.gif" ContentType="image/gif"/>
  <Override PartName="/ppt/media/image7.wmf" ContentType="image/x-wmf"/>
  <Override PartName="/ppt/media/image11.wmf" ContentType="image/x-wmf"/>
  <Override PartName="/ppt/media/image23.gif" ContentType="image/gif"/>
  <Override PartName="/ppt/media/image6.wmf" ContentType="image/x-wmf"/>
  <Override PartName="/ppt/media/image10.wmf" ContentType="image/x-wmf"/>
  <Override PartName="/ppt/media/image22.gif" ContentType="image/gif"/>
  <Override PartName="/ppt/media/image5.wmf" ContentType="image/x-wmf"/>
  <Override PartName="/ppt/media/image4.wmf" ContentType="image/x-wmf"/>
  <Override PartName="/ppt/media/image3.wmf" ContentType="image/x-wmf"/>
  <Override PartName="/ppt/media/image21.gif" ContentType="image/gif"/>
  <Override PartName="/ppt/media/image19.wmf" ContentType="image/x-wmf"/>
  <Override PartName="/ppt/media/image1.wmf" ContentType="image/x-wmf"/>
  <Override PartName="/ppt/media/image20.gif" ContentType="image/gif"/>
  <Override PartName="/ppt/media/image18.gif" ContentType="image/gif"/>
  <Override PartName="/ppt/media/image17.wmf" ContentType="image/x-wmf"/>
  <Override PartName="/ppt/media/image28.gif" ContentType="image/gif"/>
  <Override PartName="/ppt/media/image16.wmf" ContentType="image/x-wmf"/>
  <Override PartName="/ppt/media/image27.gif" ContentType="image/gif"/>
  <Override PartName="/ppt/media/image15.wmf" ContentType="image/x-wmf"/>
  <Override PartName="/ppt/media/image26.gif" ContentType="image/gif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A894-5191-4353-86DC-BCF39C02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554A-BC38-4FF4-9F8A-76932ACE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40FE-A991-4E25-8251-51D0F2C2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010C-1D10-4493-B8A9-3A4C5E8A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9C44-C3C7-4F6A-9C05-6E2FE2C6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C19A-3C6E-40ED-BA47-6A11D3EF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71D3-1CAA-455F-897F-BB009B8B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0C26-C0BA-41E5-B014-A7F5AF94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8203-F231-4D91-BD7D-4EB6A5A0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50AC-912D-468B-A1B6-F9EDB472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89B-063E-4800-ACC5-1B503BBA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2930-145B-49CA-9085-FA79CAEA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0785-6ACB-4CD4-8109-74D2DF35E5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2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2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wm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image" Target="../media/image23.gif"/><Relationship Id="rId7" Type="http://schemas.openxmlformats.org/officeDocument/2006/relationships/image" Target="../media/image24.gif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wm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image" Target="../media/image23.gif"/><Relationship Id="rId7" Type="http://schemas.openxmlformats.org/officeDocument/2006/relationships/image" Target="../media/image24.gif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in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1301760" cy="1300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90720" y="236376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end of this lesson, you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ble to say what rooms you have in your h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44197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end of this lesson, you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ble to say where something is in your house!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Wo macht man d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 sehe ich f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1981080"/>
            <a:ext cx="5257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 mache ich meine Hausaufgab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289548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 spiele ich Fußb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2895480"/>
            <a:ext cx="2819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 schlafe 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3809880"/>
            <a:ext cx="3505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 wasche ich m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3733920"/>
            <a:ext cx="2819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 esse 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46483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 koche 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46483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 lese 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5638680"/>
            <a:ext cx="297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 plaudere 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5562720"/>
            <a:ext cx="396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 höre ich Mus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2362320"/>
            <a:ext cx="2819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 Wohn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2362320"/>
            <a:ext cx="2819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 Schlaf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3276720"/>
            <a:ext cx="2819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 Ga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3276720"/>
            <a:ext cx="2819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 Schlaf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4114800"/>
            <a:ext cx="2819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 Bade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5029200"/>
            <a:ext cx="2819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 der 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6019920"/>
            <a:ext cx="2819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 Ess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4114800"/>
            <a:ext cx="2819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 Ess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57800" y="4952880"/>
            <a:ext cx="2819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 Wohn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6019920"/>
            <a:ext cx="2819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 Schlaf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in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order in a sentence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mportant in Germ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an also change the emphasis of the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31240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66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Ich esse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in der Kü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00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In der Küche       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esse ich 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!!!! If you begin the sentence with a room, the verb (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es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and the person (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i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change places 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21023400">
            <a:off x="3200400" y="4343400"/>
            <a:ext cx="1523880" cy="45720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3257" y="10294"/>
                </a:moveTo>
                <a:arcTo wR="-7560" hR="-7560" stAng="-10569765" swAng="-11261264"/>
                <a:lnTo>
                  <a:pt x="24" y="11525"/>
                </a:lnTo>
                <a:arcTo wR="10800" hR="10800" stAng="10568971" swAng="11261264"/>
                <a:lnTo>
                  <a:pt x="24270" y="11703"/>
                </a:lnTo>
                <a:lnTo>
                  <a:pt x="19670" y="15725"/>
                </a:lnTo>
                <a:lnTo>
                  <a:pt x="15649" y="111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in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339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1972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27432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4343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5334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5334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1752480"/>
            <a:ext cx="5029200" cy="2133720"/>
          </a:xfrm>
          <a:prstGeom prst="wedgeEllipseCallout">
            <a:avLst>
              <a:gd name="adj1" fmla="val 53694"/>
              <a:gd name="adj2" fmla="val 454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715000" y="3048120"/>
            <a:ext cx="226548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in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 you unjumble these senten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gin with the room eg “Im Schlafzimmer…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6172200"/>
            <a:ext cx="800280" cy="343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14600" y="6172200"/>
            <a:ext cx="800280" cy="343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6172200"/>
            <a:ext cx="800280" cy="343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6172200"/>
            <a:ext cx="800280" cy="343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6172200"/>
            <a:ext cx="1257120" cy="343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ezi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2590920"/>
            <a:ext cx="800280" cy="342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33920" y="2590920"/>
            <a:ext cx="1028520" cy="342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ud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2590920"/>
            <a:ext cx="800280" cy="342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2590920"/>
            <a:ext cx="1028880" cy="342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un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2590920"/>
            <a:ext cx="799920" cy="342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2590920"/>
            <a:ext cx="1485720" cy="342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lafzi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3124080"/>
            <a:ext cx="799920" cy="34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3124080"/>
            <a:ext cx="800280" cy="34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e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3124080"/>
            <a:ext cx="1028880" cy="34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mp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3124080"/>
            <a:ext cx="800280" cy="34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3124080"/>
            <a:ext cx="1485720" cy="34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hnzi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3733920"/>
            <a:ext cx="800280" cy="34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3733920"/>
            <a:ext cx="799920" cy="34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e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3733920"/>
            <a:ext cx="800280" cy="34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3733920"/>
            <a:ext cx="1028880" cy="34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3733920"/>
            <a:ext cx="800280" cy="34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3733920"/>
            <a:ext cx="1371600" cy="34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szi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4419720"/>
            <a:ext cx="800280" cy="342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4419720"/>
            <a:ext cx="800280" cy="342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33720" y="4419720"/>
            <a:ext cx="799920" cy="342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71800" y="4419720"/>
            <a:ext cx="800280" cy="342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4419720"/>
            <a:ext cx="914400" cy="342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ü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2520" y="5029200"/>
            <a:ext cx="79992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09680" y="5029200"/>
            <a:ext cx="8002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5029200"/>
            <a:ext cx="79992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5029200"/>
            <a:ext cx="8002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5029200"/>
            <a:ext cx="9144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ilet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5638680"/>
            <a:ext cx="799920" cy="34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95480" y="5638680"/>
            <a:ext cx="800280" cy="34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5638680"/>
            <a:ext cx="800280" cy="34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5638680"/>
            <a:ext cx="800280" cy="34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-304920" y="1371600"/>
            <a:ext cx="914400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380880" y="4191120"/>
            <a:ext cx="9144000" cy="17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514600"/>
            <a:ext cx="624816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 Schlafzimme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auder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c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it Fre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3124080"/>
            <a:ext cx="609624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 Wohnzimme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ie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c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romp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3733920"/>
            <a:ext cx="6019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 Esszimmer spiele ich am Compu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4419720"/>
            <a:ext cx="472464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der Küche koche 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5029200"/>
            <a:ext cx="487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der Toilette lese 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5638680"/>
            <a:ext cx="41148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 Garten helfe 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6172200"/>
            <a:ext cx="46483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 Badezimmer wasche ich m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n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Was machst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du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zu Hau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Times New Roman"/>
              </a:rPr>
              <a:t>Wie findest du d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32767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2206440" cy="1279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09480" y="5181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Bradley Hand ITC"/>
              </a:rPr>
              <a:t>Hilfst du? Schreib ein Paar Details über dein H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724280" y="2743200"/>
            <a:ext cx="1246320" cy="14065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6553080" y="2743200"/>
            <a:ext cx="98280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in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ist im Schlafzimm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629400" cy="4343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0" y="5334120"/>
            <a:ext cx="858960" cy="901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981080" y="5181480"/>
            <a:ext cx="762120" cy="596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219320" y="4038480"/>
            <a:ext cx="477720" cy="735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248520" y="4038480"/>
            <a:ext cx="461880" cy="480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4419720" y="2666880"/>
            <a:ext cx="1290600" cy="97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2743200" y="5105520"/>
            <a:ext cx="2438280" cy="1104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6095880" y="4343400"/>
            <a:ext cx="1273320" cy="963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6019920" y="4952880"/>
            <a:ext cx="175248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in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ist im Schlafzimm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5181480"/>
            <a:ext cx="858960" cy="901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724280" y="3124080"/>
            <a:ext cx="762120" cy="596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477720" cy="73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800600" y="4038480"/>
            <a:ext cx="461880" cy="480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380880" y="2209680"/>
            <a:ext cx="1290600" cy="971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572000" y="2133720"/>
            <a:ext cx="1600200" cy="725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04920" y="4267080"/>
            <a:ext cx="1272960" cy="963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4419720" y="4648320"/>
            <a:ext cx="175248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in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ches Zimmer ist d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14600" y="4876920"/>
            <a:ext cx="2031840" cy="12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1447560" cy="1600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rot="19469400">
            <a:off x="1219320" y="1523520"/>
            <a:ext cx="1143000" cy="228600"/>
          </a:xfrm>
          <a:prstGeom prst="leftArrow">
            <a:avLst>
              <a:gd name="adj1" fmla="val 50000"/>
              <a:gd name="adj2" fmla="val 1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04920" y="2819520"/>
            <a:ext cx="1371600" cy="1523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743200" y="2895480"/>
            <a:ext cx="1454040" cy="1632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629400" y="4419720"/>
            <a:ext cx="1824120" cy="1415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5257800" y="2514600"/>
            <a:ext cx="1655640" cy="1447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7162920" y="2743200"/>
            <a:ext cx="1295280" cy="1325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7086600" y="914400"/>
            <a:ext cx="141444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in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1981440" cy="411480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86200" cy="44193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666880" y="4267080"/>
            <a:ext cx="2032200" cy="1228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1447560" cy="1600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rot="13221000">
            <a:off x="0" y="2437560"/>
            <a:ext cx="1143000" cy="228600"/>
          </a:xfrm>
          <a:prstGeom prst="leftArrow">
            <a:avLst>
              <a:gd name="adj1" fmla="val 50000"/>
              <a:gd name="adj2" fmla="val 1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33520" y="3505320"/>
            <a:ext cx="1371600" cy="1523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2971800" y="2438280"/>
            <a:ext cx="1454040" cy="1632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5410080" y="4419720"/>
            <a:ext cx="1824120" cy="1415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5334120" y="2819520"/>
            <a:ext cx="1655640" cy="1447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7467480" y="3809880"/>
            <a:ext cx="1295640" cy="1325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7391520" y="2286000"/>
            <a:ext cx="1414440" cy="1317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90920" y="1981080"/>
            <a:ext cx="2286000" cy="4114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in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 bin 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1524240" cy="1371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172200" y="3962520"/>
            <a:ext cx="1628640" cy="933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895480" y="2133720"/>
            <a:ext cx="1524240" cy="1600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447920" y="4419720"/>
            <a:ext cx="1752480" cy="1600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6324480" y="3429000"/>
            <a:ext cx="1189080" cy="1131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4191120" y="4343400"/>
            <a:ext cx="1692000" cy="1646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6400800" y="1676520"/>
            <a:ext cx="17794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in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2971800"/>
            <a:ext cx="2133720" cy="27432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m K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m Ga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666880" y="2971800"/>
            <a:ext cx="2819520" cy="2743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in der Kü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in der Toile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6002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 bist d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2971800"/>
            <a:ext cx="3124080" cy="27432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im Badezim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im Esszim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im Schlafzim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im Wohnzim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23623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h bin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in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 bin 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152424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172200" y="3962520"/>
            <a:ext cx="1628640" cy="933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895480" y="2133720"/>
            <a:ext cx="1524240" cy="1600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447920" y="4419720"/>
            <a:ext cx="1752480" cy="1600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6324480" y="3429000"/>
            <a:ext cx="1189080" cy="1131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4191120" y="4343400"/>
            <a:ext cx="1692000" cy="1646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6400800" y="1676520"/>
            <a:ext cx="17794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in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1301760" cy="1300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62120" y="23623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end of this lesson, you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ble to say what you do in each room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2670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end of this lesson, you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ble to put the words into the correct or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2:05:22Z</dcterms:created>
  <dc:creator>eleanor2</dc:creator>
  <dc:description/>
  <dc:language>en-US</dc:language>
  <cp:lastModifiedBy>PSeccombe</cp:lastModifiedBy>
  <dcterms:modified xsi:type="dcterms:W3CDTF">2004-05-12T11:40:02Z</dcterms:modified>
  <cp:revision>12</cp:revision>
  <dc:subject/>
  <dc:title>Mein Haus</dc:title>
</cp:coreProperties>
</file>