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4.gif" ContentType="image/gif"/>
  <Override PartName="/ppt/media/image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4.wmf" ContentType="image/x-wmf"/>
  <Override PartName="/ppt/media/image3.wmf" ContentType="image/x-wmf"/>
  <Override PartName="/ppt/media/image21.gif" ContentType="image/gif"/>
  <Override PartName="/ppt/media/image19.wmf" ContentType="image/x-wmf"/>
  <Override PartName="/ppt/media/image1.wmf" ContentType="image/x-wmf"/>
  <Override PartName="/ppt/media/image20.gif" ContentType="image/gif"/>
  <Override PartName="/ppt/media/image18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7.gif" ContentType="image/gif"/>
  <Override PartName="/ppt/media/image15.wmf" ContentType="image/x-wmf"/>
  <Override PartName="/ppt/media/image26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A6F-63DE-433A-89A7-36238F3A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900-8CB6-4CD0-B58A-F77F22EC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2C1-166D-4EB6-9483-640F79E9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006-BBC0-43FC-A614-B436270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F83-E827-45D0-AF76-7F1F4C15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C90-15BC-41CE-B7AF-CE33C662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086-D6F3-4AAB-B60A-D499775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6FB-A5D3-4EE4-A7FD-B2736EF5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E43-0AC2-409A-A4FF-8F83B252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BAE-2534-4766-A816-23C88C9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422-CFE6-4FF4-A7B5-F7C8193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660-3E4F-4432-9D5A-494AEFB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2C8D-BFD6-428B-BB28-83A1C8E03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301760" cy="130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23637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at rooms you have in your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419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ere something is in your house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macht man 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ehe ich f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98108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mache ich meine Hausaufg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8954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piele ich Fuß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9548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schlaf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9880"/>
            <a:ext cx="350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wasche ich m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373392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ess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48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koch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4648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les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6386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plaudere 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56272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höre ich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3623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3276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G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276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1148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Bade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der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0199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Ess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148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Ess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9528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Wohn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60199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 Schlaf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order in a sente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hange the emphasis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Ich ess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      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sse ich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!!! If you begin the sentence with a room, the verb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s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and the person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hange place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023400">
            <a:off x="3200400" y="4343400"/>
            <a:ext cx="1523880" cy="4572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3257" y="10294"/>
                </a:moveTo>
                <a:arcTo wR="-7560" hR="-7560" stAng="-10569765" swAng="-11261264"/>
                <a:lnTo>
                  <a:pt x="24" y="11525"/>
                </a:lnTo>
                <a:arcTo wR="10800" hR="10800" stAng="10568971" swAng="11261264"/>
                <a:lnTo>
                  <a:pt x="24270" y="11703"/>
                </a:lnTo>
                <a:lnTo>
                  <a:pt x="19670" y="15725"/>
                </a:lnTo>
                <a:lnTo>
                  <a:pt x="15649" y="111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334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752480"/>
            <a:ext cx="5029200" cy="2133720"/>
          </a:xfrm>
          <a:prstGeom prst="wedgeEllipseCallout">
            <a:avLst>
              <a:gd name="adj1" fmla="val 53694"/>
              <a:gd name="adj2" fmla="val 45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2654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unjumble these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 with the room eg “Im Schlafzimmer…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6172200"/>
            <a:ext cx="125712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590920"/>
            <a:ext cx="10285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590920"/>
            <a:ext cx="10288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590920"/>
            <a:ext cx="7999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590920"/>
            <a:ext cx="14857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laf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124080"/>
            <a:ext cx="7999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124080"/>
            <a:ext cx="10288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124080"/>
            <a:ext cx="14857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hn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733920"/>
            <a:ext cx="79992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3733920"/>
            <a:ext cx="10288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733920"/>
            <a:ext cx="137160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4419720"/>
            <a:ext cx="79992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419720"/>
            <a:ext cx="91440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5029200"/>
            <a:ext cx="914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5638680"/>
            <a:ext cx="7999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304920" y="1371600"/>
            <a:ext cx="9144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80880" y="4191120"/>
            <a:ext cx="9144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ude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124080"/>
            <a:ext cx="6096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Wohn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ie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733920"/>
            <a:ext cx="60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419720"/>
            <a:ext cx="47246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5638680"/>
            <a:ext cx="4114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helf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172200"/>
            <a:ext cx="4648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Badezimmer wasche ich m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as machst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du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zu H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Wie findest du 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206440" cy="1279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Bradley Hand ITC"/>
              </a:rPr>
              <a:t>Hilfst du? Schreib ein Paar Details über dein 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1246320" cy="1406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553080" y="2743200"/>
            <a:ext cx="9828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st im Schlafzi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5334120"/>
            <a:ext cx="858960" cy="90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981080" y="518148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477720" cy="7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248520" y="4038480"/>
            <a:ext cx="461880" cy="48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1290600" cy="9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743200" y="5105520"/>
            <a:ext cx="243828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095880" y="4343400"/>
            <a:ext cx="1273320" cy="9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019920" y="495288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st im Schlafzi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762120" cy="59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477720" cy="73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461880" cy="48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80880" y="2209680"/>
            <a:ext cx="129060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72000" y="2133720"/>
            <a:ext cx="1600200" cy="72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12729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419720" y="4648320"/>
            <a:ext cx="1752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hes Zimmer ist 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4876920"/>
            <a:ext cx="2031840" cy="12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19469400">
            <a:off x="1219320" y="15235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743200" y="2895480"/>
            <a:ext cx="1454040" cy="1632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629400" y="441972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165564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162920" y="2743200"/>
            <a:ext cx="1295280" cy="132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7086600" y="914400"/>
            <a:ext cx="14144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1981440" cy="41148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203220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3221000">
            <a:off x="0" y="243756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971800" y="2438280"/>
            <a:ext cx="1454040" cy="163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410080" y="4419720"/>
            <a:ext cx="1824120" cy="141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334120" y="2819520"/>
            <a:ext cx="1655640" cy="144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7467480" y="3809880"/>
            <a:ext cx="1295640" cy="132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7391520" y="2286000"/>
            <a:ext cx="1414440" cy="131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1981080"/>
            <a:ext cx="2286000" cy="4114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628640" cy="9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447920" y="4419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91120" y="4343400"/>
            <a:ext cx="1692000" cy="164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400800" y="1676520"/>
            <a:ext cx="17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2133720" cy="2743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 K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 G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66880" y="2971800"/>
            <a:ext cx="2819520" cy="2743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Toil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 bist d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971800"/>
            <a:ext cx="3124080" cy="2743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Bade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Ess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Schlaf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m Wohnzi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362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bin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 bin 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1628640" cy="933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7920" y="4419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324480" y="34290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191120" y="4343400"/>
            <a:ext cx="169200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00800" y="1676520"/>
            <a:ext cx="17794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301760" cy="1300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2362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say what you do in each roo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267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this lesson,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ble to put the words into the correct or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05:22Z</dcterms:created>
  <dc:creator>eleanor2</dc:creator>
  <dc:description/>
  <dc:language>en-US</dc:language>
  <cp:lastModifiedBy>PSeccombe</cp:lastModifiedBy>
  <dcterms:modified xsi:type="dcterms:W3CDTF">2004-05-12T11:40:02Z</dcterms:modified>
  <cp:revision>12</cp:revision>
  <dc:subject/>
  <dc:title>Mein Haus</dc:title>
</cp:coreProperties>
</file>