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gif" ContentType="image/gif"/>
  <Override PartName="/ppt/media/image7.wmf" ContentType="image/x-wmf"/>
  <Override PartName="/ppt/media/image5.gif" ContentType="image/gi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FAF-0E53-45DB-A792-21C7D767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10C-C85F-458E-9979-5BAFD9EB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3A5-528D-4607-A972-22F3825E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D85D-86FF-4632-982B-6E772619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BCD-7846-469E-B212-629F0D1B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FF8-F1C2-4250-B464-066C5DA0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C9B-B2E3-4854-B196-0F7816B4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2B2-8AE5-40F8-ADC3-631ADCBF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BB6-51C9-4802-AEA8-D450DAC0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609-AF66-4CF8-8BEE-3898001F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CA3-C4E9-4E59-B8C8-CCC2B6EB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EF3-BBA3-4345-95FB-EE598573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26F5-E044-48D0-9661-37B0A98A68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 helfe i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end of the lesson you will be able to understand how to say some household chores in Ge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end of the lesson you should be able to say what you do to help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4419720"/>
            <a:ext cx="2206800" cy="127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19920" y="4352760"/>
            <a:ext cx="144756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 helfe i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15238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3000" y="380880"/>
            <a:ext cx="1006560" cy="1222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391520" y="304920"/>
            <a:ext cx="1295280" cy="1181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2133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aufen g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819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Auto wa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Bett m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40384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in Zimm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u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ü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5638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ock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6095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Garten arb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2133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o c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2743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o work in the g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3276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o go sh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3962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o tidy my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4572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o wash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5105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o make the 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o dry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o wash the 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362320"/>
            <a:ext cx="266688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3124080"/>
            <a:ext cx="2438640" cy="320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733920"/>
            <a:ext cx="266688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4267080"/>
            <a:ext cx="1828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95288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429000" y="2437920"/>
            <a:ext cx="1752480" cy="251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09680" y="4800240"/>
            <a:ext cx="32004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5867280"/>
            <a:ext cx="3048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048120" y="3047760"/>
            <a:ext cx="2209680" cy="32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 helfe i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as machst du zu Ha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1020960" cy="1036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562720" y="2743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ch wasche das 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666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das Auto wa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1828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1905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19810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438280"/>
            <a:ext cx="8610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19051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839080" y="19051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429000"/>
            <a:ext cx="8610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919440" cy="96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057400" y="3657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0000"/>
                </a:solidFill>
                <a:uFillTx/>
                <a:latin typeface="Times New Roman"/>
              </a:rPr>
              <a:t>ein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kaufen g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3581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ch gehe einkau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495680"/>
            <a:ext cx="8610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4:59:41Z</dcterms:created>
  <dc:creator>Miss E Abrahams</dc:creator>
  <dc:description/>
  <dc:language>en-US</dc:language>
  <cp:lastModifiedBy>PSeccombe</cp:lastModifiedBy>
  <dcterms:modified xsi:type="dcterms:W3CDTF">2004-05-12T11:40:58Z</dcterms:modified>
  <cp:revision>6</cp:revision>
  <dc:subject/>
  <dc:title>So helfe ich</dc:title>
</cp:coreProperties>
</file>