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E36-6B6A-4DD9-B338-C918AEFB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A70-AC34-4184-987A-74BDA62D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A6A-2277-4CB2-8F9A-AEBF997C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5B8-0914-4C3D-A2A3-354B6E00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221-E17A-4572-8B0E-15B9A2C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584-9AD6-4C61-99FB-85928D9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838-FA9D-49CF-903E-31A60A3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5C2-B745-4B0C-898C-381E554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AEC-50B2-4550-9A45-F4022F6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FDB-EDA6-4826-ABC2-2B31DC4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17A-EB5D-4F88-8ACF-F77EA40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1C1-DB78-487C-825F-513C336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1F0-7341-47CC-9EB6-CA14CEFBC6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 helfe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e lesson you will be able to understand how to say some household chores in Ge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e lesson you should be able to say what you do to help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220680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19920" y="4352760"/>
            <a:ext cx="144756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 helfe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1006560" cy="122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304920"/>
            <a:ext cx="1295280" cy="1181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2133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ufen g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Auto wa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Bett m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0384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in 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ü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ock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095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Garten 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work in th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go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962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tidy m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was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make the 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dry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wash the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362320"/>
            <a:ext cx="266688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124080"/>
            <a:ext cx="2438640" cy="320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733920"/>
            <a:ext cx="266688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26708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9528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29000" y="2437920"/>
            <a:ext cx="175248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4800240"/>
            <a:ext cx="32004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586728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48120" y="3047760"/>
            <a:ext cx="2209680" cy="32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 helfe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s machst du zu Ha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1020960" cy="1036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h wasche das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666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as Auto wa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1828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1905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4382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83908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42900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919440" cy="96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5740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ein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kaufen g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h gehe ein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4956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4:59:41Z</dcterms:created>
  <dc:creator>Miss E Abrahams</dc:creator>
  <dc:description/>
  <dc:language>en-US</dc:language>
  <cp:lastModifiedBy>PSeccombe</cp:lastModifiedBy>
  <dcterms:modified xsi:type="dcterms:W3CDTF">2004-05-12T11:40:58Z</dcterms:modified>
  <cp:revision>6</cp:revision>
  <dc:subject/>
  <dc:title>So helfe ich</dc:title>
</cp:coreProperties>
</file>