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85B-B9FA-4C97-ACE9-74EF1ADB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0A5-1E3A-47B4-BF2D-992215D4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673-33FE-4660-9314-1AA6FA6A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230-281E-488A-AE6F-FABE6BBF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43F-6D0B-4DBE-A46F-3D0FF8A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1E4-2F24-41CC-BA51-681C60D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629-4A9E-4DC5-9FD8-F8EFA4D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A1E-EBEF-48B8-903A-DCEE2DCC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242-5AE7-4D1B-97B6-A3DA1E35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176-F2B1-477C-9510-8EE490B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543-6D87-4B8B-B834-8D07480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459-D11E-4EBB-BD24-23DFAA0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D4F-E20A-415D-A128-CA75BB8987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E79-817C-4B11-8063-3D5462499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960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6640" y="1752480"/>
            <a:ext cx="6836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Christm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orating tradition h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read all ove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1792080" cy="2405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8760" y="365760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Christmas tre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8600" y="312408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name of Germ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5360" y="3429000"/>
            <a:ext cx="503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a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46400" y="914400"/>
            <a:ext cx="245448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7600" y="3200400"/>
            <a:ext cx="810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 of these large mounta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located in southe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7960" y="358128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the Al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2833920" cy="281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7040" y="3124080"/>
            <a:ext cx="700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e color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fla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0" y="3505320"/>
            <a:ext cx="84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black, red, and gold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66880" y="846000"/>
            <a:ext cx="3384720" cy="220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3429000"/>
            <a:ext cx="744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capital of Germany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880" y="3352680"/>
            <a:ext cx="427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Berl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743200" cy="181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2160" y="3124080"/>
            <a:ext cx="8835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brothers collected Ger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ry Tales like Hansel &amp; Grete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now Whi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200" y="2971800"/>
            <a:ext cx="80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 is  on this contin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3623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Euro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040" y="3124080"/>
            <a:ext cx="761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fast food was inven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German city which g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 it’s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657600"/>
            <a:ext cx="651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hamburger?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2501640" cy="25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6440" y="2743200"/>
            <a:ext cx="885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ate in Berlin is a symbol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ity and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3160" y="3505320"/>
            <a:ext cx="869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randenburg Gat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674960" cy="315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9240" y="3124080"/>
            <a:ext cx="707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wall  used to separ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st and West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00" y="3124080"/>
            <a:ext cx="75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rlin Wal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6035760" cy="3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6000" y="3048120"/>
            <a:ext cx="647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populatio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8560" y="441972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80 million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332240" cy="346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640" y="3200400"/>
            <a:ext cx="824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the Brothers Grim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978280" cy="259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9400" y="2819520"/>
            <a:ext cx="625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biscu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ttle and twisted wi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salted sur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4440" y="3276720"/>
            <a:ext cx="49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a pretz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942840" cy="636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279800" cy="12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048120"/>
            <a:ext cx="84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children begin to m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choice by age 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9040" y="3429000"/>
            <a:ext cx="677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reer choi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2535120" cy="255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2376360" cy="234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98560" y="487692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400" y="3048120"/>
            <a:ext cx="73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language sp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4640" y="320040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Germ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08240" y="685800"/>
            <a:ext cx="2067120" cy="23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080" y="3276720"/>
            <a:ext cx="8224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imepieces that l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bird houses were inven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erman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360" y="3429000"/>
            <a:ext cx="666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uckoo clock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14760" y="762120"/>
            <a:ext cx="2306520" cy="267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6800" y="3048120"/>
            <a:ext cx="730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two automobiles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ufactured 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5880" y="2895480"/>
            <a:ext cx="673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Mercedes Ben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Volkswag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2293920" cy="1139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52880" y="1590840"/>
            <a:ext cx="2667240" cy="85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6720" y="23623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urists come to see these hu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dieval building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36080" y="3429000"/>
            <a:ext cx="63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most fam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est  in 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0920" y="3809880"/>
            <a:ext cx="69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lack Fores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4844880" cy="291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4880" y="3505320"/>
            <a:ext cx="70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Germany’s  tw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in relig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6640" y="3276720"/>
            <a:ext cx="678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Protestant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man Catholic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1889280" cy="1874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192564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560" y="3124080"/>
            <a:ext cx="879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the most popular sport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8960" y="3276720"/>
            <a:ext cx="42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occ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415960" cy="240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720" y="2971800"/>
            <a:ext cx="763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German educator crea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word that mean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rden of children”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5880" y="3200400"/>
            <a:ext cx="607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kindergart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030480" cy="1803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2636640" cy="1155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62120" y="1173240"/>
            <a:ext cx="1711080" cy="1542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12076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6280" y="297180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German game who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“it” has to bang a spo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the floor and look for a p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2240" y="3200400"/>
            <a:ext cx="549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Hit the Po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9480" y="35812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cast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3308400" cy="289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720" y="1447920"/>
            <a:ext cx="866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German game “it” hid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other children find “it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ide with him.  The la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erson to find the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the los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3080" y="3581280"/>
            <a:ext cx="492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Sardin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567160" cy="20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2120" y="2895480"/>
            <a:ext cx="84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German composer was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fted  pianist who wro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mous symphonies and oper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0440" y="3505320"/>
            <a:ext cx="841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is Ludwig van Beethov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430520" cy="346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9800" y="2895480"/>
            <a:ext cx="62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se are three fam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rman  f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94880" y="2743200"/>
            <a:ext cx="581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sauerkra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ankfurters,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us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2330280" cy="231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CSeccombe</cp:lastModifiedBy>
  <dcterms:modified xsi:type="dcterms:W3CDTF">2005-04-05T13:36:35Z</dcterms:modified>
  <cp:revision>81</cp:revision>
  <dc:subject/>
  <dc:title>Blank Jeopardy</dc:title>
</cp:coreProperties>
</file>