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9.jpeg" ContentType="image/jpeg"/>
  <Override PartName="/ppt/media/image23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66B-2F68-4753-A3B1-3B292469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3FB3-081F-47DC-9759-05F027BF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8650-590B-498D-ABA6-5E80CB70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2DC-0FDA-4763-A790-89150ED9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C44-6118-442B-A7B4-924C3043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84C-66F4-4DBA-BF81-598F6378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340B-8780-4C79-AC02-644BE16A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65F-2BC3-4052-8EDA-B163624B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47AE-A1D5-4561-AA4F-EEFD3199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634-AB1D-4AF9-A883-629A2077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CE1C-2837-4519-97D7-51E36776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7C75-430C-49F1-87E1-B2DC396D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2F65-E3A4-4702-B275-3965F707139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1A6B-E9E6-4908-91C7-F6739832C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3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4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7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8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9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0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3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4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5960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16640" y="1752480"/>
            <a:ext cx="6836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German Christm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orating tradition h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pread all over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33920" y="457200"/>
            <a:ext cx="1792080" cy="2405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28760" y="3657600"/>
            <a:ext cx="749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Christmas tre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8600" y="3124080"/>
            <a:ext cx="75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name of Germa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ne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5360" y="3429000"/>
            <a:ext cx="503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mark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46400" y="914400"/>
            <a:ext cx="245448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67600" y="3200400"/>
            <a:ext cx="810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 of these large mountai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located in souther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rma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7960" y="3581280"/>
            <a:ext cx="52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the Alp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2833920" cy="2817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87040" y="3124080"/>
            <a:ext cx="700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are the colors of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rman fla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0" y="3505320"/>
            <a:ext cx="840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black, red, and gold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666880" y="846000"/>
            <a:ext cx="3384720" cy="220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8120" y="3429000"/>
            <a:ext cx="744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capital of Germany.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5880" y="3352680"/>
            <a:ext cx="427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Berl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2743200" cy="1812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2160" y="3124080"/>
            <a:ext cx="8835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brothers collected Germ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iry Tales like Hansel &amp; Grete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now Whi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5200" y="2971800"/>
            <a:ext cx="800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rmany is  on this contin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36232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Europ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6040" y="3124080"/>
            <a:ext cx="761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fast food was inven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a German city which ga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t’s n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657600"/>
            <a:ext cx="651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hamburger?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2501640" cy="2590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46440" y="2743200"/>
            <a:ext cx="8850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gate in Berlin is a symbol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city and Germa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3160" y="3505320"/>
            <a:ext cx="869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Brandenburg Gat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674960" cy="3152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9240" y="3124080"/>
            <a:ext cx="7073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wall  used to separ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st and West Germa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200" y="3124080"/>
            <a:ext cx="756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Berlin Wal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00200" y="2514600"/>
            <a:ext cx="6035760" cy="3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6000" y="3048120"/>
            <a:ext cx="647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population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rma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8560" y="4419720"/>
            <a:ext cx="539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80 million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332240" cy="346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640" y="3200400"/>
            <a:ext cx="824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are the Brothers Grim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2978280" cy="259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39400" y="2819520"/>
            <a:ext cx="625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German biscuit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rittle and twisted wi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salted surf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4440" y="3276720"/>
            <a:ext cx="490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a pretze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942840" cy="636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581280" y="1905120"/>
            <a:ext cx="1279800" cy="12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3048120"/>
            <a:ext cx="848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rman children begin to ma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choice by age t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39040" y="3429000"/>
            <a:ext cx="677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career choic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2535120" cy="2554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48320" y="685800"/>
            <a:ext cx="2376360" cy="234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98560" y="487692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6400" y="3048120"/>
            <a:ext cx="732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language spok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Germa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4640" y="3200400"/>
            <a:ext cx="481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Germa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108240" y="685800"/>
            <a:ext cx="2067120" cy="233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1080" y="3276720"/>
            <a:ext cx="8224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timepieces that look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bird houses were invent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Germany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3360" y="3429000"/>
            <a:ext cx="666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cuckoo clock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714760" y="762120"/>
            <a:ext cx="2306520" cy="2676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6800" y="3048120"/>
            <a:ext cx="7306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two automobiles 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nufactured in Germa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5880" y="2895480"/>
            <a:ext cx="6737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Mercedes Ben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Volkswage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2293920" cy="1139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952880" y="1590840"/>
            <a:ext cx="2667240" cy="855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6720" y="2362320"/>
            <a:ext cx="8327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urists come to see these hu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dieval building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36080" y="3429000"/>
            <a:ext cx="631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most famo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est  in Germa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0920" y="3809880"/>
            <a:ext cx="69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Black Fores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4844880" cy="291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4880" y="3505320"/>
            <a:ext cx="702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are Germany’s  tw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in relig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6640" y="3276720"/>
            <a:ext cx="678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Protestant a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oman Catholic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1889280" cy="18748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133720" y="762120"/>
            <a:ext cx="1925640" cy="2522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0560" y="3124080"/>
            <a:ext cx="879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most popular sport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rma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8960" y="3276720"/>
            <a:ext cx="428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socc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415960" cy="2408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720" y="2971800"/>
            <a:ext cx="763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German educator creat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word that mean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arden of children”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5880" y="3200400"/>
            <a:ext cx="607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kindergarte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3030480" cy="18032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2636640" cy="11556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762120" y="1173240"/>
            <a:ext cx="1711080" cy="1542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705720" y="380880"/>
            <a:ext cx="2120760" cy="130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6280" y="2971800"/>
            <a:ext cx="813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is German game whoe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“it” has to bang a spo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floor and look for a po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52240" y="3200400"/>
            <a:ext cx="549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Hit the Po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99480" y="3581280"/>
            <a:ext cx="47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castl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3308400" cy="2898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7720" y="1447920"/>
            <a:ext cx="8663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is German game “it” hide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other children find “it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ide with him.  The la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erson to find the gro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the los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3080" y="3581280"/>
            <a:ext cx="492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Sardin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2567160" cy="200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2120" y="2895480"/>
            <a:ext cx="844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German composer was 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fted  pianist who wrot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mous symphonies and oper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0440" y="3505320"/>
            <a:ext cx="841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is Ludwig van Beethove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4430520" cy="346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69800" y="2895480"/>
            <a:ext cx="626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are three famo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rman  foo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94880" y="2743200"/>
            <a:ext cx="581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sauerkrau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ankfurters, a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usag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05320" y="533520"/>
            <a:ext cx="2330280" cy="231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CSeccombe</cp:lastModifiedBy>
  <dcterms:modified xsi:type="dcterms:W3CDTF">2005-04-05T13:36:35Z</dcterms:modified>
  <cp:revision>81</cp:revision>
  <dc:subject/>
  <dc:title>Blank Jeopardy</dc:title>
</cp:coreProperties>
</file>