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FD8-BB35-4471-A52F-7AD3F5C2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A24-34FC-4E7C-A8B9-9050C8C3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30D-3935-4929-89EC-090ED773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A47-8391-47C3-98B9-AF2D7B38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D51-6C7D-469C-80DA-3FA66FD2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613-203F-40E0-8E7D-8D4FFABA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669-9A2D-41A4-BF02-74A90EA3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4CD-0AC5-4EF6-892D-4D69603A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D95-C138-4F59-AD77-1BCE3A45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A11-783E-46F8-BF59-45D9A8EF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276-643B-4586-98C0-44C630DB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A2C-30EF-42A9-B125-0DE49E67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C18F-8B39-46E5-BB4A-78B803E605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62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i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Umwel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7815_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692360" cy="1731960"/>
          </a:xfrm>
          <a:prstGeom prst="rect">
            <a:avLst/>
          </a:prstGeom>
          <a:ln w="0">
            <a:noFill/>
          </a:ln>
        </p:spPr>
      </p:pic>
      <p:pic>
        <p:nvPicPr>
          <p:cNvPr id="43" name="MP00646_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1474560" cy="1386000"/>
          </a:xfrm>
          <a:prstGeom prst="rect">
            <a:avLst/>
          </a:prstGeom>
          <a:ln w="0">
            <a:noFill/>
          </a:ln>
        </p:spPr>
      </p:pic>
      <p:pic>
        <p:nvPicPr>
          <p:cNvPr id="44" name="BD06482_" descr=""/>
          <p:cNvPicPr/>
          <p:nvPr/>
        </p:nvPicPr>
        <p:blipFill>
          <a:blip r:embed="rId3"/>
          <a:stretch/>
        </p:blipFill>
        <p:spPr>
          <a:xfrm>
            <a:off x="762120" y="685800"/>
            <a:ext cx="18018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62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Proble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11970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44792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" y="4952880"/>
            <a:ext cx="119052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562720" y="2057400"/>
            <a:ext cx="815760" cy="105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181480" y="3276720"/>
            <a:ext cx="1459080" cy="1376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410080" y="4952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81080" y="19810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 wird weggewor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3581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e Abgase sti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5181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Ozonloch ist 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21337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e Wälder ste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3657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 gibt zu viel Mü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105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Wasser ist schmutz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könn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u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620640" cy="182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838080" cy="68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3520" y="4724280"/>
            <a:ext cx="1288800" cy="1227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638680" y="1981080"/>
            <a:ext cx="1177920" cy="1013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57800" y="3200400"/>
            <a:ext cx="137160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562720" y="4876920"/>
            <a:ext cx="1218960" cy="99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62320" y="2590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 und Papier recyce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raydosen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2133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chter ausm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4290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in 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10280" y="4876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iktüten nicht benu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as bringt d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P00646_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1474560" cy="1386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733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Eine bessere Welt für uns all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20:40:43Z</dcterms:created>
  <dc:creator>Graeme Butterfield</dc:creator>
  <dc:description/>
  <dc:language>en-US</dc:language>
  <cp:lastModifiedBy>CSeccombe</cp:lastModifiedBy>
  <dcterms:modified xsi:type="dcterms:W3CDTF">2006-03-13T20:28:35Z</dcterms:modified>
  <cp:revision>2</cp:revision>
  <dc:subject/>
  <dc:title>PowerPoint Presentation</dc:title>
</cp:coreProperties>
</file>