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055-556A-41D6-AB0F-DE29AFAD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BDD-924D-4D14-A21E-B220B4C0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B48-E85F-42AD-9EFC-183C8991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C70-4AD1-42BF-80FC-3A36FDFA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046-26A2-4345-9D2E-D15D22BB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F60-97DC-41E6-9AE4-A6A202F0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B5F-95DE-4A9E-97AB-DDBDE3AD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BA2-602F-451A-9C4B-30B339BD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684-D9A0-4E2C-A9A3-2A56CD2E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B2E-8FD3-44F3-B9D1-ABA1964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38F-489C-490C-8086-2319977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D1E-07E3-46A8-91C7-A21B1F8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4934-3DE0-416F-BCAC-59FD70500A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62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i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Umwel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7815_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692360" cy="1731960"/>
          </a:xfrm>
          <a:prstGeom prst="rect">
            <a:avLst/>
          </a:prstGeom>
          <a:ln w="0">
            <a:noFill/>
          </a:ln>
        </p:spPr>
      </p:pic>
      <p:pic>
        <p:nvPicPr>
          <p:cNvPr id="43" name="MP00646_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1474560" cy="1386000"/>
          </a:xfrm>
          <a:prstGeom prst="rect">
            <a:avLst/>
          </a:prstGeom>
          <a:ln w="0">
            <a:noFill/>
          </a:ln>
        </p:spPr>
      </p:pic>
      <p:pic>
        <p:nvPicPr>
          <p:cNvPr id="44" name="BD06482_" descr=""/>
          <p:cNvPicPr/>
          <p:nvPr/>
        </p:nvPicPr>
        <p:blipFill>
          <a:blip r:embed="rId3"/>
          <a:stretch/>
        </p:blipFill>
        <p:spPr>
          <a:xfrm>
            <a:off x="762120" y="685800"/>
            <a:ext cx="18018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62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Proble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11970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44792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" y="4952880"/>
            <a:ext cx="119052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562720" y="2057400"/>
            <a:ext cx="815760" cy="105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181480" y="3276720"/>
            <a:ext cx="1459080" cy="1376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410080" y="4952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81080" y="19810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 wird weggewor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3581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e Abgase sti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5181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Ozonloch ist 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21337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e Wälder ste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3657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 gibt zu viel Mü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51055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s Wasser ist schmutz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könn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u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620640" cy="182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838080" cy="689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3520" y="4724280"/>
            <a:ext cx="1288800" cy="1227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638680" y="1981080"/>
            <a:ext cx="1177920" cy="1013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57800" y="3200400"/>
            <a:ext cx="137160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562720" y="4876920"/>
            <a:ext cx="1218960" cy="993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62320" y="2590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 und Papier recyce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raydosen verm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2133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chter ausm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34290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in 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10280" y="4876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iktüten nicht benu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as bringt d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P00646_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1474560" cy="1386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733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Eine bessere Welt für uns all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20:40:43Z</dcterms:created>
  <dc:creator>Graeme Butterfield</dc:creator>
  <dc:description/>
  <dc:language>en-US</dc:language>
  <cp:lastModifiedBy>CSeccombe</cp:lastModifiedBy>
  <dcterms:modified xsi:type="dcterms:W3CDTF">2006-03-13T20:28:35Z</dcterms:modified>
  <cp:revision>2</cp:revision>
  <dc:subject/>
  <dc:title>PowerPoint Presentation</dc:title>
</cp:coreProperties>
</file>