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9.wmf" ContentType="image/x-wmf"/>
  <Override PartName="/ppt/media/image16.png" ContentType="image/png"/>
  <Override PartName="/ppt/media/image14.wmf" ContentType="image/x-wmf"/>
  <Override PartName="/ppt/media/image1.wmf" ContentType="image/x-wmf"/>
  <Override PartName="/ppt/media/image2.wmf" ContentType="image/x-wmf"/>
  <Override PartName="/ppt/media/image15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2.jpeg" ContentType="image/jpeg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ED46-E40A-4685-8D20-8259CE129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2A3F-1FF1-4CD9-B378-FB29CB459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6BB8-D207-4095-B695-A4CDE22DB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8B71-FECB-49DA-AFB4-9B060FB78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9E6F-6AF4-4E41-BC0A-D572198AA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67A9-BC95-45B1-995B-B3517A4CA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A178-7A66-4543-84B1-42D89CA89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C907-50C9-4D3F-9741-37001E3B7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67F4-CD44-4AA7-AD65-8CFA390CE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E568-9E4E-45AA-9D75-5DD1DC67F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56C5-4306-4E0B-B83C-DA7E4ED18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8B14-D871-4A9B-9C38-43D7D7D81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A67CC-7D41-4441-B6B0-01BCC0C560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hyperlink" Target="http://www.sunderlandschools.org/mfl-sunderland" TargetMode="External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8.jpeg"/><Relationship Id="rId3" Type="http://schemas.openxmlformats.org/officeDocument/2006/relationships/image" Target="../media/image7.wmf"/><Relationship Id="rId4" Type="http://schemas.openxmlformats.org/officeDocument/2006/relationships/image" Target="../media/image5.wmf"/><Relationship Id="rId5" Type="http://schemas.openxmlformats.org/officeDocument/2006/relationships/image" Target="../media/image3.wmf"/><Relationship Id="rId6" Type="http://schemas.openxmlformats.org/officeDocument/2006/relationships/image" Target="../media/image9.wmf"/><Relationship Id="rId7" Type="http://schemas.openxmlformats.org/officeDocument/2006/relationships/image" Target="../media/image6.wmf"/><Relationship Id="rId8" Type="http://schemas.openxmlformats.org/officeDocument/2006/relationships/image" Target="../media/image2.wmf"/><Relationship Id="rId9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jpeg"/><Relationship Id="rId4" Type="http://schemas.openxmlformats.org/officeDocument/2006/relationships/image" Target="../media/image13.wmf"/><Relationship Id="rId5" Type="http://schemas.openxmlformats.org/officeDocument/2006/relationships/image" Target="../media/image14.wmf"/><Relationship Id="rId6" Type="http://schemas.openxmlformats.org/officeDocument/2006/relationships/image" Target="../media/image15.jpe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Umweltproble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492280"/>
            <a:ext cx="6400800" cy="314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916360" y="2637000"/>
            <a:ext cx="3456000" cy="3456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317840" y="6643800"/>
            <a:ext cx="482616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</a:rPr>
              <a:t>©MFL Sunderland 2008 MC </a:t>
            </a:r>
            <a:r>
              <a:rPr b="0" lang="en-US" sz="800" spc="-1" strike="noStrike" u="sng">
                <a:solidFill>
                  <a:srgbClr val="009999"/>
                </a:solidFill>
                <a:uFillTx/>
                <a:latin typeface="Arial Rounded MT Bold"/>
                <a:hlinkClick r:id="rId2"/>
              </a:rPr>
              <a:t>http://www.sunderlandschools.org/mfl-sunderland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 Rounded MT Bold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(der) Treibhauseffek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700360" y="2205000"/>
            <a:ext cx="388764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84360" y="189000"/>
            <a:ext cx="1792080" cy="19047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3348000" y="333360"/>
            <a:ext cx="2664000" cy="17096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6804000" y="189000"/>
            <a:ext cx="2089080" cy="19447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611280" y="2421000"/>
            <a:ext cx="1846080" cy="19429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3851280" y="2492280"/>
            <a:ext cx="1871640" cy="1871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7020000" y="2492280"/>
            <a:ext cx="1728720" cy="17287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7"/>
          <a:stretch/>
        </p:blipFill>
        <p:spPr>
          <a:xfrm>
            <a:off x="611280" y="4834080"/>
            <a:ext cx="2232000" cy="1693800"/>
          </a:xfrm>
          <a:prstGeom prst="rect">
            <a:avLst/>
          </a:prstGeom>
          <a:ln w="0">
            <a:noFill/>
          </a:ln>
        </p:spPr>
      </p:pic>
      <p:sp>
        <p:nvSpPr>
          <p:cNvPr id="70" name="Cloud"/>
          <p:cNvSpPr/>
          <p:nvPr/>
        </p:nvSpPr>
        <p:spPr>
          <a:xfrm>
            <a:off x="3780000" y="5013360"/>
            <a:ext cx="2087280" cy="144000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8"/>
          <a:stretch/>
        </p:blipFill>
        <p:spPr>
          <a:xfrm>
            <a:off x="7056360" y="4724280"/>
            <a:ext cx="162108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as machst du, um der Umwelt zu helf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79280" y="1125000"/>
            <a:ext cx="89647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Ich verwerte wieder Papier in der Schu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Ich mache nicht viel zu Hause, weil/da es nicht viele Umweltcontainer hier gib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Ich mache/schalte die Lichter/das Fernsehlicht aus, wenn ich ein Zimmer verlas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Ich kaufe umweltfreundliche Waren/Produk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Meine Eltern haben kein Vierradantrieb-Au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Wir putzen nicht oft das Au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Wir duschen</a:t>
            </a:r>
            <a:r>
              <a:rPr b="0" lang="fr-FR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(uns)</a:t>
            </a:r>
            <a:r>
              <a:rPr b="0" lang="fr-FR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und sparen dadurch</a:t>
            </a:r>
            <a:r>
              <a:rPr b="0" lang="fr-FR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das</a:t>
            </a:r>
            <a:r>
              <a:rPr b="0" lang="fr-FR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Wass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8459640" y="2276640"/>
            <a:ext cx="270000" cy="4316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7380360" y="5013360"/>
            <a:ext cx="490320" cy="5238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7885080" y="1052640"/>
            <a:ext cx="525600" cy="6793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6156360" y="4921200"/>
            <a:ext cx="792000" cy="6714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5"/>
          <a:stretch/>
        </p:blipFill>
        <p:spPr>
          <a:xfrm>
            <a:off x="8028000" y="4508640"/>
            <a:ext cx="895320" cy="6490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6"/>
          <a:stretch/>
        </p:blipFill>
        <p:spPr>
          <a:xfrm>
            <a:off x="8459640" y="3429000"/>
            <a:ext cx="541440" cy="4730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7"/>
          <a:stretch/>
        </p:blipFill>
        <p:spPr>
          <a:xfrm>
            <a:off x="8405640" y="189000"/>
            <a:ext cx="73836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fossile Brennstoff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475000" y="1700280"/>
            <a:ext cx="414972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(die) Seeverschmutzu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627280" y="2205000"/>
            <a:ext cx="367200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(die) Entwaldu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333520" y="1484280"/>
            <a:ext cx="406584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der saure Re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585880" y="1773360"/>
            <a:ext cx="41040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77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" dur="770" fill="hold"/>
                                        <p:tgtEl>
                                          <p:spTgt spid="5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5" dur="77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" dur="77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(die) Autoabg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195640" y="2060640"/>
            <a:ext cx="4752720" cy="36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(das) Ozonlo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441520" y="1773360"/>
            <a:ext cx="445788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(die) Luftverschmutzu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602360" y="2659320"/>
            <a:ext cx="5376240" cy="2270880"/>
          </a:xfrm>
          <a:prstGeom prst="rect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(die) Desertifik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547640" y="2133720"/>
            <a:ext cx="583272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7T13:04:02Z</dcterms:created>
  <dc:creator>user</dc:creator>
  <dc:description/>
  <dc:language>en-US</dc:language>
  <cp:lastModifiedBy>Clare</cp:lastModifiedBy>
  <dcterms:modified xsi:type="dcterms:W3CDTF">2008-09-07T20:17:32Z</dcterms:modified>
  <cp:revision>12</cp:revision>
  <dc:subject/>
  <dc:title>Les problèmes environmentaux</dc:title>
</cp:coreProperties>
</file>