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wmf" ContentType="image/x-wmf"/>
  <Override PartName="/ppt/media/image16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6693-233B-4739-94E3-81C54426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A31-A991-4E55-9FBE-F65B56F2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C4A3-617A-430E-A70B-EE36CA20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A2B1-4719-40E8-84FA-6C559849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F482-67E5-4D9C-8122-38EBE10E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E143-7F5D-43B0-9BF8-B2118B6E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9FB4-4891-43C5-A43A-20AF5A47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7636-F07F-4B03-B5F5-C5ADB8A5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F435-59EF-4547-BDB0-2C229098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6488-5AAB-4E80-B773-62A118EF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550-DED0-49C0-B85C-9D756A7C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F61A-DEDA-4EBA-8951-4719FDF8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744F-F57E-439B-9668-4C6682A01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jpeg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image" Target="../media/image3.wmf"/><Relationship Id="rId6" Type="http://schemas.openxmlformats.org/officeDocument/2006/relationships/image" Target="../media/image9.wmf"/><Relationship Id="rId7" Type="http://schemas.openxmlformats.org/officeDocument/2006/relationships/image" Target="../media/image6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Umweltprobl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17840" y="6643800"/>
            <a:ext cx="48261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8 MC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der) Treibhauseff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3887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1792080" cy="190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48000" y="333360"/>
            <a:ext cx="2664000" cy="1709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804000" y="189000"/>
            <a:ext cx="2089080" cy="1944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11280" y="2421000"/>
            <a:ext cx="1846080" cy="194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851280" y="2492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7020000" y="2492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611280" y="4834080"/>
            <a:ext cx="2232000" cy="1693800"/>
          </a:xfrm>
          <a:prstGeom prst="rect">
            <a:avLst/>
          </a:prstGeom>
          <a:ln w="0">
            <a:noFill/>
          </a:ln>
        </p:spPr>
      </p:pic>
      <p:sp>
        <p:nvSpPr>
          <p:cNvPr id="70" name="Cloud"/>
          <p:cNvSpPr/>
          <p:nvPr/>
        </p:nvSpPr>
        <p:spPr>
          <a:xfrm>
            <a:off x="3780000" y="5013360"/>
            <a:ext cx="2087280" cy="1440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7056360" y="4724280"/>
            <a:ext cx="1621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s machst du, um der Umwelt zu helf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ch verwerte wieder Papier in der Sch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ch mache nicht viel zu Hause, weil/da es nicht viele Umweltcontainer hier gib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ch mache/schalte die Lichter/das Fernsehlicht aus, wenn ich ein Zimmer ver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ch kaufe umweltfreundliche Waren/Produk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eine Eltern haben kein Vierradantrieb-Au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Wir putzen nicht oft das Au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Wir duschen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(uns)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nd sparen dadurch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as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Was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459640" y="2276640"/>
            <a:ext cx="270000" cy="431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380360" y="5013360"/>
            <a:ext cx="490320" cy="523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85080" y="1052640"/>
            <a:ext cx="525600" cy="679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156360" y="4921200"/>
            <a:ext cx="792000" cy="671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8028000" y="4508640"/>
            <a:ext cx="895320" cy="64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8459640" y="3429000"/>
            <a:ext cx="541440" cy="473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8405640" y="189000"/>
            <a:ext cx="73836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ssile Brennstof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75000" y="1700280"/>
            <a:ext cx="4149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die) Seeverschmutz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367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die) Entwald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33520" y="1484280"/>
            <a:ext cx="4065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r saure Re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85880" y="1773360"/>
            <a:ext cx="4104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die) Autoabg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75272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das) Ozonl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41520" y="1773360"/>
            <a:ext cx="4457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die) Luftverschmutz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02360" y="2659320"/>
            <a:ext cx="5376240" cy="2270880"/>
          </a:xfrm>
          <a:prstGeom prst="rect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die) Desertifik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832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3:04:02Z</dcterms:created>
  <dc:creator>user</dc:creator>
  <dc:description/>
  <dc:language>en-US</dc:language>
  <cp:lastModifiedBy>Clare</cp:lastModifiedBy>
  <dcterms:modified xsi:type="dcterms:W3CDTF">2008-09-07T20:17:32Z</dcterms:modified>
  <cp:revision>12</cp:revision>
  <dc:subject/>
  <dc:title>Les problèmes environmentaux</dc:title>
</cp:coreProperties>
</file>