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D7BA-5088-442E-A902-4B5C60D9C4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ng pong in pairs – each pupil says on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ng pong in pairs – each pupil says on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8E8-8BD0-4655-826E-3C3F6364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733-6BA1-44E6-8B3C-40520ED6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CEB-E3FD-48C2-A376-0964E43A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8E2-D59B-4996-82D6-5312ADE4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4A0-9E6F-4723-AA9E-331E160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56A-53BE-4D87-8F45-EF11F9D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272-3742-46DD-B6F7-F3AE511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B37-77F1-414A-8EBD-9FC0DFA3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758-5BE7-4BD3-A5D5-F01A02AA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839-121E-45D0-B36B-B4278A7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18F-396B-43C4-86BE-49A3EF5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670-034C-492C-9E92-7C51BFA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C93A-6974-45F5-9C51-F70C751E37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05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6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, und wir schauen uns in den Läden 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93080" y="5300640"/>
            <a:ext cx="172872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ook around 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221000"/>
            <a:ext cx="1800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ove Starb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2924280"/>
            <a:ext cx="1728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rink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1989000"/>
            <a:ext cx="1512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est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1125360"/>
            <a:ext cx="1512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very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1052640"/>
            <a:ext cx="38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1844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236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2360" y="386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328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jeden Samstag mit meiner besten Freundin Hannah in die Stadt, um einen Kaffee zu trinken, weil wir Starbucks lieben, und wir schauen uns in den Läden 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35800" y="5084640"/>
            <a:ext cx="808200" cy="101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85080" y="3860640"/>
            <a:ext cx="977760" cy="97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451640" y="2637000"/>
            <a:ext cx="1363680" cy="102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i 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1052640"/>
            <a:ext cx="38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i 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2360" y="1844640"/>
            <a:ext cx="8640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236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, u e K z 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360" y="386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, u e K z tr, w w S 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530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 g j S m m b F H i d S, u e K z t, w w S l, u w s u i d L u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1517400" cy="1078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380360" y="260280"/>
            <a:ext cx="1350720" cy="62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596360" y="907920"/>
            <a:ext cx="12333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35800" y="5084640"/>
            <a:ext cx="808200" cy="1014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885080" y="3860640"/>
            <a:ext cx="977760" cy="978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451640" y="2637000"/>
            <a:ext cx="1363680" cy="1022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1052640"/>
            <a:ext cx="38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1052640"/>
            <a:ext cx="547200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360" y="1844640"/>
            <a:ext cx="8640720" cy="457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236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2360" y="3860640"/>
            <a:ext cx="864072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3280" y="530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50920" y="1628640"/>
            <a:ext cx="1517400" cy="107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380360" y="260280"/>
            <a:ext cx="1350720" cy="628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596360" y="907920"/>
            <a:ext cx="12333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ins K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05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052640"/>
            <a:ext cx="5472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ins K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44640"/>
            <a:ext cx="8640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, um eine RomCom zu se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6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 um eine RomCom zu sehen, weil Komödien uns gefa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gehe einmal im Monat mit meiner Schwester ins Kino um eine RomCom zu sehen, weil Komödien uns gefallen und danach essen wir Piz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85080" y="333360"/>
            <a:ext cx="8668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4360" y="189000"/>
            <a:ext cx="33829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Go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105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052640"/>
            <a:ext cx="5904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Go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198900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it w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79640" y="2997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 ...z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429264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ar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558972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d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916280"/>
            <a:ext cx="86407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8136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, um fit zu blei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60640"/>
            <a:ext cx="864072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, um fit zu bleiben, weil wir Sport l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300640"/>
            <a:ext cx="86407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ch spiele am Wochenende mit meinem Vater Golf, um fit zu bleiben, weil wir Sport lieben und dann trinken wir ein C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6524640"/>
            <a:ext cx="7451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MFL Sunderland/AMIsaacs 2013 </a:t>
            </a:r>
            <a:r>
              <a:rPr b="0" lang="en-GB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0:20Z</dcterms:created>
  <dc:creator>newbod</dc:creator>
  <dc:description/>
  <dc:language>en-US</dc:language>
  <cp:lastModifiedBy>Clare</cp:lastModifiedBy>
  <dcterms:modified xsi:type="dcterms:W3CDTF">2013-05-14T09:08:51Z</dcterms:modified>
  <cp:revision>8</cp:revision>
  <dc:subject/>
  <dc:title>Slide 1</dc:title>
</cp:coreProperties>
</file>