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B288-1F10-4130-8BB4-CDCF38B6EA1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ing pong in pairs – each pupil says one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ing pong in pairs – each pupil says one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D48D-6F5C-4205-AF13-BCE21442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32F-438F-488A-9BA1-0E41770E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614-3F69-43EA-A591-59B0EA10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8E5-B66A-4947-B483-59282D4D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EAD-E298-450A-A340-D2E5128B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BD3-0E7F-4CA2-9888-239F60D7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34B-2B94-4B8D-A7F6-42F9E6A2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154-CBC7-4C88-8729-8F4C7426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1C6-CDF3-443C-9DE5-4985B3CE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389-557D-4D3F-9099-286FE500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9C8-4AA1-45AD-9294-FB75163A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D68-4E62-4EEE-9803-453EB83F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7B6A-F724-4DE4-A024-C36DC59A47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84360" y="189000"/>
            <a:ext cx="33829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in die Stad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105264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1052640"/>
            <a:ext cx="5472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in die Stad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198900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it w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997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m ...z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79640" y="429264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r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55897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nd d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4464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mit meiner besten Freundin Hannah in die Stad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78136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mit meiner besten Freundin Hannah in die Stadt, um einen Kaffee zu trin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860640"/>
            <a:ext cx="864072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mit meiner besten Freundin Hannah in die Stadt, um einen Kaffee zu trinken, weil wir Starbucks lie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5300640"/>
            <a:ext cx="864072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mit meiner besten Freundin Hannah in die Stadt, um einen Kaffee zu trinken, weil wir Starbucks lieben, und wir schauen uns in den Läden 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93080" y="5300640"/>
            <a:ext cx="172872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look around 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4221000"/>
            <a:ext cx="180000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love Starbu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2924280"/>
            <a:ext cx="17287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rink cof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6000" y="1989000"/>
            <a:ext cx="15127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best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1125360"/>
            <a:ext cx="15127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very 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89000"/>
            <a:ext cx="33829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in die Stad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1052640"/>
            <a:ext cx="38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1052640"/>
            <a:ext cx="5472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in die Stad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198900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it w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2997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m ...z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429264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r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55897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nd d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2360" y="184464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mit meiner besten Freundin Hannah in die Stad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2360" y="278136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mit meiner besten Freundin Hannah in die Stadt, um einen Kaffee zu trin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2360" y="3860640"/>
            <a:ext cx="864072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mit meiner besten Freundin Hannah in die Stadt, um einen Kaffee zu trinken, weil wir Starbucks lie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3280" y="5300640"/>
            <a:ext cx="864072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mit meiner besten Freundin Hannah in die Stadt, um einen Kaffee zu trinken, weil wir Starbucks lieben, und wir schauen uns in den Läden 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35800" y="5084640"/>
            <a:ext cx="808200" cy="1014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885080" y="3860640"/>
            <a:ext cx="977760" cy="978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451640" y="2637000"/>
            <a:ext cx="1363680" cy="1022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484360" y="189000"/>
            <a:ext cx="33829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 g i d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1052640"/>
            <a:ext cx="38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1052640"/>
            <a:ext cx="5472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 g j S i d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9640" y="198900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it w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2997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m ...z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429264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r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55897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nd d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2360" y="1844640"/>
            <a:ext cx="86407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 g j S m m b F H i d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2360" y="278136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 g j S m m b F H i d S, u e K z 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2360" y="386064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 g j S m m b F H i d S, u e K z tr, w w S l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3280" y="530064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 g j S m m b F H i d S, u e K z t, w w S l, u w s u i d L u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50920" y="1628640"/>
            <a:ext cx="1517400" cy="1078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7380360" y="260280"/>
            <a:ext cx="1350720" cy="62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7596360" y="907920"/>
            <a:ext cx="123336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35800" y="5084640"/>
            <a:ext cx="808200" cy="1014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885080" y="3860640"/>
            <a:ext cx="977760" cy="978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451640" y="2637000"/>
            <a:ext cx="1363680" cy="1022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84360" y="189000"/>
            <a:ext cx="33829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1052640"/>
            <a:ext cx="38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5280" y="1052640"/>
            <a:ext cx="5472000" cy="457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79640" y="198900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it w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2997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m ...z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29264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r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55897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nd d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2360" y="1844640"/>
            <a:ext cx="8640720" cy="457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2360" y="278136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2360" y="3860640"/>
            <a:ext cx="8640720" cy="101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3280" y="530064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50920" y="1628640"/>
            <a:ext cx="1517400" cy="1078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7380360" y="260280"/>
            <a:ext cx="1350720" cy="628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7596360" y="907920"/>
            <a:ext cx="123336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484360" y="189000"/>
            <a:ext cx="33829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ins K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05264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1052640"/>
            <a:ext cx="5472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einmal im Monat ins K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198900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it w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2997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m ...z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429264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r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55897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nd d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44640"/>
            <a:ext cx="86407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einmal im Monat mit meiner Schwester ins K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78136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einmal im Monat mit meiner Schwester ins Kino, um eine RomCom zu se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86064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einmal im Monat mit meiner Schwester ins Kino um eine RomCom zu sehen, weil Komödien uns gefal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5300640"/>
            <a:ext cx="864072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einmal im Monat mit meiner Schwester ins Kino um eine RomCom zu sehen, weil Komödien uns gefallen und danach essen wir Piz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885080" y="333360"/>
            <a:ext cx="8668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84360" y="189000"/>
            <a:ext cx="33829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spiele Go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79640" y="105264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1052640"/>
            <a:ext cx="5904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spiele am Wochenende Go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79640" y="198900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it w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79640" y="2997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m ...z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79640" y="429264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r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55897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nd d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916280"/>
            <a:ext cx="86407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spiele am Wochenende mit meinem Vater Go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78136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spiele am Wochenende mit meinem Vater Golf, um fit zu blei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86064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spiele am Wochenende mit meinem Vater Golf, um fit zu bleiben, weil wir Sport li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5300640"/>
            <a:ext cx="864072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spiele am Wochenende mit meinem Vater Golf, um fit zu bleiben, weil wir Sport lieben und dann trinken wir ein C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6524640"/>
            <a:ext cx="7451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/AMIsaacs 2013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7:30:20Z</dcterms:created>
  <dc:creator>newbod</dc:creator>
  <dc:description/>
  <dc:language>en-US</dc:language>
  <cp:lastModifiedBy>Clare</cp:lastModifiedBy>
  <dcterms:modified xsi:type="dcterms:W3CDTF">2013-05-14T09:08:51Z</dcterms:modified>
  <cp:revision>8</cp:revision>
  <dc:subject/>
  <dc:title>Slide 1</dc:title>
</cp:coreProperties>
</file>