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B5A0-36D5-4366-9193-C852D9296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36B4-75C7-40E4-82F1-8ECB86969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5738-22BC-465A-A4C9-016C63A9D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AC01-194D-4BA3-A815-53FCCF82A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E955-F598-4D33-B767-C9B256367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48A1-0632-4AA4-8E99-C97BDEA8E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04A2-D248-46F9-8159-9CD336EBB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32CE-2108-46F1-B2E6-75E52B4A3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FBA0-B181-4626-8129-A41E5A6D8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CF9D-9592-4A7C-AD96-729624F6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EBE7-8039-443F-8A1A-3C52E75B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0D7F-63BD-485B-9E24-C86E9E5E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9C0F0-D040-43EB-9957-9723CA3CE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90792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vision Starter 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133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will help you to revise for the reading pap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6643800"/>
            <a:ext cx="860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©MFL Sunderland 2009 SR/CS </a:t>
            </a:r>
            <a:r>
              <a:rPr b="0" lang="en-GB" sz="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underlandschools.org/mfl-sunder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82692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Elephant"/>
              </a:rPr>
              <a:t>9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71640" y="4437000"/>
            <a:ext cx="756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For whom does Dany-Mode sell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clothes ?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00000" y="170028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00000" y="234936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04360" y="170028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604360" y="234936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5640" y="1052640"/>
            <a:ext cx="7704000" cy="2696760"/>
          </a:xfrm>
          <a:prstGeom prst="rect">
            <a:avLst/>
          </a:prstGeom>
          <a:solidFill>
            <a:srgbClr val="f2e1f3"/>
          </a:solidFill>
          <a:ln w="12708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John Handy LET"/>
              </a:rPr>
              <a:t>Dany-Mode</a:t>
            </a:r>
            <a:r>
              <a:rPr b="0" lang="en-GB" sz="4400" spc="-1" strike="noStrike">
                <a:solidFill>
                  <a:srgbClr val="000000"/>
                </a:solidFill>
                <a:latin typeface="John Handy LET"/>
              </a:rPr>
              <a:t>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John Handy LET"/>
              </a:rPr>
              <a:t>Modegeschäf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Herren   Frauen   Kin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332000" y="620640"/>
            <a:ext cx="7127640" cy="237672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82692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Elephant"/>
              </a:rPr>
              <a:t>1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92360" y="4292640"/>
            <a:ext cx="60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hen is Aldi open ?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00000" y="170028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0000" y="234936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604360" y="170028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604360" y="234936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80000" y="1125360"/>
            <a:ext cx="460836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onntagmorgen geöff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332000" y="620640"/>
            <a:ext cx="247644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82692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Elephant"/>
              </a:rPr>
              <a:t>1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8000" y="4941720"/>
            <a:ext cx="90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is the haunted house open ?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00000" y="170028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00000" y="234936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604360" y="170028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604360" y="234936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79640" y="3860640"/>
            <a:ext cx="576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cc"/>
                </a:solidFill>
                <a:latin typeface="Papyrus"/>
              </a:rPr>
              <a:t>Donnerstag und Freita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771640" y="0"/>
            <a:ext cx="374364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Need it to exit / get ou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Glas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Hors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Wine sell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Car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stair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a) farm b) 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ad / on the lef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goat’s / chees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men / women / childr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. Sunday / morn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. Thursday / Fri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82692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Elephant"/>
              </a:rPr>
              <a:t>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71640" y="765000"/>
            <a:ext cx="7272360" cy="1922400"/>
          </a:xfrm>
          <a:prstGeom prst="rect">
            <a:avLst/>
          </a:prstGeom>
          <a:solidFill>
            <a:srgbClr val="ffffc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4000" spc="-1" strike="noStrike">
                <a:solidFill>
                  <a:srgbClr val="333399"/>
                </a:solidFill>
                <a:latin typeface="Lucida Sans"/>
              </a:rPr>
              <a:t>Behalten Sie die </a:t>
            </a:r>
            <a:r>
              <a:rPr b="0" lang="en-GB" sz="4000" spc="-1" strike="noStrike">
                <a:solidFill>
                  <a:srgbClr val="333399"/>
                </a:solidFill>
                <a:latin typeface="Lucida Sans"/>
              </a:rPr>
              <a:t>	</a:t>
            </a:r>
            <a:r>
              <a:rPr b="0" lang="en-GB" sz="4000" spc="-1" strike="noStrike">
                <a:solidFill>
                  <a:srgbClr val="333399"/>
                </a:solidFill>
                <a:latin typeface="Lucida Sans"/>
              </a:rPr>
              <a:t> </a:t>
            </a:r>
            <a:r>
              <a:rPr b="0" lang="en-GB" sz="4000" spc="-1" strike="noStrike">
                <a:solidFill>
                  <a:srgbClr val="333399"/>
                </a:solidFill>
                <a:latin typeface="Lucida Sans"/>
              </a:rPr>
              <a:t>	</a:t>
            </a:r>
            <a:r>
              <a:rPr b="0" lang="en-GB" sz="4000" spc="-1" strike="noStrike">
                <a:solidFill>
                  <a:srgbClr val="333399"/>
                </a:solidFill>
                <a:latin typeface="Lucida Sans"/>
              </a:rPr>
              <a:t>	</a:t>
            </a:r>
            <a:r>
              <a:rPr b="0" lang="en-GB" sz="4000" spc="-1" strike="noStrike">
                <a:solidFill>
                  <a:srgbClr val="333399"/>
                </a:solidFill>
                <a:latin typeface="Lucida Sans"/>
              </a:rPr>
              <a:t>  Fahrkarte, sie wird am </a:t>
            </a:r>
            <a:r>
              <a:rPr b="0" lang="en-GB" sz="4000" spc="-1" strike="noStrike">
                <a:solidFill>
                  <a:srgbClr val="333399"/>
                </a:solidFill>
                <a:latin typeface="Lucida Sans"/>
              </a:rPr>
              <a:t>	</a:t>
            </a:r>
            <a:r>
              <a:rPr b="0" lang="en-GB" sz="4000" spc="-1" strike="noStrike">
                <a:solidFill>
                  <a:srgbClr val="333399"/>
                </a:solidFill>
                <a:latin typeface="Lucida Sans"/>
              </a:rPr>
              <a:t>  Ausgang gebrauch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71640" y="4221000"/>
            <a:ext cx="727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y do you need to keep your train ticket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1224000" cy="8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82692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Elephant"/>
              </a:rPr>
              <a:t>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5640" y="1125360"/>
            <a:ext cx="7561440" cy="252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16000" y="1844640"/>
            <a:ext cx="1074600" cy="1077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195640" y="1916280"/>
            <a:ext cx="611964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8000"/>
                </a:solidFill>
                <a:latin typeface="FreesiaUPC"/>
              </a:rPr>
              <a:t>Glas-Recyclin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71640" y="4221000"/>
            <a:ext cx="72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n you recycle her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82692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Elephant"/>
              </a:rPr>
              <a:t>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71640" y="4437000"/>
            <a:ext cx="72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as priority on this road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050920" y="189000"/>
            <a:ext cx="4969080" cy="3816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19640" y="1557360"/>
            <a:ext cx="2304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 Narrow"/>
              </a:rPr>
              <a:t>Pferde haben Vorfahr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82692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Elephant"/>
              </a:rPr>
              <a:t>4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71640" y="4437000"/>
            <a:ext cx="72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100m away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63640" y="692280"/>
            <a:ext cx="6193080" cy="2520720"/>
          </a:xfrm>
          <a:custGeom>
            <a:avLst/>
            <a:gdLst>
              <a:gd name="textAreaLeft" fmla="*/ 0 w 6193080"/>
              <a:gd name="textAreaRight" fmla="*/ 6193440 w 6193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Arial Narrow"/>
              </a:rPr>
              <a:t>Weinstube </a:t>
            </a:r>
            <a:br>
              <a:rPr sz="4800"/>
            </a:br>
            <a:r>
              <a:rPr b="0" i="1" lang="en-GB" sz="4800" spc="-1" strike="noStrike">
                <a:solidFill>
                  <a:srgbClr val="000000"/>
                </a:solidFill>
                <a:latin typeface="Arial Narrow"/>
              </a:rPr>
              <a:t>in 100 Met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82692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Elephant"/>
              </a:rPr>
              <a:t>5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71640" y="443700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an park her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11280" y="260280"/>
            <a:ext cx="4033800" cy="3960720"/>
          </a:xfrm>
          <a:prstGeom prst="donut">
            <a:avLst>
              <a:gd name="adj" fmla="val 6925"/>
            </a:avLst>
          </a:prstGeom>
          <a:solidFill>
            <a:srgbClr val="5037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27280" y="476280"/>
            <a:ext cx="3600360" cy="3529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260280"/>
            <a:ext cx="1368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5037e5"/>
                </a:solidFill>
                <a:latin typeface="Arial Rounded MT Bold"/>
              </a:rPr>
              <a:t>P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2565360"/>
            <a:ext cx="31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PK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82692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Elephant"/>
              </a:rPr>
              <a:t>6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71640" y="4437000"/>
            <a:ext cx="727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n you buy made-to-measure her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26920" y="1628640"/>
            <a:ext cx="7921800" cy="825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Segoe Print"/>
              </a:rPr>
              <a:t>Treppen nach Ma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00000" y="170028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234936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604360" y="170028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604360" y="234936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82692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Elephant"/>
              </a:rPr>
              <a:t>7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71640" y="4437000"/>
            <a:ext cx="7272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is the campsit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do you get there ?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170028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00000" y="234936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604360" y="170028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604360" y="234936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63640" y="692280"/>
            <a:ext cx="6193080" cy="2520720"/>
          </a:xfrm>
          <a:custGeom>
            <a:avLst/>
            <a:gdLst>
              <a:gd name="textAreaLeft" fmla="*/ 0 w 6193080"/>
              <a:gd name="textAreaRight" fmla="*/ 6193440 w 6193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79640" y="98100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987640" y="112536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Narrow"/>
              </a:rPr>
              <a:t>Camping am Bauernhof</a:t>
            </a:r>
            <a:r>
              <a:rPr b="0" lang="en-GB" sz="4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56000" y="2205000"/>
            <a:ext cx="38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000000"/>
                </a:solidFill>
                <a:latin typeface="Arial Narrow"/>
              </a:rPr>
              <a:t>Dritte Straße lin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82692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Elephant"/>
              </a:rPr>
              <a:t>8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71640" y="4005360"/>
            <a:ext cx="72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on sale here ?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00000" y="170028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00000" y="234936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604360" y="170028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604360" y="234936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43280" y="692280"/>
            <a:ext cx="3241440" cy="2454120"/>
          </a:xfrm>
          <a:prstGeom prst="rect">
            <a:avLst/>
          </a:prstGeom>
          <a:solidFill>
            <a:srgbClr val="eafc80"/>
          </a:solidFill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ligraph421 BT"/>
              </a:rPr>
              <a:t>Ziegenkä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3276720" y="2924280"/>
            <a:ext cx="2303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4T17:45:14Z</dcterms:created>
  <dc:creator>Clare</dc:creator>
  <dc:description/>
  <dc:language>en-US</dc:language>
  <cp:lastModifiedBy>Clare</cp:lastModifiedBy>
  <dcterms:modified xsi:type="dcterms:W3CDTF">2009-09-10T14:09:50Z</dcterms:modified>
  <cp:revision>15</cp:revision>
  <dc:subject/>
  <dc:title>Slide 1</dc:title>
</cp:coreProperties>
</file>