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E4A-9071-4D32-8E3A-4FDD7995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07B-8F85-4AE9-A6DA-6240A89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EB7-0891-496A-AA1D-5729A62F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473-320E-4B6E-B42D-0EB54806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8A4-DB99-4D12-8A57-903F1931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773-C8F6-4A9D-B234-0168D3E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7DD-E228-40C6-9E6B-E1A7880C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7DC-6C8A-484F-830E-8A6DD4E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C8B-706F-474A-BD18-78FBEB02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45F-DCF7-4E55-94E1-D90AB03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A0D-F4B4-44AD-8A66-26ED453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522-70EB-4975-B7B3-15F10D9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A7C8-619D-4472-8FA4-D6E6295E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07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sion Starter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ill help you to revise for the reading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643800"/>
            <a:ext cx="86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MFL Sunderland 2009 SR/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437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 whom does Dany-Mode sel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lothes ?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052640"/>
            <a:ext cx="7704000" cy="2696760"/>
          </a:xfrm>
          <a:prstGeom prst="rect">
            <a:avLst/>
          </a:prstGeom>
          <a:solidFill>
            <a:srgbClr val="f2e1f3"/>
          </a:solidFill>
          <a:ln w="127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John Handy LET"/>
              </a:rPr>
              <a:t>Dany-Mode</a:t>
            </a: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Modegeschä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erren   Frauen   K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620640"/>
            <a:ext cx="7127640" cy="237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4292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en is Aldi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125360"/>
            <a:ext cx="460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nntagmorgen geöff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2476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494172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he haunted house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386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Papyrus"/>
              </a:rPr>
              <a:t>Donnerstag und Freit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743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eed it to exit / get o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Gla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or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ine se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tai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a) farm b)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ad / on the lef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goat’s / chee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men / women / child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Sunday / mo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Thursday /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765000"/>
            <a:ext cx="7272360" cy="1922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Behalten Sie die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Fahrkarte, sie wird am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Ausgang gebrau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22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you need to keep your train tick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22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125360"/>
            <a:ext cx="7561440" cy="252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1074600" cy="107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95640" y="1916280"/>
            <a:ext cx="6119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FreesiaUPC"/>
              </a:rPr>
              <a:t>Glas-Recycl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22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recycl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riority on this roa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89000"/>
            <a:ext cx="4969080" cy="38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557360"/>
            <a:ext cx="230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Pferde haben Vorfahr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00m awa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Weinstube 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in 100 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437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n park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60280"/>
            <a:ext cx="4033800" cy="3960720"/>
          </a:xfrm>
          <a:prstGeom prst="donut">
            <a:avLst>
              <a:gd name="adj" fmla="val 6925"/>
            </a:avLst>
          </a:prstGeom>
          <a:solidFill>
            <a:srgbClr val="503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476280"/>
            <a:ext cx="3600360" cy="352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60280"/>
            <a:ext cx="136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5037e5"/>
                </a:solidFill>
                <a:latin typeface="Arial Rounded MT Bold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565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K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4437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made-to-measur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628640"/>
            <a:ext cx="7921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</a:rPr>
              <a:t>Treppen nach Ma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437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campsit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get t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87640" y="1125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Camping am Bauernhof</a:t>
            </a: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22050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Arial Narrow"/>
              </a:rPr>
              <a:t>Dritte Straße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005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 sale 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692280"/>
            <a:ext cx="3241440" cy="2454120"/>
          </a:xfrm>
          <a:prstGeom prst="rect">
            <a:avLst/>
          </a:prstGeom>
          <a:solidFill>
            <a:srgbClr val="eafc80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ligraph421 BT"/>
              </a:rPr>
              <a:t>Ziegenkä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720" y="2924280"/>
            <a:ext cx="23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7:45:14Z</dcterms:created>
  <dc:creator>Clare</dc:creator>
  <dc:description/>
  <dc:language>en-US</dc:language>
  <cp:lastModifiedBy>Clare</cp:lastModifiedBy>
  <dcterms:modified xsi:type="dcterms:W3CDTF">2009-09-10T14:09:50Z</dcterms:modified>
  <cp:revision>15</cp:revision>
  <dc:subject/>
  <dc:title>Slide 1</dc:title>
</cp:coreProperties>
</file>