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B475-4581-4FF7-A583-5D5805C3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6964-06CD-40DF-9B92-A62C43CF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EFB-CECC-4BDC-A682-68683F37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6DA1-C9C4-4E9B-9A4C-AC3DD397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88E-ADA0-4085-A4A6-F62ABC0F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8A6-32C8-4E9A-9AE1-371B0C92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AD14-32DC-46B0-AE7D-BF55E9A7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F2A-71F1-4C19-84CF-AAEB7F15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A8C-FA17-4198-A14D-F94CA260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9FE-9FAE-4171-A681-2FC934AB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0768-8CF6-458D-84BB-66624ABD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A27A-80A0-4DEF-B355-B8EEFBAD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8221-FCA3-4F27-8FF2-C9896B0D7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hyperlink" Target="http://www.sunderlandschools.org/mfl-sunderland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zione ma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j0408008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"/>
          <p:cNvPicPr/>
          <p:nvPr/>
        </p:nvPicPr>
        <p:blipFill>
          <a:blip r:embed="rId8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"/>
          <p:cNvPicPr/>
          <p:nvPr/>
        </p:nvPicPr>
        <p:blipFill>
          <a:blip r:embed="rId9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"/>
          <p:cNvPicPr/>
          <p:nvPr/>
        </p:nvPicPr>
        <p:blipFill>
          <a:blip r:embed="rId10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" descr=""/>
          <p:cNvPicPr/>
          <p:nvPr/>
        </p:nvPicPr>
        <p:blipFill>
          <a:blip r:embed="rId11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"/>
          <p:cNvPicPr/>
          <p:nvPr/>
        </p:nvPicPr>
        <p:blipFill>
          <a:blip r:embed="rId12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9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0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1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2"/>
          <p:cNvSpPr/>
          <p:nvPr/>
        </p:nvSpPr>
        <p:spPr>
          <a:xfrm>
            <a:off x="285840" y="27147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3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4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5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6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7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8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9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0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2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3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4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5"/>
          <p:cNvSpPr/>
          <p:nvPr/>
        </p:nvSpPr>
        <p:spPr>
          <a:xfrm>
            <a:off x="6929280" y="314172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6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7"/>
          <p:cNvSpPr/>
          <p:nvPr/>
        </p:nvSpPr>
        <p:spPr>
          <a:xfrm>
            <a:off x="6072120" y="21337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8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9"/>
          <p:cNvSpPr/>
          <p:nvPr/>
        </p:nvSpPr>
        <p:spPr>
          <a:xfrm>
            <a:off x="6500880" y="1214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7" descr="C:\Users\Stephen Totten\AppData\Local\Microsoft\Windows\Temporary Internet Files\Content.IE5\FD8HZE67\MCj04246960000[1].wmf"/>
          <p:cNvPicPr/>
          <p:nvPr/>
        </p:nvPicPr>
        <p:blipFill>
          <a:blip r:embed="rId13"/>
          <a:stretch/>
        </p:blipFill>
        <p:spPr>
          <a:xfrm>
            <a:off x="6715080" y="1928880"/>
            <a:ext cx="677880" cy="453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64000" y="6597720"/>
            <a:ext cx="413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©MFL Sunderland 2008 MT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zione ma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j0408008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8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9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10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"/>
          <p:cNvPicPr/>
          <p:nvPr/>
        </p:nvPicPr>
        <p:blipFill>
          <a:blip r:embed="rId11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"/>
          <p:cNvPicPr/>
          <p:nvPr/>
        </p:nvPicPr>
        <p:blipFill>
          <a:blip r:embed="rId12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357120" y="27147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1143000" y="39290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s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428760" y="55008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um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3714840" y="60721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429240" y="52862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u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7416720" y="42861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7000920" y="32148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7416720" y="21430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p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7" descr="C:\Users\Stephen Totten\AppData\Local\Microsoft\Windows\Temporary Internet Files\Content.IE5\FD8HZE67\MCj04246960000[1].wmf"/>
          <p:cNvPicPr/>
          <p:nvPr/>
        </p:nvPicPr>
        <p:blipFill>
          <a:blip r:embed="rId13"/>
          <a:stretch/>
        </p:blipFill>
        <p:spPr>
          <a:xfrm>
            <a:off x="6786720" y="2143080"/>
            <a:ext cx="677880" cy="4539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8"/>
          <p:cNvSpPr/>
          <p:nvPr/>
        </p:nvSpPr>
        <p:spPr>
          <a:xfrm>
            <a:off x="7000920" y="1143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g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zione ma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9"/>
          <p:cNvSpPr/>
          <p:nvPr/>
        </p:nvSpPr>
        <p:spPr>
          <a:xfrm>
            <a:off x="179280" y="981000"/>
            <a:ext cx="89647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ucc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mpk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gue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gno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i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liv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spo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a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eg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po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u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ovo (m) di lucertol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zard’s 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to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nte (f) di lup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lf’s t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pente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nak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tte (m) di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lk of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cchio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y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ede (f) di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t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cchi(m.pl.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y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a (m) di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il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to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g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ghia (f) di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il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mone (m) di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me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ore (m) di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rt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mac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u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mpiro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sc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ntasma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urmic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pistrello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21:07:40Z</dcterms:created>
  <dc:creator>CSeccombe</dc:creator>
  <dc:description/>
  <dc:language>en-US</dc:language>
  <cp:lastModifiedBy>Clare</cp:lastModifiedBy>
  <dcterms:modified xsi:type="dcterms:W3CDTF">2008-12-08T11:23:20Z</dcterms:modified>
  <cp:revision>16</cp:revision>
  <dc:subject/>
  <dc:title>Slide 1</dc:title>
</cp:coreProperties>
</file>