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482-8E84-4A46-A38F-DD3A2449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0C5-1A32-4A42-9FA3-5D592E8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1B7-06ED-4A52-B5A3-50C2C9EB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EB9-909F-4E05-A3BD-5FC95F47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234-5388-470F-B6EB-1B20027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4EF-AD84-4A1D-8D29-5D87DFED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156-1081-4901-825C-7942DFF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374-673B-463E-915A-4E51C904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082-5C38-4C92-917B-0E116B0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9FC-9891-49CC-AFA0-3E3A589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AE9-9F48-49DB-A907-B3D21F0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6F6-45B7-45E1-A586-D254625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976-FA16-43CD-87BD-3C7E7F2766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oo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hyperlink" Target="http://www.pbase.com/dannysmythe/fruit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pbase.com/dannysmythe/fruit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pbase.com/dannysmythe/food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pbase.com/dannysmythe/fruit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www.pbase.com/dannysmythe/fruit" TargetMode="External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2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2060640"/>
            <a:ext cx="8569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ela           Pera     Albicocca  Nettarina       Pesca           Prugna  Mela cotogna  Ban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3500280"/>
            <a:ext cx="885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elon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Pompelmo    Limone       Lime    Mandarino       Mandarancio     Zucca        Zu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5013360"/>
            <a:ext cx="914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ampone  Fragola    Ciliegia    Mora    Mirtillo   Ribes      Uva nera Uva bianca Dattero  Leech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53360"/>
            <a:ext cx="925200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cco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Kiwi            Mango        Ananas   Guaiava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rutto della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Papaya      Fico d’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51480" y="5578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60280"/>
            <a:ext cx="20163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Fru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Blackb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5635800" cy="6046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51280" y="1773000"/>
            <a:ext cx="3251160" cy="229068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41036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’ang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Watermel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76914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56000" y="2276280"/>
            <a:ext cx="4330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’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ineap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460872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ll’u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rap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7524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Raspb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52360" y="-209520"/>
            <a:ext cx="6867360" cy="7067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51280" y="1341000"/>
            <a:ext cx="3384360" cy="20178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lamp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Lem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280200" cy="6407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92480" y="2781000"/>
            <a:ext cx="325116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li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Ki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360"/>
            <a:ext cx="6848640" cy="6848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51280" y="333000"/>
            <a:ext cx="33224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ki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m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Cherry">
            <a:hlinkClick r:id="rId1"/>
          </p:cNvPr>
          <p:cNvPicPr/>
          <p:nvPr/>
        </p:nvPicPr>
        <p:blipFill>
          <a:blip r:embed="rId2"/>
          <a:stretch/>
        </p:blipFill>
        <p:spPr>
          <a:xfrm rot="20470800">
            <a:off x="899640" y="1483920"/>
            <a:ext cx="639720" cy="10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413000"/>
            <a:ext cx="1114560" cy="144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Apple &amp; Slic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3141720"/>
            <a:ext cx="121572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Pea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58920" y="3213000"/>
            <a:ext cx="976320" cy="13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Watermelo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413000"/>
            <a:ext cx="1584360" cy="114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Orang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08360" y="3357720"/>
            <a:ext cx="1871640" cy="116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Lem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4360" y="5013360"/>
            <a:ext cx="1153800" cy="117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Kiwi"/>
          <p:cNvPicPr/>
          <p:nvPr/>
        </p:nvPicPr>
        <p:blipFill>
          <a:blip r:embed="rId14"/>
          <a:stretch/>
        </p:blipFill>
        <p:spPr>
          <a:xfrm>
            <a:off x="7308720" y="1413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Grapes"/>
          <p:cNvPicPr/>
          <p:nvPr/>
        </p:nvPicPr>
        <p:blipFill>
          <a:blip r:embed="rId15"/>
          <a:stretch/>
        </p:blipFill>
        <p:spPr>
          <a:xfrm>
            <a:off x="3419640" y="5157720"/>
            <a:ext cx="1871640" cy="1254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Strawberry"/>
          <p:cNvPicPr/>
          <p:nvPr/>
        </p:nvPicPr>
        <p:blipFill>
          <a:blip r:embed="rId16"/>
          <a:stretch/>
        </p:blipFill>
        <p:spPr>
          <a:xfrm rot="20448600">
            <a:off x="7093080" y="5084640"/>
            <a:ext cx="1197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2565360"/>
            <a:ext cx="108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ili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852640"/>
            <a:ext cx="100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2637000"/>
            <a:ext cx="1150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g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96360" y="2708280"/>
            <a:ext cx="6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i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4653000"/>
            <a:ext cx="719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4508640"/>
            <a:ext cx="100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4508640"/>
            <a:ext cx="72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6237360"/>
            <a:ext cx="863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6308640"/>
            <a:ext cx="71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6308640"/>
            <a:ext cx="100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 che colore é un’ar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’arancia é aranc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 che colore é un lamp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lampone é ro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 che colore é un lim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limone é gia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ry with other fruits. Ask someone 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Oranges"/>
          <p:cNvPicPr/>
          <p:nvPr/>
        </p:nvPicPr>
        <p:blipFill>
          <a:blip r:embed="rId1"/>
          <a:stretch/>
        </p:blipFill>
        <p:spPr>
          <a:xfrm>
            <a:off x="6300720" y="1268280"/>
            <a:ext cx="1871640" cy="116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Raspberry"/>
          <p:cNvPicPr/>
          <p:nvPr/>
        </p:nvPicPr>
        <p:blipFill>
          <a:blip r:embed="rId2"/>
          <a:stretch/>
        </p:blipFill>
        <p:spPr>
          <a:xfrm>
            <a:off x="6443640" y="2781360"/>
            <a:ext cx="1373040" cy="1412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Lemon"/>
          <p:cNvPicPr/>
          <p:nvPr/>
        </p:nvPicPr>
        <p:blipFill>
          <a:blip r:embed="rId3"/>
          <a:stretch/>
        </p:blipFill>
        <p:spPr>
          <a:xfrm>
            <a:off x="6804000" y="4941720"/>
            <a:ext cx="11541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sion of vocabulary for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learn the name of lots of fr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use them to tell what we like and we do not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revise masculine and fem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Apple &amp; Sl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726240" cy="7174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7640" y="2636640"/>
            <a:ext cx="2602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m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2276280"/>
            <a:ext cx="33224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4520" y="765000"/>
            <a:ext cx="4400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19640" y="2349000"/>
            <a:ext cx="3394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e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470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Strawb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6335640" cy="6478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96000" y="2491920"/>
            <a:ext cx="3106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frag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3640" y="274320"/>
            <a:ext cx="374472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’ar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Oran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1337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56996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ili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herry">
            <a:hlinkClick r:id="rId1"/>
          </p:cNvPr>
          <p:cNvPicPr/>
          <p:nvPr/>
        </p:nvPicPr>
        <p:blipFill>
          <a:blip r:embed="rId2"/>
          <a:stretch/>
        </p:blipFill>
        <p:spPr>
          <a:xfrm rot="20470800">
            <a:off x="755280" y="17640"/>
            <a:ext cx="43610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Pea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4360" y="260280"/>
            <a:ext cx="7705800" cy="6222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7:17Z</dcterms:created>
  <dc:creator>Clevedon Community</dc:creator>
  <dc:description/>
  <dc:language>en-US</dc:language>
  <cp:lastModifiedBy>Clare</cp:lastModifiedBy>
  <dcterms:modified xsi:type="dcterms:W3CDTF">2009-08-13T09:48:19Z</dcterms:modified>
  <cp:revision>2</cp:revision>
  <dc:subject/>
  <dc:title>Slide 1</dc:title>
</cp:coreProperties>
</file>