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1DB-BA5A-4EBD-8DC9-9E172044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87E-4F09-41A5-8B01-11574C23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1AF-6B47-4788-B72A-D8FCFDB0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1A7-5B88-4B87-AC61-46E5A3B1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6CA-3F8C-419B-9060-8B053A18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C6D-FB30-4CD1-82CD-35D283AA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B3F-C0F4-470E-9038-0389F70E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685-1989-47D5-84AA-E4A6525F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DBB-348E-4CC5-BBDC-58A4DE88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32E-75AA-4643-A3D9-7A30AC48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8B7-3EE1-4338-8849-726909A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3E7-6496-4583-A3FB-C48DA91E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9639-8C02-4EBB-B203-F85EEBFBF50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&amp;page=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ood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&amp;page=2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&amp;page=2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&amp;page=2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hyperlink" Target="http://www.pbase.com/dannysmythe/fruit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www.pbase.com/dannysmythe/fruit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pbase.com/dannysmythe/food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pbase.com/dannysmythe/fruit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www.pbase.com/dannysmythe/fruit" TargetMode="External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2.jpeg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&amp;page=2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dannysmythe/frui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240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2060640"/>
            <a:ext cx="8569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ela           Pera     Albicocca  Nettarina       Pesca           Prugna  Mela cotogna  Ban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3500280"/>
            <a:ext cx="885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elon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Pompelmo    Limone       Lime    Mandarino       Mandarancio     Zucca        Zuc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440" y="5013360"/>
            <a:ext cx="914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ampone  Fragola    Ciliegia    Mora    Mirtillo   Ribes      Uva nera Uva bianca Dattero  Leech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53360"/>
            <a:ext cx="9252000" cy="69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cco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Kiwi            Mango        Ananas   Guaiava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rutto della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Papaya      Fico d’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51480" y="5578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47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260280"/>
            <a:ext cx="20163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Unicode MS"/>
              </a:rPr>
              <a:t>Frut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Blackber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5635800" cy="6046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51280" y="1773000"/>
            <a:ext cx="3251160" cy="229068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410364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’ang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Watermel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76914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56000" y="2276280"/>
            <a:ext cx="433080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’an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Pineapp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460872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ll’u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Grap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75248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Raspber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52360" y="-209520"/>
            <a:ext cx="6867360" cy="70675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51280" y="1341000"/>
            <a:ext cx="3384360" cy="20178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lamp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Lem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280200" cy="64072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92480" y="2781000"/>
            <a:ext cx="325116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lim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Kiw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360"/>
            <a:ext cx="6848640" cy="6848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51280" y="333000"/>
            <a:ext cx="332244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ki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mo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Cherry">
            <a:hlinkClick r:id="rId1"/>
          </p:cNvPr>
          <p:cNvPicPr/>
          <p:nvPr/>
        </p:nvPicPr>
        <p:blipFill>
          <a:blip r:embed="rId2"/>
          <a:stretch/>
        </p:blipFill>
        <p:spPr>
          <a:xfrm rot="20470800">
            <a:off x="899640" y="1483920"/>
            <a:ext cx="639720" cy="100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340000" y="1413000"/>
            <a:ext cx="1114560" cy="144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Apple &amp; Slic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32720" y="3141720"/>
            <a:ext cx="1215720" cy="129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Pea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58920" y="3213000"/>
            <a:ext cx="976320" cy="136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Watermelo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1413000"/>
            <a:ext cx="1584360" cy="1149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Orange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08360" y="3357720"/>
            <a:ext cx="1871640" cy="116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Lemo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4360" y="5013360"/>
            <a:ext cx="1153800" cy="117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Kiwi"/>
          <p:cNvPicPr/>
          <p:nvPr/>
        </p:nvPicPr>
        <p:blipFill>
          <a:blip r:embed="rId14"/>
          <a:stretch/>
        </p:blipFill>
        <p:spPr>
          <a:xfrm>
            <a:off x="7308720" y="1413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Grapes"/>
          <p:cNvPicPr/>
          <p:nvPr/>
        </p:nvPicPr>
        <p:blipFill>
          <a:blip r:embed="rId15"/>
          <a:stretch/>
        </p:blipFill>
        <p:spPr>
          <a:xfrm>
            <a:off x="3419640" y="5157720"/>
            <a:ext cx="1871640" cy="1254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Strawberry"/>
          <p:cNvPicPr/>
          <p:nvPr/>
        </p:nvPicPr>
        <p:blipFill>
          <a:blip r:embed="rId16"/>
          <a:stretch/>
        </p:blipFill>
        <p:spPr>
          <a:xfrm rot="20448600">
            <a:off x="7093080" y="5084640"/>
            <a:ext cx="1197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2565360"/>
            <a:ext cx="108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ili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2852640"/>
            <a:ext cx="1008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9280" y="2637000"/>
            <a:ext cx="1150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gu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96360" y="2708280"/>
            <a:ext cx="647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i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4653000"/>
            <a:ext cx="719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4508640"/>
            <a:ext cx="1008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4508640"/>
            <a:ext cx="72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6237360"/>
            <a:ext cx="863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m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6308640"/>
            <a:ext cx="71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67640" y="6308640"/>
            <a:ext cx="1008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ag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 che colore é un’ar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’arancia é aranc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 che colore é un lamp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lampone é ros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 che colore é un lim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limone é gia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ry with other fruits. Ask someone in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Oranges"/>
          <p:cNvPicPr/>
          <p:nvPr/>
        </p:nvPicPr>
        <p:blipFill>
          <a:blip r:embed="rId1"/>
          <a:stretch/>
        </p:blipFill>
        <p:spPr>
          <a:xfrm>
            <a:off x="6300720" y="1268280"/>
            <a:ext cx="1871640" cy="1160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Raspberry"/>
          <p:cNvPicPr/>
          <p:nvPr/>
        </p:nvPicPr>
        <p:blipFill>
          <a:blip r:embed="rId2"/>
          <a:stretch/>
        </p:blipFill>
        <p:spPr>
          <a:xfrm>
            <a:off x="6443640" y="2781360"/>
            <a:ext cx="1373040" cy="1412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Lemon"/>
          <p:cNvPicPr/>
          <p:nvPr/>
        </p:nvPicPr>
        <p:blipFill>
          <a:blip r:embed="rId3"/>
          <a:stretch/>
        </p:blipFill>
        <p:spPr>
          <a:xfrm>
            <a:off x="6804000" y="4941720"/>
            <a:ext cx="11541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sion of vocabulary for 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will learn the name of lots of fr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will use them to tell what we like and we do not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will revise masculine and femi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Apple &amp; Sl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726240" cy="7174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27640" y="2636640"/>
            <a:ext cx="260208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m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2276280"/>
            <a:ext cx="332244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b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4520" y="765000"/>
            <a:ext cx="44006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19640" y="2349000"/>
            <a:ext cx="339408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Pe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4470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Strawber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6335640" cy="6478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96000" y="2491920"/>
            <a:ext cx="310680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frag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03640" y="274320"/>
            <a:ext cx="374472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’ar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Oran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21337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156996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ili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Cherry">
            <a:hlinkClick r:id="rId1"/>
          </p:cNvPr>
          <p:cNvPicPr/>
          <p:nvPr/>
        </p:nvPicPr>
        <p:blipFill>
          <a:blip r:embed="rId2"/>
          <a:stretch/>
        </p:blipFill>
        <p:spPr>
          <a:xfrm rot="20470800">
            <a:off x="755280" y="17640"/>
            <a:ext cx="43610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Pea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84360" y="260280"/>
            <a:ext cx="7705800" cy="6222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96000" y="274320"/>
            <a:ext cx="2890800" cy="1143000"/>
          </a:xfrm>
          <a:prstGeom prst="rect">
            <a:avLst/>
          </a:prstGeom>
          <a:solidFill>
            <a:srgbClr val="eefb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a 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1:47:17Z</dcterms:created>
  <dc:creator>Clevedon Community</dc:creator>
  <dc:description/>
  <dc:language>en-US</dc:language>
  <cp:lastModifiedBy>Clare</cp:lastModifiedBy>
  <dcterms:modified xsi:type="dcterms:W3CDTF">2009-08-13T09:48:19Z</dcterms:modified>
  <cp:revision>2</cp:revision>
  <dc:subject/>
  <dc:title>Slide 1</dc:title>
</cp:coreProperties>
</file>