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18D-945D-49CC-8D95-EEEBAEDC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F19-9350-479A-AEFA-65EDDB51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EB5C-BE02-4AD2-A114-E3FA1359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E9EA-C871-42B2-A19B-54E95007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DF14-A5EB-4F6C-8C47-CB3594EF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710-F7A7-4AF3-8E47-19F33354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56F5-27E5-4430-828D-C4C888EC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752-1D86-4184-A413-CEA8B9F3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335-CE3A-458F-AB3F-B6691E2A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DE6-6A0E-41C8-86EF-3C196709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2B6-8332-49E2-9D97-006263E8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340-AB03-4280-9A55-AD341762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4200-E4FB-4367-8D1E-6263A6302CE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1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o, sono Lisa simpson e questa é la mia famigli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1265200">
            <a:off x="250920" y="189000"/>
            <a:ext cx="2082600" cy="3281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50920" y="1916280"/>
            <a:ext cx="6912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 rot="21265200">
            <a:off x="971640" y="259920"/>
            <a:ext cx="1020600" cy="1608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700000" y="259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a é mia nonna ma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n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2625480" cy="3240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661800" y="2781360"/>
            <a:ext cx="22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Jack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1265200">
            <a:off x="971640" y="259920"/>
            <a:ext cx="1020600" cy="1608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700000" y="259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a é mia cu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5928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cug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484360" y="1628640"/>
            <a:ext cx="388800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62160" y="2781360"/>
            <a:ext cx="113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 rot="21265200">
            <a:off x="324000" y="188640"/>
            <a:ext cx="1020600" cy="1608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195280" y="189000"/>
            <a:ext cx="633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a quindi é la mia famigl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iate per favore: (music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19280" y="1557360"/>
          <a:ext cx="6840360" cy="5175360"/>
        </p:xfrm>
        <a:graphic>
          <a:graphicData uri="http://schemas.openxmlformats.org/drawingml/2006/table">
            <a:tbl>
              <a:tblPr/>
              <a:tblGrid>
                <a:gridCol w="3421080"/>
                <a:gridCol w="341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re / mam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her / m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re / pap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her / 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tel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fa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nti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gino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o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21265200">
            <a:off x="971640" y="259920"/>
            <a:ext cx="1020600" cy="1608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700000" y="259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o é mio frat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03640" y="1052640"/>
            <a:ext cx="2719440" cy="455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5928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frat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1636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24922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B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1265200">
            <a:off x="971640" y="259920"/>
            <a:ext cx="1020600" cy="1608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700000" y="259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a é mia so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sor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132000" y="1052640"/>
            <a:ext cx="3035520" cy="4608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663240" y="2781360"/>
            <a:ext cx="184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Mag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21265200">
            <a:off x="971640" y="259920"/>
            <a:ext cx="1020600" cy="1608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700000" y="259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o é mio pa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pad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91960" y="2565360"/>
            <a:ext cx="17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Ho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4038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1265200">
            <a:off x="971640" y="259920"/>
            <a:ext cx="1020600" cy="1608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00000" y="259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a é mia ma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ad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132000" y="1052640"/>
            <a:ext cx="3035520" cy="4897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663240" y="278136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Ma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1265200">
            <a:off x="971640" y="259920"/>
            <a:ext cx="1020600" cy="16081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58920" y="259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o é mio z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587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z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71640" y="1557360"/>
            <a:ext cx="3179880" cy="3889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62880" y="2781360"/>
            <a:ext cx="127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Her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3860640"/>
            <a:ext cx="21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 il fratello di mio p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 rot="21265200">
            <a:off x="971640" y="259920"/>
            <a:ext cx="1020600" cy="1608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700000" y="259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e sono le mie z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35640" y="5877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z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5280" y="5877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595008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5877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411280" y="1268280"/>
            <a:ext cx="3884760" cy="4032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1105800">
            <a:off x="6011280" y="1700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elma e Pa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393372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ono gem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 rot="21265200">
            <a:off x="971640" y="259920"/>
            <a:ext cx="1020600" cy="160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700000" y="259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o é mio nonno pat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non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636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981000"/>
            <a:ext cx="2171520" cy="4608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663600" y="2781360"/>
            <a:ext cx="22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Abrah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rot="21265200">
            <a:off x="971640" y="259920"/>
            <a:ext cx="1020600" cy="1608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700000" y="259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a é mia nonna pa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5928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n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3540240" cy="4032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663240" y="2781360"/>
            <a:ext cx="144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Mo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0:15:06Z</dcterms:created>
  <dc:creator>Clevedon Community</dc:creator>
  <dc:description/>
  <dc:language>en-US</dc:language>
  <cp:lastModifiedBy>Clare</cp:lastModifiedBy>
  <dcterms:modified xsi:type="dcterms:W3CDTF">2009-08-13T09:50:16Z</dcterms:modified>
  <cp:revision>2</cp:revision>
  <dc:subject/>
  <dc:title>Slide 1</dc:title>
</cp:coreProperties>
</file>