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7C3-1C7B-40C6-BE27-9FFD58B3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693-2A05-4989-8B90-87CBF00C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01E-86C7-4A78-8F7C-4B550FE3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E9B-1CCC-4817-88DA-C27BD924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03C-12F5-4F26-B3E3-B4506ED2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0C15-0058-443C-A202-E99845E8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74B-4CD5-4B6C-9A2A-3FD3F347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0DF-B3D9-4CF9-8A8D-1A6EBAD0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034E-3C25-4B62-B5B6-C855F53E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1BC2-6F2D-437D-8B5E-4C59510F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63DC-EE84-4AED-9793-5A29E845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A004-7C4F-4D21-AF98-2667066F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9501-5FE4-446E-A36B-3B617A65669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1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o, sono Lisa simpson e questa é la mia famigli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1265200">
            <a:off x="250920" y="189000"/>
            <a:ext cx="2082600" cy="3281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50920" y="1916280"/>
            <a:ext cx="6912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70000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a é mia nonna ma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625480" cy="3240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61800" y="2781360"/>
            <a:ext cx="22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Jack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70000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a é mia cu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5928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cug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388800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62160" y="2781360"/>
            <a:ext cx="11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 rot="21265200">
            <a:off x="324000" y="18864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195280" y="189000"/>
            <a:ext cx="633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a quindi é la mia famigl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iate per favore: (music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19280" y="1557360"/>
          <a:ext cx="6840360" cy="5175360"/>
        </p:xfrm>
        <a:graphic>
          <a:graphicData uri="http://schemas.openxmlformats.org/drawingml/2006/table">
            <a:tbl>
              <a:tblPr/>
              <a:tblGrid>
                <a:gridCol w="3421080"/>
                <a:gridCol w="341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re / mam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her / m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re / pap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her / 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tel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fa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nti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gino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o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70000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o é mio frat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03640" y="1052640"/>
            <a:ext cx="2719440" cy="455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5928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frat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1636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24922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B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70000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a é mia so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sor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32000" y="1052640"/>
            <a:ext cx="3035520" cy="460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63240" y="2781360"/>
            <a:ext cx="18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Mag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70000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o é mio p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ad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91960" y="2565360"/>
            <a:ext cx="17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H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4038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0000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a é mia m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ad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132000" y="1052640"/>
            <a:ext cx="3035520" cy="4897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663240" y="2781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Ma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5892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o é mio z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587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z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71640" y="1557360"/>
            <a:ext cx="3179880" cy="3889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62880" y="2781360"/>
            <a:ext cx="12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Her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3860640"/>
            <a:ext cx="21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É il fratello di mio p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70000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e sono le mie z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35640" y="5877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5877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595008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5877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411280" y="1268280"/>
            <a:ext cx="3884760" cy="4032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1105800">
            <a:off x="6011280" y="1700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elma e Pa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393372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ono gem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70000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o é mio nonno pat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on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636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981000"/>
            <a:ext cx="2171520" cy="4608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63600" y="2781360"/>
            <a:ext cx="22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Abrah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rot="21265200">
            <a:off x="971640" y="259920"/>
            <a:ext cx="1020600" cy="1608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700000" y="259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a é mia nonna pa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5928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3540240" cy="4032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663240" y="2781360"/>
            <a:ext cx="144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Mo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0:15:06Z</dcterms:created>
  <dc:creator>Clevedon Community</dc:creator>
  <dc:description/>
  <dc:language>en-US</dc:language>
  <cp:lastModifiedBy>Clare</cp:lastModifiedBy>
  <dcterms:modified xsi:type="dcterms:W3CDTF">2009-08-13T09:50:16Z</dcterms:modified>
  <cp:revision>2</cp:revision>
  <dc:subject/>
  <dc:title>Slide 1</dc:title>
</cp:coreProperties>
</file>