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F7BB-70A0-4126-AE8C-8909B58B2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1F31-DA15-4D33-A133-1AE9E5463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049D-7AC8-4BAD-92F9-D85ED9049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D40C-BAE5-4F8A-ACB5-E2B71892D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F546-6906-4955-B951-8CEC0F0E8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AF72-A125-4ED8-91F2-0E82D5BF5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A9AA-BA27-4EB7-8325-45E1A31F6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EB3A-220A-4FD7-9683-72FDF4CF4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37D4-B512-4733-B028-6DE69A210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8324-AFF7-4072-A56E-D7580BEA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D7DC-9EF4-4361-AD9C-63388A0E1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687A-923D-4B0D-B8CD-FC8C3C361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204E4-F7F3-4FC4-B15A-87D28FA19BEC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58920" y="2133360"/>
            <a:ext cx="6694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cy-GB" sz="6600" spc="-1" strike="noStrike">
                <a:solidFill>
                  <a:srgbClr val="000000"/>
                </a:solidFill>
                <a:latin typeface="Comic Sans MS"/>
              </a:rPr>
              <a:t>Come sei? Descriviti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0920" y="4076640"/>
            <a:ext cx="2152440" cy="25941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804000" y="189000"/>
            <a:ext cx="1947960" cy="2517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2149200" cy="2493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6818400" y="3789360"/>
            <a:ext cx="207468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4033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000000"/>
                </a:solidFill>
                <a:latin typeface="Comic Sans MS"/>
              </a:rPr>
              <a:t>Ciao, sono Anna!</a:t>
            </a:r>
            <a:br>
              <a:rPr sz="4000"/>
            </a:br>
            <a:r>
              <a:rPr b="0" lang="cy-GB" sz="4000" spc="-1" strike="noStrike">
                <a:solidFill>
                  <a:srgbClr val="000000"/>
                </a:solidFill>
                <a:latin typeface="Comic Sans MS"/>
              </a:rPr>
              <a:t>Ho i capelli lunghi, biondi e gli occhi azzurr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643280" y="333360"/>
            <a:ext cx="417672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000" y="1197000"/>
            <a:ext cx="388764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000000"/>
                </a:solidFill>
                <a:latin typeface="Comic Sans MS"/>
              </a:rPr>
              <a:t>Ciao, sono Mauro!</a:t>
            </a:r>
            <a:br>
              <a:rPr sz="4000"/>
            </a:br>
            <a:r>
              <a:rPr b="0" lang="cy-GB" sz="4000" spc="-1" strike="noStrike">
                <a:solidFill>
                  <a:srgbClr val="000000"/>
                </a:solidFill>
                <a:latin typeface="Comic Sans MS"/>
              </a:rPr>
              <a:t>Ho i capelli neri e gli occhi castan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00720" y="836640"/>
            <a:ext cx="44640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2560" y="907920"/>
            <a:ext cx="51498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000000"/>
                </a:solidFill>
                <a:latin typeface="Comic Sans MS"/>
              </a:rPr>
              <a:t>Ciao, sono Simona!</a:t>
            </a:r>
            <a:br>
              <a:rPr sz="4000"/>
            </a:br>
            <a:r>
              <a:rPr b="0" lang="cy-GB" sz="4000" spc="-1" strike="noStrike">
                <a:solidFill>
                  <a:srgbClr val="000000"/>
                </a:solidFill>
                <a:latin typeface="Comic Sans MS"/>
              </a:rPr>
              <a:t>Ho i capelli corti </a:t>
            </a:r>
            <a:br>
              <a:rPr sz="4000"/>
            </a:br>
            <a:r>
              <a:rPr b="0" lang="cy-GB" sz="4000" spc="-1" strike="noStrike">
                <a:solidFill>
                  <a:srgbClr val="000000"/>
                </a:solidFill>
                <a:latin typeface="Comic Sans MS"/>
              </a:rPr>
              <a:t>e gli occhi ner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932360" y="765000"/>
            <a:ext cx="381636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36100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000000"/>
                </a:solidFill>
                <a:latin typeface="Comic Sans MS"/>
              </a:rPr>
              <a:t>Ciao, sono Federica!</a:t>
            </a:r>
            <a:br>
              <a:rPr sz="4000"/>
            </a:br>
            <a:r>
              <a:rPr b="0" lang="cy-GB" sz="4000" spc="-1" strike="noStrike">
                <a:solidFill>
                  <a:srgbClr val="000000"/>
                </a:solidFill>
                <a:latin typeface="Comic Sans MS"/>
              </a:rPr>
              <a:t>Ho i capelli rossi e gli occhi scuri</a:t>
            </a:r>
            <a:r>
              <a:rPr b="0" lang="cy-GB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140360" y="162864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140360" y="620640"/>
            <a:ext cx="47527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18608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000000"/>
                </a:solidFill>
                <a:latin typeface="Comic Sans MS"/>
              </a:rPr>
              <a:t>Ciao, sono Alberto!</a:t>
            </a:r>
            <a:br>
              <a:rPr sz="4000"/>
            </a:br>
            <a:r>
              <a:rPr b="0" lang="cy-GB" sz="4000" spc="-1" strike="noStrike">
                <a:solidFill>
                  <a:srgbClr val="000000"/>
                </a:solidFill>
                <a:latin typeface="Comic Sans MS"/>
              </a:rPr>
              <a:t>Ho i capelli bianchi e i baff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03640" y="1599840"/>
            <a:ext cx="34560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716360" y="907920"/>
            <a:ext cx="403236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980640"/>
            <a:ext cx="3754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000000"/>
                </a:solidFill>
                <a:latin typeface="Comic Sans MS"/>
              </a:rPr>
              <a:t>Ciao, sono Tommaso!</a:t>
            </a:r>
            <a:br>
              <a:rPr sz="4000"/>
            </a:br>
            <a:r>
              <a:rPr b="0" lang="cy-GB" sz="4000" spc="-1" strike="noStrike">
                <a:solidFill>
                  <a:srgbClr val="000000"/>
                </a:solidFill>
                <a:latin typeface="Comic Sans MS"/>
              </a:rPr>
              <a:t>Ho i capelli scuri e gli occhi verdi</a:t>
            </a:r>
            <a:r>
              <a:rPr b="0" lang="cy-GB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284720" y="1412640"/>
            <a:ext cx="42480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995640" y="692280"/>
            <a:ext cx="48974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114800" cy="53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000000"/>
                </a:solidFill>
                <a:latin typeface="Comic Sans MS"/>
              </a:rPr>
              <a:t>Ciao, sono Giorgio!</a:t>
            </a:r>
            <a:br>
              <a:rPr sz="4000"/>
            </a:br>
            <a:r>
              <a:rPr b="0" lang="cy-GB" sz="4000" spc="-1" strike="noStrike">
                <a:solidFill>
                  <a:srgbClr val="000000"/>
                </a:solidFill>
                <a:latin typeface="Comic Sans MS"/>
              </a:rPr>
              <a:t>Ho una lunga barba bianca, ma non ho più capelli...sono calvo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76360" y="1484280"/>
            <a:ext cx="3240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00720" y="404640"/>
            <a:ext cx="439236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9T10:28:33Z</dcterms:created>
  <dc:creator>Clevedon Community</dc:creator>
  <dc:description/>
  <dc:language>en-US</dc:language>
  <cp:lastModifiedBy>Clare</cp:lastModifiedBy>
  <dcterms:modified xsi:type="dcterms:W3CDTF">2009-08-13T09:51:55Z</dcterms:modified>
  <cp:revision>2</cp:revision>
  <dc:subject/>
  <dc:title>Slide 1</dc:title>
</cp:coreProperties>
</file>