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5BE50-087E-4528-9CE6-7A21FA01A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6C871-1E56-46E4-A8BA-A4F6FC7F8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7D516-CE3C-4BEC-97C3-F8E3A3A1E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AAD63-6A61-4BA3-AF06-3B53548D9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9FE9B-D6D4-4A66-84AC-5DE33E9B7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0B200-9058-421D-90B0-2AD64A9E2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7EFE6-B72C-42BC-8A66-09F9EEBF6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5AEA1-CE1F-46F5-A456-F4314AB59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1D101-5553-4068-84B8-316E5946A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76510-E485-432E-A285-F6CDAA0F7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8720D-A8A4-47ED-9E3F-BC0FCCABF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A5DB2-A90B-489D-A697-E89B5396C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F8BC4-4C3C-43FA-8EF2-FC2A1C031CB9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58920" y="2133360"/>
            <a:ext cx="66945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cy-GB" sz="6600" spc="-1" strike="noStrike">
                <a:solidFill>
                  <a:srgbClr val="000000"/>
                </a:solidFill>
                <a:latin typeface="Comic Sans MS"/>
              </a:rPr>
              <a:t>Come sei? Descriviti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50920" y="4076640"/>
            <a:ext cx="2152440" cy="25941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804000" y="189000"/>
            <a:ext cx="1947960" cy="25178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324000" y="189000"/>
            <a:ext cx="2149200" cy="24937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6818400" y="3789360"/>
            <a:ext cx="2074680" cy="28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50560" y="476280"/>
            <a:ext cx="40338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000" spc="-1" strike="noStrike">
                <a:solidFill>
                  <a:srgbClr val="000000"/>
                </a:solidFill>
                <a:latin typeface="Comic Sans MS"/>
              </a:rPr>
              <a:t>Ciao, sono Anna!</a:t>
            </a:r>
            <a:br>
              <a:rPr sz="4000"/>
            </a:br>
            <a:r>
              <a:rPr b="0" lang="cy-GB" sz="4000" spc="-1" strike="noStrike">
                <a:solidFill>
                  <a:srgbClr val="000000"/>
                </a:solidFill>
                <a:latin typeface="Comic Sans MS"/>
              </a:rPr>
              <a:t>Ho i capelli lunghi, biondi e gli occhi azzurri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643280" y="333360"/>
            <a:ext cx="417672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000" y="1197000"/>
            <a:ext cx="388764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000" spc="-1" strike="noStrike">
                <a:solidFill>
                  <a:srgbClr val="000000"/>
                </a:solidFill>
                <a:latin typeface="Comic Sans MS"/>
              </a:rPr>
              <a:t>Ciao, sono Mauro!</a:t>
            </a:r>
            <a:br>
              <a:rPr sz="4000"/>
            </a:br>
            <a:r>
              <a:rPr b="0" lang="cy-GB" sz="4000" spc="-1" strike="noStrike">
                <a:solidFill>
                  <a:srgbClr val="000000"/>
                </a:solidFill>
                <a:latin typeface="Comic Sans MS"/>
              </a:rPr>
              <a:t>Ho i capelli neri e gli occhi castani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500720" y="836640"/>
            <a:ext cx="446400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2560" y="907920"/>
            <a:ext cx="51498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000" spc="-1" strike="noStrike">
                <a:solidFill>
                  <a:srgbClr val="000000"/>
                </a:solidFill>
                <a:latin typeface="Comic Sans MS"/>
              </a:rPr>
              <a:t>Ciao, sono Simona!</a:t>
            </a:r>
            <a:br>
              <a:rPr sz="4000"/>
            </a:br>
            <a:r>
              <a:rPr b="0" lang="cy-GB" sz="4000" spc="-1" strike="noStrike">
                <a:solidFill>
                  <a:srgbClr val="000000"/>
                </a:solidFill>
                <a:latin typeface="Comic Sans MS"/>
              </a:rPr>
              <a:t>Ho i capelli corti </a:t>
            </a:r>
            <a:br>
              <a:rPr sz="4000"/>
            </a:br>
            <a:r>
              <a:rPr b="0" lang="cy-GB" sz="4000" spc="-1" strike="noStrike">
                <a:solidFill>
                  <a:srgbClr val="000000"/>
                </a:solidFill>
                <a:latin typeface="Comic Sans MS"/>
              </a:rPr>
              <a:t>e gli occhi neri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932360" y="765000"/>
            <a:ext cx="381636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361008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000" spc="-1" strike="noStrike">
                <a:solidFill>
                  <a:srgbClr val="000000"/>
                </a:solidFill>
                <a:latin typeface="Comic Sans MS"/>
              </a:rPr>
              <a:t>Ciao, sono Federica!</a:t>
            </a:r>
            <a:br>
              <a:rPr sz="4000"/>
            </a:br>
            <a:r>
              <a:rPr b="0" lang="cy-GB" sz="4000" spc="-1" strike="noStrike">
                <a:solidFill>
                  <a:srgbClr val="000000"/>
                </a:solidFill>
                <a:latin typeface="Comic Sans MS"/>
              </a:rPr>
              <a:t>Ho i capelli rossi e gli occhi scuri</a:t>
            </a:r>
            <a:r>
              <a:rPr b="0" lang="cy-GB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140360" y="162864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140360" y="620640"/>
            <a:ext cx="475272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4186080" cy="509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000" spc="-1" strike="noStrike">
                <a:solidFill>
                  <a:srgbClr val="000000"/>
                </a:solidFill>
                <a:latin typeface="Comic Sans MS"/>
              </a:rPr>
              <a:t>Ciao, sono Alberto!</a:t>
            </a:r>
            <a:br>
              <a:rPr sz="4000"/>
            </a:br>
            <a:r>
              <a:rPr b="0" lang="cy-GB" sz="4000" spc="-1" strike="noStrike">
                <a:solidFill>
                  <a:srgbClr val="000000"/>
                </a:solidFill>
                <a:latin typeface="Comic Sans MS"/>
              </a:rPr>
              <a:t>Ho i capelli bianchi e i baffi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03640" y="1599840"/>
            <a:ext cx="3456000" cy="41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716360" y="907920"/>
            <a:ext cx="4032360" cy="48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980640"/>
            <a:ext cx="375444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000" spc="-1" strike="noStrike">
                <a:solidFill>
                  <a:srgbClr val="000000"/>
                </a:solidFill>
                <a:latin typeface="Comic Sans MS"/>
              </a:rPr>
              <a:t>Ciao, sono Tommaso!</a:t>
            </a:r>
            <a:br>
              <a:rPr sz="4000"/>
            </a:br>
            <a:r>
              <a:rPr b="0" lang="cy-GB" sz="4000" spc="-1" strike="noStrike">
                <a:solidFill>
                  <a:srgbClr val="000000"/>
                </a:solidFill>
                <a:latin typeface="Comic Sans MS"/>
              </a:rPr>
              <a:t>Ho i capelli scuri e gli occhi verdi</a:t>
            </a:r>
            <a:r>
              <a:rPr b="0" lang="cy-GB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284720" y="1412640"/>
            <a:ext cx="424800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995640" y="692280"/>
            <a:ext cx="489744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4114800" cy="531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000" spc="-1" strike="noStrike">
                <a:solidFill>
                  <a:srgbClr val="000000"/>
                </a:solidFill>
                <a:latin typeface="Comic Sans MS"/>
              </a:rPr>
              <a:t>Ciao, sono Giorgio!</a:t>
            </a:r>
            <a:br>
              <a:rPr sz="4000"/>
            </a:br>
            <a:r>
              <a:rPr b="0" lang="cy-GB" sz="4000" spc="-1" strike="noStrike">
                <a:solidFill>
                  <a:srgbClr val="000000"/>
                </a:solidFill>
                <a:latin typeface="Comic Sans MS"/>
              </a:rPr>
              <a:t>Ho una lunga barba bianca, ma non ho più capelli...sono calvo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076360" y="1484280"/>
            <a:ext cx="3240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4500720" y="404640"/>
            <a:ext cx="4392360" cy="604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9T10:28:33Z</dcterms:created>
  <dc:creator>Clevedon Community</dc:creator>
  <dc:description/>
  <dc:language>en-US</dc:language>
  <cp:lastModifiedBy>Clare</cp:lastModifiedBy>
  <dcterms:modified xsi:type="dcterms:W3CDTF">2009-08-13T09:51:55Z</dcterms:modified>
  <cp:revision>2</cp:revision>
  <dc:subject/>
  <dc:title>Slide 1</dc:title>
</cp:coreProperties>
</file>