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6F2-7224-4BC7-8D78-6D699D3A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88A-ED4B-4C23-95FA-3911CDC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25D-2CBD-48CF-8601-E4051A3B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5BF-E5AA-4011-A037-73F7AF39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B7B-953D-4F1D-8E1C-14C8917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AB5-F860-407A-937A-8FFDE2A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573-D8F4-4D27-8F5F-DAC1A7E8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81A-8CD2-4C79-AE44-0B235404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67D-7223-45D6-900B-6CCF1FB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FF6-456D-442C-8143-4E6DD22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97D-A67F-470E-A7D0-6DEF989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E3B-F324-466B-A80D-EE5436AE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4E2-4C22-44BA-B97C-2C12504C77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cy-GB" sz="7200" spc="-1" strike="noStrike">
                <a:solidFill>
                  <a:srgbClr val="000000"/>
                </a:solidFill>
                <a:latin typeface="Comic Sans MS"/>
              </a:rPr>
              <a:t>CHE TIPO SEI</a:t>
            </a: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y-GB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27016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251964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517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VANITOS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9687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OCIEV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4103640"/>
            <a:ext cx="237672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476440" cy="252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19015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PORTI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1571760"/>
            <a:ext cx="48974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PIG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0920" y="1782720"/>
            <a:ext cx="51134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LLEGR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698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TRIS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040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OTTIMIS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2076480"/>
            <a:ext cx="5472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PESSIMIS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968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SIMPAT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13320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4989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NTIPAT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31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TIMI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582560"/>
            <a:ext cx="4465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6600" spc="-1" strike="noStrike">
                <a:solidFill>
                  <a:srgbClr val="000000"/>
                </a:solidFill>
                <a:latin typeface="Arial"/>
              </a:rPr>
              <a:t>AGGRESSI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88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32:51Z</dcterms:created>
  <dc:creator>Clevedon Community</dc:creator>
  <dc:description/>
  <dc:language>en-US</dc:language>
  <cp:lastModifiedBy>Clare</cp:lastModifiedBy>
  <dcterms:modified xsi:type="dcterms:W3CDTF">2009-08-13T10:00:02Z</dcterms:modified>
  <cp:revision>2</cp:revision>
  <dc:subject/>
  <dc:title>Slide 1</dc:title>
</cp:coreProperties>
</file>