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747-F715-4EBE-8DB9-C2BD00EE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311-C722-43DC-94C9-390C0B9B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14D-ED59-4E73-9E8F-DE2EE43D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130-F182-4D59-80C0-8EB23A2A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EF8-C3D2-468C-8EF1-C8D7892A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AB8-F7C0-498E-B95F-E291E123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F6F-F808-481A-8412-8A0C033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74D-27B1-4B40-A456-CA2BFF59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AEA-99B5-462D-9053-590FBB3A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483-39F4-4911-B223-8E52A2C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689-E2A2-4C2B-B165-99B96CCE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2FA-2996-4976-9B85-06E6D0F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55F3-87F9-457D-9732-1160EA49250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cy-GB" sz="7200" spc="-1" strike="noStrike">
                <a:solidFill>
                  <a:srgbClr val="000000"/>
                </a:solidFill>
                <a:latin typeface="Comic Sans MS"/>
              </a:rPr>
              <a:t>CHE TIPO SEI</a:t>
            </a: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270160" cy="23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360" y="4076640"/>
            <a:ext cx="251964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5178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VANITOS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9687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SOCIEVO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4103640"/>
            <a:ext cx="237672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2476440" cy="2524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19015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SPORTI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1571760"/>
            <a:ext cx="48974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PIG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50920" y="1782720"/>
            <a:ext cx="511344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ALLEGR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686800" y="6125760"/>
            <a:ext cx="6984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44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TRIS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90400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OTTIMIS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2076480"/>
            <a:ext cx="5472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PESSIMIS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5640" y="1528920"/>
            <a:ext cx="4968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SIMPAT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686800" y="6125760"/>
            <a:ext cx="13320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4989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ANTIPAT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31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TIMI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1582560"/>
            <a:ext cx="44658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AGGRESSI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88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32:51Z</dcterms:created>
  <dc:creator>Clevedon Community</dc:creator>
  <dc:description/>
  <dc:language>en-US</dc:language>
  <cp:lastModifiedBy>Clare</cp:lastModifiedBy>
  <dcterms:modified xsi:type="dcterms:W3CDTF">2009-08-13T10:00:02Z</dcterms:modified>
  <cp:revision>2</cp:revision>
  <dc:subject/>
  <dc:title>Slide 1</dc:title>
</cp:coreProperties>
</file>