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C58-06CB-4A9D-A6CA-09A62073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47B-6E6A-4CC1-AF9E-27CE60A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764-B961-4AE5-B981-4BB41CA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F0A-0D62-45C3-8DD0-F0BF50A8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A8D-5D6B-4568-A53B-BBEC804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B46-6C3E-42AD-8B42-2A29945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8B7-9A2B-4643-93AB-6685DD70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263-7D96-47B5-8CB5-CBA65E5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035-3E7E-464F-B01F-DFE17158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608-D0DD-40C1-B962-A2A05A5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5C2-A06B-47FA-B260-82005DC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146-E28F-49E1-852C-EE2766E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415-FF95-4F31-B319-56274BAF2D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73360"/>
            <a:ext cx="91440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sei fisicam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iettivo: To be confident when describing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2109600" cy="261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5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4076640"/>
            <a:ext cx="247788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409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476280"/>
            <a:ext cx="856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ttivi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Translate the following sentences into either Italian or 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Franco Mazzini. I have blonde, short hair. I wear 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am Italian. I have brown, long hair. I have green eyes. I am out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Gianni. I am a student and I live in London. I wear 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have 3 white rabbits. I have black hair. I wear contact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Sandra Esposito. I am American. I have a pencil and a rubber in my rucks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ono africano. Ho i capelli rossi e gli occhi castani. Ho la barba. Non mi piace lo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ono una persona simpatica ma anche socievole. Adoro chattare con i miei amici. Ho i capelli neri. Ho qualche lent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orto gli occhiali e ho i baffi. Mia mamma è tedesca e mio padre è pola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I am a friendly person. I have 6 black hamsters. My name is Marina Ponti and I live in Rome. I have gre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am a chatterbox. I like to chat! I have black curly hair and green eyes. I am French but my sister is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60280"/>
            <a:ext cx="8497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riting Activity: To be written on your own without speaking to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rite a letter to your Italian pen friend, telling him/her all about yourself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clude: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me/Age/Nationality/Birthday/Star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ere you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colour eyes and hair you have/what your hair i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f you are skinny/fat/tall/short/other details (gla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our pets/how many/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 description of another member of your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ny other details (rucksack i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Start the letter with: Caro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Car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Finish with: Un bacio +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07160" y="620640"/>
            <a:ext cx="1285920" cy="11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24289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549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the following pictures, describe the people in pairs as if you and your partner are those peo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empio:  Madonna and Robert Kaz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8622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98100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2133720"/>
            <a:ext cx="4319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iao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Mi chiamo Madonna.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Mi chiamo Robert. Come sei fis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Ho i capelli biondi, corti e lisci e gli occhi blu. Sono alta e magra.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Ho i capelli rossi, corti ed ondulati e gli occhi verdi. Sono alto e molto gra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124000" y="2060640"/>
            <a:ext cx="7192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050920" y="3068640"/>
            <a:ext cx="79236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77796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050920" y="429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84360" y="5300640"/>
            <a:ext cx="863280" cy="86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1979640" y="537372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49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w describe these people in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person singular – he/she form of the ver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empio:  Madonna and Robert Kaz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86220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98100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56000" y="2133720"/>
            <a:ext cx="4319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om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 Madonna. E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lui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Robert.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Com’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fis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Ha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 i capelli biondi, corti e lisci e gli occhi blu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alta e magra. E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lui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H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i capelli rossi, corti ed ondulati e gli occhi verdi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alto e molto gra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124000" y="2060640"/>
            <a:ext cx="71928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050920" y="3068640"/>
            <a:ext cx="79236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777960" cy="86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050920" y="429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84360" y="5300640"/>
            <a:ext cx="86328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1979640" y="537372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09600" y="28051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ff"/>
                </a:solidFill>
                <a:latin typeface="Comic Sans MS"/>
              </a:rPr>
              <a:t>Come si dice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02080" y="28051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50:21Z</dcterms:created>
  <dc:creator>administrator</dc:creator>
  <dc:description/>
  <dc:language>en-US</dc:language>
  <cp:lastModifiedBy>Clare</cp:lastModifiedBy>
  <dcterms:modified xsi:type="dcterms:W3CDTF">2009-08-13T10:01:52Z</dcterms:modified>
  <cp:revision>15</cp:revision>
  <dc:subject/>
  <dc:title>Slide 1</dc:title>
</cp:coreProperties>
</file>