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882-DDF9-49B9-8E44-821E33B9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53B-2685-4BD4-B320-B240F158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43C-C6DE-46D7-A270-1C30985C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0B9-2E5B-4DBE-8189-B6B45DF0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D5C-350F-4A69-BFFE-C1E50109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E94-D12E-44F2-8F44-A56E9A5C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45B-9EDB-4238-A304-95F7230A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E57-4D0C-4725-B2E0-3909D877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8A6-3957-4D03-9660-3885646B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429A-1271-4D73-BDE7-894C54AF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2798-B11C-4BC6-A748-EFDEB17F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A9B9-E3EF-4DB9-A516-50F45630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04AC-86B4-448F-A83D-5D15D0AC9C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73360"/>
            <a:ext cx="914400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me sei fisicam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biettivo: To be confident when describing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3933720"/>
            <a:ext cx="2109600" cy="2611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230508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372360" y="4076640"/>
            <a:ext cx="2477880" cy="249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24000" y="404640"/>
            <a:ext cx="14094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476280"/>
            <a:ext cx="856908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Attivi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– Translate the following sentences into either Italian or Englis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y name is Franco Mazzini. I have blonde, short hair. I wear g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 am Italian. I have brown, long hair. I have green eyes. I am out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y name is Gianni. I am a student and I live in London. I wear g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 have 3 white rabbits. I have black hair. I wear contact 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y name is Sandra Esposito. I am American. I have a pencil and a rubber in my rucks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ono africano. Ho i capelli rossi e gli occhi castani. Ho la barba. Non mi piace lo 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Sono una persona simpatica ma anche socievole. Adoro chattare con i miei amici. Ho i capelli neri. Ho qualche lenti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orto gli occhiali e ho i baffi. Mia mamma è tedesca e mio padre è polac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I am a friendly person. I have 6 black hamsters. My name is Marina Ponti and I live in Rome. I have grey 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 am a chatterbox. I like to chat! I have black curly hair and green eyes. I am French but my sister is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260280"/>
            <a:ext cx="84978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riting Activity: To be written on your own without speaking to your part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rite a letter to your Italian pen friend, telling him/her all about yourself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clude:      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ame/Age/Nationality/Birthday/Star 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Where you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What colour eyes and hair you have/what your hair is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If you are skinny/fat/tall/short/other details (glas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Your pets/how many/col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 description of another member of your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ny other details (rucksack it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Start the letter with: Caro 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                         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Cara 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                                           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Finish with: Un bacio + you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07160" y="620640"/>
            <a:ext cx="1285920" cy="1152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03640" y="4581360"/>
            <a:ext cx="242892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549360"/>
            <a:ext cx="741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the following pictures, describe the people in pairs as if you and your partner are those peo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sempio:  Madonna and Robert Kazin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49800" y="981000"/>
            <a:ext cx="86220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88000" y="98100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56000" y="2133720"/>
            <a:ext cx="4319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Ciao, come ti chiam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Mi chiamo Madonna. E 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Mi chiamo Robert. Come sei fisicam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Ho i capelli biondi, corti e lisci e gli occhi blu. Sono alta e magra. E 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Ho i capelli rossi, corti ed ondulati e gli occhi verdi. Sono alto e molto gra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4360" y="2060640"/>
            <a:ext cx="792000" cy="785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124000" y="2060640"/>
            <a:ext cx="719280" cy="79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4360" y="314172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050920" y="3068640"/>
            <a:ext cx="792360" cy="93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755640" y="4292640"/>
            <a:ext cx="777960" cy="865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2050920" y="4292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684360" y="5300640"/>
            <a:ext cx="863280" cy="865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1979640" y="5373720"/>
            <a:ext cx="9367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549360"/>
            <a:ext cx="741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w describe these people in the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person singular – he/she form of the ver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sempio:  Madonna and Robert Kazin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49800" y="981000"/>
            <a:ext cx="862200" cy="100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98100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356000" y="2133720"/>
            <a:ext cx="4319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Come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si chiama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Comic Sans MS"/>
              </a:rPr>
              <a:t>Si chiama</a:t>
            </a: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 Madonna. E </a:t>
            </a:r>
            <a:r>
              <a:rPr b="1" lang="en-GB" sz="2400" spc="-1" strike="noStrike" u="sng">
                <a:solidFill>
                  <a:srgbClr val="333399"/>
                </a:solidFill>
                <a:uFillTx/>
                <a:latin typeface="Comic Sans MS"/>
              </a:rPr>
              <a:t>lui</a:t>
            </a: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Si chiama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Robert.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Com’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è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fisicam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Comic Sans MS"/>
              </a:rPr>
              <a:t>Ha</a:t>
            </a: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 i capelli biondi, corti e lisci e gli occhi blu.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È</a:t>
            </a:r>
            <a:r>
              <a:rPr b="1" lang="en-GB" sz="2400" spc="-1" strike="noStrike" u="sng">
                <a:solidFill>
                  <a:srgbClr val="333399"/>
                </a:solidFill>
                <a:uFillTx/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alta e magra. E </a:t>
            </a:r>
            <a:r>
              <a:rPr b="1" lang="en-GB" sz="2400" spc="-1" strike="noStrike" u="sng">
                <a:solidFill>
                  <a:srgbClr val="333399"/>
                </a:solidFill>
                <a:uFillTx/>
                <a:latin typeface="Comic Sans MS"/>
              </a:rPr>
              <a:t>lui</a:t>
            </a: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Ha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i capelli rossi, corti ed ondulati e gli occhi verdi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È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alto e molto gra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84360" y="2060640"/>
            <a:ext cx="792000" cy="785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124000" y="2060640"/>
            <a:ext cx="719280" cy="792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84360" y="314172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2050920" y="3068640"/>
            <a:ext cx="79236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755640" y="4292640"/>
            <a:ext cx="777960" cy="865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2050920" y="4292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684360" y="5300640"/>
            <a:ext cx="863280" cy="865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1979640" y="5373720"/>
            <a:ext cx="9367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2158920" cy="1966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300720" y="4149720"/>
            <a:ext cx="2644920" cy="2374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39640" y="4149720"/>
            <a:ext cx="2185920" cy="2260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227640" y="404640"/>
            <a:ext cx="2646360" cy="2406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924360" y="692280"/>
            <a:ext cx="1871640" cy="194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0" y="-2143080"/>
            <a:ext cx="4572000" cy="11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3348000" y="4149720"/>
            <a:ext cx="2449440" cy="2322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09600" y="280512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ff"/>
                </a:solidFill>
                <a:latin typeface="Comic Sans MS"/>
              </a:rPr>
              <a:t>Come si dice…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300720" y="4149720"/>
            <a:ext cx="2644920" cy="2374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2185920" cy="2260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227640" y="404640"/>
            <a:ext cx="2646360" cy="2406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924360" y="692280"/>
            <a:ext cx="1871640" cy="1944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0" y="-2143080"/>
            <a:ext cx="4572000" cy="11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348000" y="4149720"/>
            <a:ext cx="2449440" cy="2322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402080" y="280512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2158920" cy="1966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00720" y="4149720"/>
            <a:ext cx="2644920" cy="2374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39640" y="4149720"/>
            <a:ext cx="2185920" cy="2260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227640" y="404640"/>
            <a:ext cx="2646360" cy="2406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924360" y="692280"/>
            <a:ext cx="1871640" cy="1944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0" y="-2143080"/>
            <a:ext cx="4572000" cy="11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2158920" cy="1966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2185920" cy="2260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227640" y="404640"/>
            <a:ext cx="2646360" cy="2406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924360" y="692280"/>
            <a:ext cx="1871640" cy="1944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0" y="-2143080"/>
            <a:ext cx="4572000" cy="11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3348000" y="4149720"/>
            <a:ext cx="24494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2158920" cy="1966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300720" y="4149720"/>
            <a:ext cx="2644920" cy="2374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227640" y="404640"/>
            <a:ext cx="2646360" cy="2406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924360" y="692280"/>
            <a:ext cx="1871640" cy="1944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86000" y="-2143080"/>
            <a:ext cx="4572000" cy="11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3348000" y="4149720"/>
            <a:ext cx="24494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2158920" cy="196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300720" y="4149720"/>
            <a:ext cx="2644920" cy="237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39640" y="4149720"/>
            <a:ext cx="2185920" cy="2260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227640" y="404640"/>
            <a:ext cx="2646360" cy="2406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0" y="-2143080"/>
            <a:ext cx="4572000" cy="11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348000" y="4149720"/>
            <a:ext cx="24494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5:50:21Z</dcterms:created>
  <dc:creator>administrator</dc:creator>
  <dc:description/>
  <dc:language>en-US</dc:language>
  <cp:lastModifiedBy>Clare</cp:lastModifiedBy>
  <dcterms:modified xsi:type="dcterms:W3CDTF">2009-08-13T10:01:52Z</dcterms:modified>
  <cp:revision>15</cp:revision>
  <dc:subject/>
  <dc:title>Slide 1</dc:title>
</cp:coreProperties>
</file>