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854-DB7B-41F8-89FA-DE7095B5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BD7-0892-4AA4-8A93-A772E5B3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429-A493-44A1-88BF-6956B665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632-096D-413B-B1FF-6548DD56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B13-2829-4DA0-91D4-56A1B42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3CA-55B5-4F13-9AC8-1984AABB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8D6-9C5C-45E7-9C72-02FC4B3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7A5-6F96-45C3-98C1-C3DC73C2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9A0-2570-4FB1-90A5-40CF102E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480-F6C0-4DE9-A6C4-094221D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18F-9F81-4B1F-9D11-24C7518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2C1-1BEA-4094-BF81-58BB1B7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D5A-465D-49A8-8623-4DA65D7ACA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Ross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Giall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Bl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Arancio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os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ol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1:37:59Z</dcterms:created>
  <dc:creator> </dc:creator>
  <dc:description/>
  <dc:language>en-US</dc:language>
  <cp:lastModifiedBy>Clare</cp:lastModifiedBy>
  <dcterms:modified xsi:type="dcterms:W3CDTF">2009-08-13T10:03:35Z</dcterms:modified>
  <cp:revision>1</cp:revision>
  <dc:subject/>
  <dc:title>Slide 1</dc:title>
</cp:coreProperties>
</file>