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D43-51D3-4CD8-9193-940B966C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FC5-E991-4D03-B77F-48DA4B05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299-42AC-469A-BDCD-E35526A3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C19-9B2E-417D-B724-DE0A8888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469-D3C8-40D4-971B-BF341FB4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AD6-949D-41FF-A0D1-2AED060F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065-C941-480F-B50A-767C4B6D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234-9069-48D7-B847-88E7D3CE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E47-1074-4284-A921-EE269F3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C8B-82D6-4D8C-8DCD-1C5AE490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40F-9FB6-4651-B5F3-22CA4B31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2B5-344C-4D4D-8A55-1DCA432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CB2A-E46A-47A8-BFDE-2223C471EC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Ross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Giall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Bl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Arancio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os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Bianc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95640" y="476280"/>
            <a:ext cx="4752720" cy="4465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5516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515772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ol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1:37:59Z</dcterms:created>
  <dc:creator> </dc:creator>
  <dc:description/>
  <dc:language>en-US</dc:language>
  <cp:lastModifiedBy>Clare</cp:lastModifiedBy>
  <dcterms:modified xsi:type="dcterms:W3CDTF">2009-08-13T10:03:35Z</dcterms:modified>
  <cp:revision>1</cp:revision>
  <dc:subject/>
  <dc:title>Slide 1</dc:title>
</cp:coreProperties>
</file>