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1744-591D-4380-B0F9-7AED3732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51D9-A12F-4528-9DB7-C2305786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573C-5389-4876-AF7A-FDCE7822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2EAD-444B-4FCD-BD08-29696E118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DA98-D5B3-43B1-8F5F-49E135FC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F6D7-9894-483C-A6A2-3824FA6A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1D43-3885-403D-8192-1D2E45E1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68CB-F701-40C3-B939-55C61928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2B61-0248-45B6-82C5-322DC323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4F9A-6FEB-4068-AC0F-7E97900E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B8DB-5A44-4F7E-A580-E24FEF49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CBD6-F034-4AFB-805A-7B9B129D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D5CD-B212-43EC-A4AA-9900BBEEF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Bradley Hand ITC"/>
              </a:rPr>
              <a:t>Che cosa c’e nel mio zaino</a:t>
            </a:r>
            <a:r>
              <a:rPr b="0" lang="it-IT" sz="4400" spc="-1" strike="noStrike">
                <a:solidFill>
                  <a:srgbClr val="000000"/>
                </a:solidFill>
                <a:latin typeface="Bradley Hand ITC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adley Hand ITC"/>
              </a:rPr>
              <a:t>L/O: </a:t>
            </a:r>
            <a:r>
              <a:rPr b="1" lang="en-US" sz="4800" spc="-1" strike="noStrike">
                <a:solidFill>
                  <a:srgbClr val="000000"/>
                </a:solidFill>
                <a:latin typeface="Bradley Hand ITC"/>
              </a:rPr>
              <a:t>Stationery ite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Bradley Hand ITC"/>
              </a:rPr>
              <a:t>Cucitric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57200" y="1600200"/>
            <a:ext cx="4762440" cy="4525920"/>
            <a:chOff x="457200" y="1600200"/>
            <a:chExt cx="4762440" cy="452592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76244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 txBox="1"/>
            <p:nvPr/>
          </p:nvSpPr>
          <p:spPr>
            <a:xfrm>
              <a:off x="457200" y="1600200"/>
              <a:ext cx="476244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Bradley Hand ITC"/>
              </a:rPr>
              <a:t>Zain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53844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Bradley Hand ITC"/>
              </a:rPr>
              <a:t>Cestin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970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Bradley Hand ITC"/>
              </a:rPr>
              <a:t>Righell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57200" y="1600200"/>
            <a:ext cx="4259160" cy="4525920"/>
            <a:chOff x="457200" y="1600200"/>
            <a:chExt cx="4259160" cy="452592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25916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 txBox="1"/>
            <p:nvPr/>
          </p:nvSpPr>
          <p:spPr>
            <a:xfrm>
              <a:off x="457200" y="1600200"/>
              <a:ext cx="425916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Bradley Hand ITC"/>
              </a:rPr>
              <a:t>Pennarell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827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radley Hand ITC"/>
              </a:rPr>
              <a:t>Forbi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57200" y="1600200"/>
            <a:ext cx="5627520" cy="3413160"/>
            <a:chOff x="457200" y="1600200"/>
            <a:chExt cx="5627520" cy="341316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5627520" cy="341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 txBox="1"/>
            <p:nvPr/>
          </p:nvSpPr>
          <p:spPr>
            <a:xfrm>
              <a:off x="457200" y="1600200"/>
              <a:ext cx="5627520" cy="341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Bradley Hand ITC"/>
              </a:rPr>
              <a:t>Evidenziator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57200" y="1600200"/>
            <a:ext cx="4043520" cy="4525920"/>
            <a:chOff x="457200" y="1600200"/>
            <a:chExt cx="4043520" cy="452592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4352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 txBox="1"/>
            <p:nvPr/>
          </p:nvSpPr>
          <p:spPr>
            <a:xfrm>
              <a:off x="457200" y="1600200"/>
              <a:ext cx="404352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radley Hand ITC"/>
              </a:rPr>
              <a:t>Raccoghit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57200" y="1600200"/>
            <a:ext cx="5554800" cy="4525920"/>
            <a:chOff x="457200" y="1600200"/>
            <a:chExt cx="5554800" cy="45259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55548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 txBox="1"/>
            <p:nvPr/>
          </p:nvSpPr>
          <p:spPr>
            <a:xfrm>
              <a:off x="457200" y="1600200"/>
              <a:ext cx="55548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Bradley Hand ITC"/>
              </a:rPr>
              <a:t>Temperin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57200" y="1600200"/>
            <a:ext cx="4330800" cy="4525920"/>
            <a:chOff x="457200" y="1600200"/>
            <a:chExt cx="4330800" cy="452592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3308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 txBox="1"/>
            <p:nvPr/>
          </p:nvSpPr>
          <p:spPr>
            <a:xfrm>
              <a:off x="457200" y="1600200"/>
              <a:ext cx="43308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Bradley Hand ITC"/>
              </a:rPr>
              <a:t>Penn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483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Bradley Hand ITC"/>
              </a:rPr>
              <a:t>Matit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57200" y="1600200"/>
            <a:ext cx="2602080" cy="4525920"/>
            <a:chOff x="457200" y="1600200"/>
            <a:chExt cx="2602080" cy="452592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26020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 txBox="1"/>
            <p:nvPr/>
          </p:nvSpPr>
          <p:spPr>
            <a:xfrm>
              <a:off x="457200" y="1600200"/>
              <a:ext cx="26020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Bradley Hand ITC"/>
              </a:rPr>
              <a:t>Gomma di cancella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402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Bradley Hand ITC"/>
              </a:rPr>
              <a:t>Astucci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835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20:27:11Z</dcterms:created>
  <dc:creator>Ingrid Santana</dc:creator>
  <dc:description/>
  <dc:language>en-US</dc:language>
  <cp:lastModifiedBy>Clare</cp:lastModifiedBy>
  <dcterms:modified xsi:type="dcterms:W3CDTF">2009-08-13T10:06:01Z</dcterms:modified>
  <cp:revision>3</cp:revision>
  <dc:subject/>
  <dc:title>Che cosa c’e nel mio zaino</dc:title>
</cp:coreProperties>
</file>