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A520-A263-4F9D-986F-29AF8B9A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178-1DC9-4524-9383-0AB37E84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FBE-04D2-402B-8B9A-23870E35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B36C-DF5F-4C46-B268-BA6514F8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0259-DC84-4637-893D-AD5D99CA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7D5F-2D1A-40FE-8BB9-08735C8E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0426-A664-4DF1-8EA2-8A459E31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71FD-7E1B-423F-9609-4B91ABDA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720-09CB-4B23-9ED7-2C13462A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4FCB-885A-4A39-B520-17F8419E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735-CA58-4338-84E7-E2E7B91B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9B1-67D2-4EFD-96F9-79716383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2505-4F0B-4A98-8016-4351507A1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Bradley Hand ITC"/>
              </a:rPr>
              <a:t>Che cosa c’e nel mio zaino</a:t>
            </a:r>
            <a:r>
              <a:rPr b="0" lang="it-IT" sz="4400" spc="-1" strike="noStrike">
                <a:solidFill>
                  <a:srgbClr val="000000"/>
                </a:solidFill>
                <a:latin typeface="Bradley Hand ITC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adley Hand ITC"/>
              </a:rPr>
              <a:t>L/O: </a:t>
            </a: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Stationery it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Bradley Hand ITC"/>
              </a:rPr>
              <a:t>Cucitri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57200" y="1600200"/>
            <a:ext cx="4762440" cy="4525920"/>
            <a:chOff x="457200" y="1600200"/>
            <a:chExt cx="4762440" cy="452592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76244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 txBox="1"/>
            <p:nvPr/>
          </p:nvSpPr>
          <p:spPr>
            <a:xfrm>
              <a:off x="457200" y="1600200"/>
              <a:ext cx="476244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Bradley Hand ITC"/>
              </a:rPr>
              <a:t>Zai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53844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Bradley Hand ITC"/>
              </a:rPr>
              <a:t>Cestin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970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Bradley Hand ITC"/>
              </a:rPr>
              <a:t>Righell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57200" y="1600200"/>
            <a:ext cx="4259160" cy="4525920"/>
            <a:chOff x="457200" y="1600200"/>
            <a:chExt cx="4259160" cy="45259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25916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 txBox="1"/>
            <p:nvPr/>
          </p:nvSpPr>
          <p:spPr>
            <a:xfrm>
              <a:off x="457200" y="1600200"/>
              <a:ext cx="425916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Bradley Hand ITC"/>
              </a:rPr>
              <a:t>Pennarell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2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radley Hand ITC"/>
              </a:rPr>
              <a:t>Forb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1600200"/>
            <a:ext cx="5627520" cy="3413160"/>
            <a:chOff x="457200" y="1600200"/>
            <a:chExt cx="5627520" cy="341316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5627520" cy="341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457200" y="1600200"/>
              <a:ext cx="5627520" cy="341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Bradley Hand ITC"/>
              </a:rPr>
              <a:t>Evidenziator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57200" y="1600200"/>
            <a:ext cx="4043520" cy="4525920"/>
            <a:chOff x="457200" y="1600200"/>
            <a:chExt cx="4043520" cy="45259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4352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 txBox="1"/>
            <p:nvPr/>
          </p:nvSpPr>
          <p:spPr>
            <a:xfrm>
              <a:off x="457200" y="1600200"/>
              <a:ext cx="404352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radley Hand ITC"/>
              </a:rPr>
              <a:t>Raccoghit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57200" y="1600200"/>
            <a:ext cx="5554800" cy="4525920"/>
            <a:chOff x="457200" y="1600200"/>
            <a:chExt cx="5554800" cy="45259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55548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 txBox="1"/>
            <p:nvPr/>
          </p:nvSpPr>
          <p:spPr>
            <a:xfrm>
              <a:off x="457200" y="1600200"/>
              <a:ext cx="55548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Bradley Hand ITC"/>
              </a:rPr>
              <a:t>Temperin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57200" y="1600200"/>
            <a:ext cx="4330800" cy="4525920"/>
            <a:chOff x="457200" y="1600200"/>
            <a:chExt cx="4330800" cy="452592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3308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457200" y="1600200"/>
              <a:ext cx="43308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Bradley Hand ITC"/>
              </a:rPr>
              <a:t>Pen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483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Bradley Hand ITC"/>
              </a:rPr>
              <a:t>Matit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7200" y="1600200"/>
            <a:ext cx="2602080" cy="4525920"/>
            <a:chOff x="457200" y="1600200"/>
            <a:chExt cx="2602080" cy="45259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26020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 txBox="1"/>
            <p:nvPr/>
          </p:nvSpPr>
          <p:spPr>
            <a:xfrm>
              <a:off x="457200" y="1600200"/>
              <a:ext cx="26020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radley Hand ITC"/>
              </a:rPr>
              <a:t>Gomma di cancell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40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Bradley Hand ITC"/>
              </a:rPr>
              <a:t>Astucci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83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20:27:11Z</dcterms:created>
  <dc:creator>Ingrid Santana</dc:creator>
  <dc:description/>
  <dc:language>en-US</dc:language>
  <cp:lastModifiedBy>Clare</cp:lastModifiedBy>
  <dcterms:modified xsi:type="dcterms:W3CDTF">2009-08-13T10:06:01Z</dcterms:modified>
  <cp:revision>3</cp:revision>
  <dc:subject/>
  <dc:title>Che cosa c’e nel mio zaino</dc:title>
</cp:coreProperties>
</file>