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863-8796-466E-9118-87B96D35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D74-3518-4FD5-B99F-5B3537F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D15-EB91-4E68-88A9-B975232E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36F-884C-4F58-9D7A-A800980F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80D-03B6-4C2A-A0DD-70766D85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103-5334-4F79-B4FB-DA1EC7D3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CD4-10C0-4306-832F-071279F0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C41-840B-4541-A0F6-E0BBDF5D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5A0-440C-491E-9C5E-6918E9FB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626-1F33-4C4B-B2E1-FDE3A02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744-9852-4A8E-8953-5BE4FD3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56A-28A9-4A60-8FF5-52E5A2D4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3343-79E3-4A09-91FB-20BB2E3F240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 giorni della settimana e le stag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68151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53920" y="333360"/>
            <a:ext cx="7678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1600200"/>
            <a:ext cx="547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un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97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76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1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08:44Z</dcterms:created>
  <dc:creator>Clevedon Community</dc:creator>
  <dc:description/>
  <dc:language>en-US</dc:language>
  <cp:lastModifiedBy>Clare</cp:lastModifiedBy>
  <dcterms:modified xsi:type="dcterms:W3CDTF">2009-08-13T10:11:57Z</dcterms:modified>
  <cp:revision>3</cp:revision>
  <dc:subject/>
  <dc:title>Slide 1</dc:title>
</cp:coreProperties>
</file>