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617-1C94-427B-BBA3-1AD21BB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222-DEF4-4CA0-B5F0-88D88354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A6F-BA20-4AE0-ABA3-EEC9D2F8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1B3-D05B-424A-B926-D5E59EDA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908-7BE7-4D88-AAEB-B41813F1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A22-7CE1-475B-9AA2-060787A6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F96-4DFF-41E4-A2DB-229D67EC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5BD-48DE-48D1-97CF-6C6E5ACC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8FB-7797-4251-892A-C9CD8CA0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3D4-AA31-40C4-84EF-1B98397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B6C-F4DE-4D6F-A798-3D1A25D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666-9873-4C4C-BCAB-41EEDDCA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DD20-112B-40AF-9D44-A5C022EF0F7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 giorni della settimana e le stag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68151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53920" y="333360"/>
            <a:ext cx="7678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1600200"/>
            <a:ext cx="547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un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97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76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1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08:44Z</dcterms:created>
  <dc:creator>Clevedon Community</dc:creator>
  <dc:description/>
  <dc:language>en-US</dc:language>
  <cp:lastModifiedBy>Clare</cp:lastModifiedBy>
  <dcterms:modified xsi:type="dcterms:W3CDTF">2009-08-13T10:11:57Z</dcterms:modified>
  <cp:revision>3</cp:revision>
  <dc:subject/>
  <dc:title>Slide 1</dc:title>
</cp:coreProperties>
</file>