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22A8-B6E5-432D-864C-84ED61A7A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448C-61E4-467A-9CB4-AC885A7D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907F-2EFF-4000-801F-61B58FA3A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7829-45F0-4204-AFB2-1C2E7B1DC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216C-9D58-4CE2-A6B8-5C33A019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6D12-AF5C-4442-8DF7-42A943BF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AB96-942F-4EC7-AA9B-5C3A64CA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4CF1-B249-449F-BA15-AB99E471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EEE5-4B6C-46F2-A398-FC7B6F21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6E3E-45FB-4107-8C6B-D524C7B3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6000-4890-4E12-B7C4-1E03D256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5AAC-5D1A-41AD-82FA-A5849DCC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A24B-1E98-4943-B7F4-1F58027045A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ura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219280" y="274320"/>
            <a:ext cx="3467160" cy="156996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 gel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20225400">
            <a:off x="610920" y="1125000"/>
            <a:ext cx="47242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8000" y="2276280"/>
            <a:ext cx="3322440" cy="114300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 gela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762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27640" y="2636640"/>
            <a:ext cx="2602080" cy="114300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a bir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3960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19640" y="2349000"/>
            <a:ext cx="3394080" cy="114300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e bir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41767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580000" y="1125360"/>
            <a:ext cx="3322800" cy="250992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 bicchiere d’acqua mine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3673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32000" y="274320"/>
            <a:ext cx="3816360" cy="178596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4 bicchieri d’acqua miner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53290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56000" y="2276280"/>
            <a:ext cx="4330800" cy="114300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na bottiglia di vi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28814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71280" y="274320"/>
            <a:ext cx="4464360" cy="149868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5 bottiglie di v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669780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09:52:53Z</dcterms:created>
  <dc:creator>Clevedon Community</dc:creator>
  <dc:description/>
  <dc:language>en-US</dc:language>
  <cp:lastModifiedBy>Clare</cp:lastModifiedBy>
  <dcterms:modified xsi:type="dcterms:W3CDTF">2009-08-13T10:12:57Z</dcterms:modified>
  <cp:revision>3</cp:revision>
  <dc:subject/>
  <dc:title>Slide 1</dc:title>
</cp:coreProperties>
</file>