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CD9-89F7-4882-867E-4C7B834C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CED-8328-40B1-8966-08F9864F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3D5-0B08-41F5-AED5-9CB23FB5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5E5-0286-47EE-BED2-7B33F26B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63D-7CB7-45AE-B494-5E24CD33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EB3-2027-4175-A03E-63657C8D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F97-6249-44B0-AFDD-3D7563FA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783-C8EC-412E-8F15-017E6039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22B-765A-4F35-8343-DD5687BE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503-1D73-490E-BBAB-2BFBEDEF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8B9-DD4E-4B4F-9156-5C798F0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13F-5C76-4E94-A71C-3202BAF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297C-88F9-4757-9EB6-D6EA9520CA8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r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56996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gel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225400">
            <a:off x="610920" y="1125000"/>
            <a:ext cx="472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8000" y="2276280"/>
            <a:ext cx="33224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gel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762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27640" y="2636640"/>
            <a:ext cx="2602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bi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396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2349000"/>
            <a:ext cx="3394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e bi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17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0000" y="1125360"/>
            <a:ext cx="3322800" cy="250992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bicchiere d’acqua mine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67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816360" cy="178596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bicchieri d’acqua mine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329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56000" y="2276280"/>
            <a:ext cx="4330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a bottiglia di v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2881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464360" cy="149868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5 bottiglie di v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6978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9:52:53Z</dcterms:created>
  <dc:creator>Clevedon Community</dc:creator>
  <dc:description/>
  <dc:language>en-US</dc:language>
  <cp:lastModifiedBy>Clare</cp:lastModifiedBy>
  <dcterms:modified xsi:type="dcterms:W3CDTF">2009-08-13T10:12:57Z</dcterms:modified>
  <cp:revision>3</cp:revision>
  <dc:subject/>
  <dc:title>Slide 1</dc:title>
</cp:coreProperties>
</file>