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11.wmf" ContentType="image/x-wmf"/>
  <Override PartName="/ppt/media/image9.jpeg" ContentType="image/jpeg"/>
  <Override PartName="/ppt/media/image16.wmf" ContentType="image/x-wmf"/>
  <Override PartName="/ppt/media/image4.jpeg" ContentType="image/jpeg"/>
  <Override PartName="/ppt/media/image14.wmf" ContentType="image/x-wmf"/>
  <Override PartName="/ppt/media/image5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AA50-2217-42E0-B6EB-7EF424946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A676-3428-4FFB-9CA7-25EBD5743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71F5-8F25-4969-94D4-A886E74FD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3C8D-F298-465F-B244-1A3BADAAB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F35A9-C60C-4837-A8B7-6F6A513A2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B95BC-6C6C-4C0A-8747-D9A175D04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F61F0-5D79-4788-BF46-D4F240409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08CDB-DFC6-4048-A7AF-1E81D0E4E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8F936-4045-452C-88D4-A304ECA4E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B1550-4B87-4982-8317-6960A6746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674BD-9780-41AB-A64F-A3CC30A7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228E-D5E7-4CB7-91C3-62F888845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233BA-B58C-4699-A800-C1DC074F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2F454-3544-4E9A-B9B8-5492E32E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911C6-0E6E-4399-B78A-1162364E3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E338C-0949-482C-AECA-7B7F49E92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67EBC-B72C-4949-B85B-01206C3F8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4E8F6-4E08-47D3-9581-BC1677115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5F066-DB37-4530-96B1-F89CA614A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238DD-70B0-4688-99EB-5D3263EB5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095BF-9D51-466C-99A5-F93F340F1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3D36B-D658-4BB0-A474-4BD10B9E3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BB18-5C64-4E9D-90BF-C2A606204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11CAE-2750-4DC4-9634-CAAB19D0F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AB9FE-7036-4FC8-B246-1692C805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13045-58CF-48B7-BB2B-48A538DA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0B1F8-781F-4CCE-9E73-F62BCC27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69020-3729-4448-8F09-1BA7770DF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CEC48-1BDE-40DF-B567-1DBF2B072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B549C-2325-4E1A-A88E-EC8EE6D4C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5142-1D74-4FD9-9285-7AB35C976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9DF7-F652-4A09-A18A-CE85D759E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0C12-8CD3-461F-BD9C-BFF9BBE84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D433-67EC-484C-9DC1-3DF1876C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A14E-F153-4AE0-AA2F-17A3B080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4159-5A2F-4E99-9811-6F616A9E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2196E-CC89-41FE-8DB0-36D579B499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85F81-406C-4147-97E2-49547D03657C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F3CEA-D2D0-4CA1-B655-F3543094D51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meddybemps.com/shops/2shops01.gif&amp;imgrefurl=http://www.meddybemps.com/shops/2shops.html&amp;h=396&amp;w=635&amp;sz=66&amp;hl=en&amp;start=1&amp;tbnid=NX2SQfPt9oijWM:&amp;tbnh=85&amp;tbnw=137&amp;prev=/images%3Fq%3Dshops%2B%26gbv%3D2%26svnum%3D10%26hl%3Den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.uk/imgres?imgurl=http://circle.cc.hokudai.ac.jp/huisa/images/tennis_cartoon.gif&amp;imgrefurl=http://circle.cc.hokudai.ac.jp/huisa/forums/showthread.php%3Ft%3D153&amp;h=198&amp;w=197&amp;sz=6&amp;hl=en&amp;start=6&amp;tbnid=_L8IcGkk9s9qJM:&amp;tbnh=104&amp;tbnw=103&amp;prev=/images%3Fq%3Dtennis%2Bcartoon%26gbv%3D2%26svnum%3D10%26hl%3Den%26sa%3DG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co.uk/imgres?imgurl=http://www.sundanceridingstables.com/fixed/horse%2520cartoon/1.gif&amp;imgrefurl=http://www.sundanceridingstables.com/&amp;h=486&amp;w=491&amp;sz=10&amp;hl=en&amp;start=2&amp;tbnid=EEHflUbjXoHWtM:&amp;tbnh=129&amp;tbnw=130&amp;prev=/images%3Fq%3Dhorse%2Briding%2Bcartoon%26gbv%3D2%26svnum%3D10%26hl%3Den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images.google.co.uk/imgres?imgurl=http://bp0.blogger.com/_UU-faylKkn4/RkQiqVExOJI/AAAAAAAAAv8/Pb45e9l11A8/s400/friendsCartoon.jpg&amp;imgrefurl=http://www.jaspari.info/2007/05/why-do-we-need-friends-in-our-life.html&amp;h=238&amp;w=252&amp;sz=11&amp;hl=en&amp;start=20&amp;tbnid=7bwX1Wg6GISL1M:&amp;tbnh=105&amp;tbnw=111&amp;prev=/images%3Fq%3Dfriends%2B%2Bcartoon%26gbv%3D2%26svnum%3D10%26hl%3Den%26sa%3DG" TargetMode="External"/><Relationship Id="rId8" Type="http://schemas.openxmlformats.org/officeDocument/2006/relationships/image" Target="../media/image4.jpeg"/><Relationship Id="rId9" Type="http://schemas.openxmlformats.org/officeDocument/2006/relationships/hyperlink" Target="http://images.google.co.uk/imgres?imgurl=http://www.mayflowerballroom.com/images/color_cartoon_partners.gif&amp;imgrefurl=http://www.mayflowerballroom.com/dancing.html&amp;h=400&amp;w=210&amp;sz=11&amp;hl=en&amp;start=10&amp;tbnid=qhMyu40qvpaqFM:&amp;tbnh=124&amp;tbnw=65&amp;prev=/images%3Fq%3Ddance%2B%2Bcartoon%26gbv%3D2%26svnum%3D10%26hl%3Den" TargetMode="External"/><Relationship Id="rId10" Type="http://schemas.openxmlformats.org/officeDocument/2006/relationships/image" Target="../media/image5.jpeg"/><Relationship Id="rId11" Type="http://schemas.openxmlformats.org/officeDocument/2006/relationships/hyperlink" Target="http://images.google.co.uk/imgres?imgurl=http://www1.istockphoto.com/file_thumbview_approve/1816985/2/istockphoto_1816985_editable_cartoon_illustration_of_disco_dancers.jpg&amp;imgrefurl=http://www.istockphoto.com/file_closeup/styles_of_music/disco/discotheques/1816985_editable_cartoon_illustration_of_disco_dancers.php%3Fid%3D1816985&amp;h=380&amp;w=380&amp;sz=34&amp;hl=en&amp;start=1&amp;tbnid=mLT959yUwMh4DM:&amp;tbnh=123&amp;tbnw=123&amp;prev=/images%3Fq%3Ddisco%2B%2Bcartoon%26gbv%3D2%26svnum%3D10%26hl%3Den" TargetMode="External"/><Relationship Id="rId12" Type="http://schemas.openxmlformats.org/officeDocument/2006/relationships/image" Target="../media/image6.jpeg"/><Relationship Id="rId13" Type="http://schemas.openxmlformats.org/officeDocument/2006/relationships/hyperlink" Target="http://images.google.co.uk/imgres?imgurl=http://podcast.happytreefriends.com/pokernight.jpg&amp;imgrefurl=http://www.podbean.com/search%3Fk%3Dtag%26v%3Danimation%26page%3D5&amp;h=360&amp;w=360&amp;sz=79&amp;hl=en&amp;start=28&amp;tbnid=b5PiR93myLOZgM:&amp;tbnh=121&amp;tbnw=121&amp;prev=/images%3Fq%3Dplay%2Bcards%2Bcartoon%26start%3D20%26gbv%3D2%26ndsp%3D20%26svnum%3D10%26hl%3Den%26sa%3DN" TargetMode="External"/><Relationship Id="rId14" Type="http://schemas.openxmlformats.org/officeDocument/2006/relationships/image" Target="../media/image7.jpeg"/><Relationship Id="rId15" Type="http://schemas.openxmlformats.org/officeDocument/2006/relationships/hyperlink" Target="http://images.google.co.uk/imgres?imgurl=http://www.gbcytide.org/images/swim_cartoon.gif&amp;imgrefurl=http://www.bayoublacktarpons.com/&amp;h=500&amp;w=438&amp;sz=153&amp;hl=en&amp;start=1&amp;tbnid=TB4zwRbIifzh6M:&amp;tbnh=130&amp;tbnw=114&amp;prev=/images%3Fq%3Dswim%2Bcartoon%26gbv%3D2%26svnum%3D10%26hl%3Den%26sa%3DG" TargetMode="External"/><Relationship Id="rId16" Type="http://schemas.openxmlformats.org/officeDocument/2006/relationships/image" Target="../media/image8.jpeg"/><Relationship Id="rId17" Type="http://schemas.openxmlformats.org/officeDocument/2006/relationships/hyperlink" Target="http://images.google.co.uk/imgres?imgurl=http://www.dare2livedog.com/product_images/kids_T_mountain_bike.gif&amp;imgrefurl=http://www.dare2livedog.com/subcategory.php%3Fsubcategory%3DKid%27s%2520Tees&amp;h=294&amp;w=294&amp;sz=20&amp;hl=en&amp;start=4&amp;tbnid=2rrnY2EgJ216lM:&amp;tbnh=115&amp;tbnw=115&amp;prev=/images%3Fq%3Dbike%2Bcartoon%26gbv%3D2%26svnum%3D10%26hl%3Den" TargetMode="External"/><Relationship Id="rId18" Type="http://schemas.openxmlformats.org/officeDocument/2006/relationships/image" Target="../media/image9.jpeg"/><Relationship Id="rId19" Type="http://schemas.openxmlformats.org/officeDocument/2006/relationships/hyperlink" Target="http://images.google.co.uk/imgres?imgurl=http://www.sportcartoonbooks.com/kicki.jpg&amp;imgrefurl=http://www.sportcartoonbooks.com/soccercartoonbook.htm&amp;h=511&amp;w=614&amp;sz=65&amp;hl=en&amp;start=7&amp;tbnid=_b67t_fsRmX2gM:&amp;tbnh=113&amp;tbnw=136&amp;prev=/images%3Fq%3Dsoccer%2Bcartoon%26gbv%3D2%26svnum%3D10%26hl%3Den" TargetMode="External"/><Relationship Id="rId20" Type="http://schemas.openxmlformats.org/officeDocument/2006/relationships/image" Target="../media/image10.jpeg"/><Relationship Id="rId21" Type="http://schemas.openxmlformats.org/officeDocument/2006/relationships/image" Target="../media/image11.wmf"/><Relationship Id="rId22" Type="http://schemas.openxmlformats.org/officeDocument/2006/relationships/image" Target="../media/image12.png"/><Relationship Id="rId23" Type="http://schemas.openxmlformats.org/officeDocument/2006/relationships/image" Target="../media/image13.png"/><Relationship Id="rId24" Type="http://schemas.openxmlformats.org/officeDocument/2006/relationships/image" Target="../media/image14.wmf"/><Relationship Id="rId25" Type="http://schemas.openxmlformats.org/officeDocument/2006/relationships/image" Target="../media/image15.wmf"/><Relationship Id="rId26" Type="http://schemas.openxmlformats.org/officeDocument/2006/relationships/image" Target="../media/image16.wmf"/><Relationship Id="rId27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podcast.happytreefriends.com/pokernight.jpg&amp;imgrefurl=http://www.podbean.com/search%3Fk%3Dtag%26v%3Danimation%26page%3D5&amp;h=360&amp;w=360&amp;sz=79&amp;hl=en&amp;start=28&amp;tbnid=b5PiR93myLOZgM:&amp;tbnh=121&amp;tbnw=121&amp;prev=/images%3Fq%3Dplay%2Bcards%2Bcartoon%26start%3D20%26gbv%3D2%26ndsp%3D20%26svnum%3D10%26hl%3Den%26sa%3DN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dare2livedog.com/product_images/kids_T_mountain_bike.gif&amp;imgrefurl=http://www.dare2livedog.com/subcategory.php%3Fsubcategory%3DKid%27s%2520Tees&amp;h=294&amp;w=294&amp;sz=20&amp;hl=en&amp;start=4&amp;tbnid=2rrnY2EgJ216lM:&amp;tbnh=115&amp;tbnw=115&amp;prev=/images%3Fq%3Dbike%2Bcartoon%26gbv%3D2%26svnum%3D10%26hl%3Den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dare2livedog.com/product_images/kids_T_mountain_bike.gif&amp;imgrefurl=http://www.dare2livedog.com/subcategory.php%3Fsubcategory%3DKid%27s%2520Tees&amp;h=294&amp;w=294&amp;sz=20&amp;hl=en&amp;start=4&amp;tbnid=2rrnY2EgJ216lM:&amp;tbnh=115&amp;tbnw=115&amp;prev=/images%3Fq%3Dbike%2Bcartoon%26gbv%3D2%26svnum%3D10%26hl%3Den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sportcartoonbooks.com/kicki.jpg&amp;imgrefurl=http://www.sportcartoonbooks.com/soccercartoonbook.htm&amp;h=511&amp;w=614&amp;sz=65&amp;hl=en&amp;start=7&amp;tbnid=_b67t_fsRmX2gM:&amp;tbnh=113&amp;tbnw=136&amp;prev=/images%3Fq%3Dsoccer%2Bcartoon%26gbv%3D2%26svnum%3D10%26hl%3Den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sportcartoonbooks.com/kicki.jpg&amp;imgrefurl=http://www.sportcartoonbooks.com/soccercartoonbook.htm&amp;h=511&amp;w=614&amp;sz=65&amp;hl=en&amp;start=7&amp;tbnid=_b67t_fsRmX2gM:&amp;tbnh=113&amp;tbnw=136&amp;prev=/images%3Fq%3Dsoccer%2Bcartoon%26gbv%3D2%26svnum%3D10%26hl%3Den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mayflowerballroom.com/images/color_cartoon_partners.gif&amp;imgrefurl=http://www.mayflowerballroom.com/dancing.html&amp;h=400&amp;w=210&amp;sz=11&amp;hl=en&amp;start=10&amp;tbnid=qhMyu40qvpaqFM:&amp;tbnh=124&amp;tbnw=65&amp;prev=/images%3Fq%3Ddance%2B%2Bcartoon%26gbv%3D2%26svnum%3D10%26hl%3Den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meddybemps.com/shops/2shops01.gif&amp;imgrefurl=http://www.meddybemps.com/shops/2shops.html&amp;h=396&amp;w=635&amp;sz=66&amp;hl=en&amp;start=1&amp;tbnid=NX2SQfPt9oijWM:&amp;tbnh=85&amp;tbnw=137&amp;prev=/images%3Fq%3Dshops%2B%26gbv%3D2%26svnum%3D10%26hl%3Den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.uk/imgres?imgurl=http://circle.cc.hokudai.ac.jp/huisa/images/tennis_cartoon.gif&amp;imgrefurl=http://circle.cc.hokudai.ac.jp/huisa/forums/showthread.php%3Ft%3D153&amp;h=198&amp;w=197&amp;sz=6&amp;hl=en&amp;start=6&amp;tbnid=_L8IcGkk9s9qJM:&amp;tbnh=104&amp;tbnw=103&amp;prev=/images%3Fq%3Dtennis%2Bcartoon%26gbv%3D2%26svnum%3D10%26hl%3Den%26sa%3DG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co.uk/imgres?imgurl=http://www.sundanceridingstables.com/fixed/horse%2520cartoon/1.gif&amp;imgrefurl=http://www.sundanceridingstables.com/&amp;h=486&amp;w=491&amp;sz=10&amp;hl=en&amp;start=2&amp;tbnid=EEHflUbjXoHWtM:&amp;tbnh=129&amp;tbnw=130&amp;prev=/images%3Fq%3Dhorse%2Briding%2Bcartoon%26gbv%3D2%26svnum%3D10%26hl%3Den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images.google.co.uk/imgres?imgurl=http://bp0.blogger.com/_UU-faylKkn4/RkQiqVExOJI/AAAAAAAAAv8/Pb45e9l11A8/s400/friendsCartoon.jpg&amp;imgrefurl=http://www.jaspari.info/2007/05/why-do-we-need-friends-in-our-life.html&amp;h=238&amp;w=252&amp;sz=11&amp;hl=en&amp;start=20&amp;tbnid=7bwX1Wg6GISL1M:&amp;tbnh=105&amp;tbnw=111&amp;prev=/images%3Fq%3Dfriends%2B%2Bcartoon%26gbv%3D2%26svnum%3D10%26hl%3Den%26sa%3DG" TargetMode="External"/><Relationship Id="rId8" Type="http://schemas.openxmlformats.org/officeDocument/2006/relationships/image" Target="../media/image4.jpeg"/><Relationship Id="rId9" Type="http://schemas.openxmlformats.org/officeDocument/2006/relationships/hyperlink" Target="http://images.google.co.uk/imgres?imgurl=http://www.mayflowerballroom.com/images/color_cartoon_partners.gif&amp;imgrefurl=http://www.mayflowerballroom.com/dancing.html&amp;h=400&amp;w=210&amp;sz=11&amp;hl=en&amp;start=10&amp;tbnid=qhMyu40qvpaqFM:&amp;tbnh=124&amp;tbnw=65&amp;prev=/images%3Fq%3Ddance%2B%2Bcartoon%26gbv%3D2%26svnum%3D10%26hl%3Den" TargetMode="External"/><Relationship Id="rId10" Type="http://schemas.openxmlformats.org/officeDocument/2006/relationships/image" Target="../media/image5.jpeg"/><Relationship Id="rId11" Type="http://schemas.openxmlformats.org/officeDocument/2006/relationships/hyperlink" Target="http://images.google.co.uk/imgres?imgurl=http://www1.istockphoto.com/file_thumbview_approve/1816985/2/istockphoto_1816985_editable_cartoon_illustration_of_disco_dancers.jpg&amp;imgrefurl=http://www.istockphoto.com/file_closeup/styles_of_music/disco/discotheques/1816985_editable_cartoon_illustration_of_disco_dancers.php%3Fid%3D1816985&amp;h=380&amp;w=380&amp;sz=34&amp;hl=en&amp;start=1&amp;tbnid=mLT959yUwMh4DM:&amp;tbnh=123&amp;tbnw=123&amp;prev=/images%3Fq%3Ddisco%2B%2Bcartoon%26gbv%3D2%26svnum%3D10%26hl%3Den" TargetMode="External"/><Relationship Id="rId12" Type="http://schemas.openxmlformats.org/officeDocument/2006/relationships/image" Target="../media/image6.jpeg"/><Relationship Id="rId13" Type="http://schemas.openxmlformats.org/officeDocument/2006/relationships/hyperlink" Target="http://images.google.co.uk/imgres?imgurl=http://podcast.happytreefriends.com/pokernight.jpg&amp;imgrefurl=http://www.podbean.com/search%3Fk%3Dtag%26v%3Danimation%26page%3D5&amp;h=360&amp;w=360&amp;sz=79&amp;hl=en&amp;start=28&amp;tbnid=b5PiR93myLOZgM:&amp;tbnh=121&amp;tbnw=121&amp;prev=/images%3Fq%3Dplay%2Bcards%2Bcartoon%26start%3D20%26gbv%3D2%26ndsp%3D20%26svnum%3D10%26hl%3Den%26sa%3DN" TargetMode="External"/><Relationship Id="rId14" Type="http://schemas.openxmlformats.org/officeDocument/2006/relationships/image" Target="../media/image7.jpeg"/><Relationship Id="rId15" Type="http://schemas.openxmlformats.org/officeDocument/2006/relationships/hyperlink" Target="http://images.google.co.uk/imgres?imgurl=http://www.gbcytide.org/images/swim_cartoon.gif&amp;imgrefurl=http://www.bayoublacktarpons.com/&amp;h=500&amp;w=438&amp;sz=153&amp;hl=en&amp;start=1&amp;tbnid=TB4zwRbIifzh6M:&amp;tbnh=130&amp;tbnw=114&amp;prev=/images%3Fq%3Dswim%2Bcartoon%26gbv%3D2%26svnum%3D10%26hl%3Den%26sa%3DG" TargetMode="External"/><Relationship Id="rId16" Type="http://schemas.openxmlformats.org/officeDocument/2006/relationships/image" Target="../media/image8.jpeg"/><Relationship Id="rId17" Type="http://schemas.openxmlformats.org/officeDocument/2006/relationships/hyperlink" Target="http://images.google.co.uk/imgres?imgurl=http://www.dare2livedog.com/product_images/kids_T_mountain_bike.gif&amp;imgrefurl=http://www.dare2livedog.com/subcategory.php%3Fsubcategory%3DKid%27s%2520Tees&amp;h=294&amp;w=294&amp;sz=20&amp;hl=en&amp;start=4&amp;tbnid=2rrnY2EgJ216lM:&amp;tbnh=115&amp;tbnw=115&amp;prev=/images%3Fq%3Dbike%2Bcartoon%26gbv%3D2%26svnum%3D10%26hl%3Den" TargetMode="External"/><Relationship Id="rId18" Type="http://schemas.openxmlformats.org/officeDocument/2006/relationships/image" Target="../media/image9.jpeg"/><Relationship Id="rId19" Type="http://schemas.openxmlformats.org/officeDocument/2006/relationships/hyperlink" Target="http://images.google.co.uk/imgres?imgurl=http://www.sportcartoonbooks.com/kicki.jpg&amp;imgrefurl=http://www.sportcartoonbooks.com/soccercartoonbook.htm&amp;h=511&amp;w=614&amp;sz=65&amp;hl=en&amp;start=7&amp;tbnid=_b67t_fsRmX2gM:&amp;tbnh=113&amp;tbnw=136&amp;prev=/images%3Fq%3Dsoccer%2Bcartoon%26gbv%3D2%26svnum%3D10%26hl%3Den" TargetMode="External"/><Relationship Id="rId20" Type="http://schemas.openxmlformats.org/officeDocument/2006/relationships/image" Target="../media/image10.jpeg"/><Relationship Id="rId21" Type="http://schemas.openxmlformats.org/officeDocument/2006/relationships/image" Target="../media/image13.png"/><Relationship Id="rId22" Type="http://schemas.openxmlformats.org/officeDocument/2006/relationships/image" Target="../media/image11.wmf"/><Relationship Id="rId23" Type="http://schemas.openxmlformats.org/officeDocument/2006/relationships/image" Target="../media/image12.png"/><Relationship Id="rId24" Type="http://schemas.openxmlformats.org/officeDocument/2006/relationships/image" Target="../media/image14.wmf"/><Relationship Id="rId25" Type="http://schemas.openxmlformats.org/officeDocument/2006/relationships/image" Target="../media/image16.wmf"/><Relationship Id="rId26" Type="http://schemas.openxmlformats.org/officeDocument/2006/relationships/image" Target="../media/image15.wmf"/><Relationship Id="rId2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mayflowerballroom.com/images/color_cartoon_partners.gif&amp;imgrefurl=http://www.mayflowerballroom.com/dancing.html&amp;h=400&amp;w=210&amp;sz=11&amp;hl=en&amp;start=10&amp;tbnid=qhMyu40qvpaqFM:&amp;tbnh=124&amp;tbnw=65&amp;prev=/images%3Fq%3Ddance%2B%2Bcartoon%26gbv%3D2%26svnum%3D10%26hl%3Den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podcast.happytreefriends.com/pokernight.jpg&amp;imgrefurl=http://www.podbean.com/search%3Fk%3Dtag%26v%3Danimation%26page%3D5&amp;h=360&amp;w=360&amp;sz=79&amp;hl=en&amp;start=28&amp;tbnid=b5PiR93myLOZgM:&amp;tbnh=121&amp;tbnw=121&amp;prev=/images%3Fq%3Dplay%2Bcards%2Bcartoon%26start%3D20%26gbv%3D2%26ndsp%3D20%26svnum%3D10%26hl%3Den%26sa%3DN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0" y="0"/>
          <a:ext cx="9144000" cy="58770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4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146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4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146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0" y="609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l finesettimana………………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15920"/>
            <a:ext cx="1871640" cy="1160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79280" y="1125360"/>
            <a:ext cx="1908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isito el centro stor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627280" y="0"/>
            <a:ext cx="1657440" cy="15127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411280" y="1125360"/>
            <a:ext cx="2016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ioco a tenn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39640" y="1700280"/>
            <a:ext cx="1238400" cy="10857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2637000"/>
            <a:ext cx="2268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accio equit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771640" y="1557360"/>
            <a:ext cx="1295640" cy="1225440"/>
          </a:xfrm>
          <a:prstGeom prst="rect">
            <a:avLst/>
          </a:prstGeom>
          <a:ln w="0">
            <a:noFill/>
          </a:ln>
        </p:spPr>
      </p:pic>
      <p:sp>
        <p:nvSpPr>
          <p:cNvPr id="132" name="PubOvalCallout"/>
          <p:cNvSpPr/>
          <p:nvPr/>
        </p:nvSpPr>
        <p:spPr>
          <a:xfrm>
            <a:off x="3780000" y="1484280"/>
            <a:ext cx="431640" cy="576360"/>
          </a:xfrm>
          <a:custGeom>
            <a:avLst/>
            <a:gdLst>
              <a:gd name="textAreaLeft" fmla="*/ 63000 w 431640"/>
              <a:gd name="textAreaRight" fmla="*/ 368640 w 431640"/>
              <a:gd name="textAreaTop" fmla="*/ 63360 h 576360"/>
              <a:gd name="textAreaBottom" fmla="*/ 369360 h 57636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340000" y="2637000"/>
            <a:ext cx="223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co con gli ami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308720" y="1413000"/>
            <a:ext cx="1208160" cy="15112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020000" y="2637000"/>
            <a:ext cx="1944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68360" y="2997360"/>
            <a:ext cx="1366920" cy="13665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0" y="4076640"/>
            <a:ext cx="2195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ado in discote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5003640" y="2924280"/>
            <a:ext cx="1511640" cy="15112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716360" y="4076640"/>
            <a:ext cx="1944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ioco a ca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7451640" y="2997360"/>
            <a:ext cx="1262160" cy="13683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7020000" y="4076640"/>
            <a:ext cx="1944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uoto in pisc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2556000" y="4365720"/>
            <a:ext cx="1584360" cy="14396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484360" y="5516640"/>
            <a:ext cx="1944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accio ciclis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7236000" y="4437000"/>
            <a:ext cx="1511280" cy="12556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7020000" y="5516640"/>
            <a:ext cx="1944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atico lo s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1"/>
          <a:stretch/>
        </p:blipFill>
        <p:spPr>
          <a:xfrm>
            <a:off x="7308720" y="0"/>
            <a:ext cx="1308240" cy="14842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948360" y="1125360"/>
            <a:ext cx="2195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isito la cattedr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2"/>
          <a:stretch/>
        </p:blipFill>
        <p:spPr>
          <a:xfrm>
            <a:off x="5022720" y="1484280"/>
            <a:ext cx="1319400" cy="13683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572000" y="2637000"/>
            <a:ext cx="2305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ado alla spiagg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3"/>
          <a:stretch/>
        </p:blipFill>
        <p:spPr>
          <a:xfrm>
            <a:off x="5003640" y="0"/>
            <a:ext cx="1328760" cy="13413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716360" y="1125360"/>
            <a:ext cx="2016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ado al caste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4"/>
          <a:stretch/>
        </p:blipFill>
        <p:spPr>
          <a:xfrm>
            <a:off x="2771640" y="2997360"/>
            <a:ext cx="1254240" cy="13683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268360" y="4076640"/>
            <a:ext cx="2303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accio lo sho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5"/>
          <a:stretch/>
        </p:blipFill>
        <p:spPr>
          <a:xfrm>
            <a:off x="5076720" y="4365720"/>
            <a:ext cx="1190880" cy="12952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572000" y="5516640"/>
            <a:ext cx="2305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accio una passeggi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6"/>
          <a:stretch/>
        </p:blipFill>
        <p:spPr>
          <a:xfrm>
            <a:off x="395280" y="4437000"/>
            <a:ext cx="1440000" cy="12128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0" y="5516640"/>
            <a:ext cx="2340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ngio in una pizze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635280" y="6524640"/>
            <a:ext cx="5329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MFL Sunderland 2009 MK http://www.sunderlandschools.org/mfl-sunderl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258920" y="112536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11280" y="9079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2340000" y="5157720"/>
            <a:ext cx="532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99"/>
                </a:solidFill>
                <a:latin typeface="Comic Sans MS"/>
              </a:rPr>
              <a:t>gioco a car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0360" y="1700280"/>
            <a:ext cx="3600360" cy="32716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0" y="260280"/>
            <a:ext cx="9144000" cy="6858000"/>
          </a:xfrm>
          <a:prstGeom prst="donut">
            <a:avLst>
              <a:gd name="adj" fmla="val 44824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path" presetID="6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656 -0.03884 C -0.13455 -0.0282 -0.14358 -0.01757 -0.14757 -0.00416 C -0.15156 0.0104 -0.15365 0.02774 -0.15556 0.04507 C -0.15764 0.06241 -0.15556 0.07697 -0.15365 0.09292 C -0.15156 0.10772 -0.14861 0.12367 -0.1415 0.13685 C -0.13559 0.15025 -0.12552 0.16089 -0.11459 0.16898 C -0.10452 0.17684 -0.09254 0.18215 -0.08056 0.18493 C -0.06858 0.18747 -0.0566 0.18747 -0.04549 0.18493 C -0.03351 0.18215 -0.02257 0.17545 -0.01354 0.16482 C -0.00452 0.15557 0.00347 0.14355 0.00746 0.12899 C 0.0125 0.11558 0.01441 0.09709 0.01441 0.08229 C 0.01545 0.06773 0.01441 0.05039 0.00937 0.03583 C 0.00451 0.02242 -0.00452 0.01179 -0.0165 0.00647 C -0.02865 0.00254 -0.04063 0.00786 -0.04861 0.0171 C -0.05556 0.02635 -0.06059 0.04114 -0.06163 0.05825 C -0.06163 0.07559 -0.06059 0.09154 -0.05556 0.10494 C -0.05052 0.11835 -0.05156 0.12089 -0.0316 0.13823 C -0.01354 0.15696 0.00451 0.15164 0.01545 0.1528 C 0.02639 0.1528 0.03541 0.14748 0.04635 0.14216 C 0.0585 0.13569 0.0684 0.12367 0.07552 0.11304 C 0.08246 0.1024 0.08541 0.08899 0.08941 0.06773 C 0.09236 0.04646 0.09236 0.03583 0.09236 0.01965 C 0.09236 0.0037 0.09236 -0.01225 0.09236 -0.0282 E">
                                      <p:cBhvr>
                                        <p:cTn id="263" dur="2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258920" y="112536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050920" y="4581360"/>
            <a:ext cx="66945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99"/>
                </a:solidFill>
                <a:latin typeface="Comic Sans MS"/>
              </a:rPr>
              <a:t>faccio ciclis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99"/>
                </a:solidFill>
                <a:latin typeface="Comic Sans MS"/>
              </a:rPr>
              <a:t>vado in bic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7280" y="620640"/>
            <a:ext cx="403380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2556000" y="1052640"/>
            <a:ext cx="3375000" cy="36716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0" y="0"/>
            <a:ext cx="9144000" cy="6858000"/>
          </a:xfrm>
          <a:prstGeom prst="donut">
            <a:avLst>
              <a:gd name="adj" fmla="val 44824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276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258920" y="112536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547640" y="5373720"/>
            <a:ext cx="712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99"/>
                </a:solidFill>
                <a:latin typeface="Comic Sans MS"/>
              </a:rPr>
              <a:t>Faccio una passeggiat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059280" y="1484280"/>
            <a:ext cx="27795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40000" y="1268280"/>
            <a:ext cx="4175280" cy="34689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0" y="333360"/>
            <a:ext cx="9144000" cy="6858000"/>
          </a:xfrm>
          <a:prstGeom prst="donut">
            <a:avLst>
              <a:gd name="adj" fmla="val 44824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8889 0.21591 C -0.15955 0.03375 -0.13003 -0.14817 -0.1066 -0.14817 C -0.08316 -0.14817 -0.075 0.21706 -0.04861 0.21591 C -0.02239 0.21475 0.02448 -0.16851 0.05122 -0.15534 C 0.07813 -0.14216 0.08073 0.26676 0.1125 0.29543 C 0.14462 0.32409 0.28368 0.0363 0.24254 0.01572 C 0.20156 -0.00485 -0.10191 0.18031 -0.13298 0.17245 C -0.16389 0.16482 0.01719 -0.01294 0.0566 -0.03028 C 0.09618 -0.04761 0.12813 0.06981 0.10382 0.06866 C 0.07969 0.0675 -0.05677 -0.01964 -0.08906 -0.03744 E">
                                      <p:cBhvr>
                                        <p:cTn id="289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258920" y="112536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050920" y="4935600"/>
            <a:ext cx="53276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99"/>
                </a:solidFill>
                <a:latin typeface="Comic Sans MS"/>
              </a:rPr>
              <a:t>gioco a calci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99"/>
                </a:solidFill>
                <a:latin typeface="Comic Sans MS"/>
              </a:rPr>
              <a:t>pratico lo spor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11280" y="1197000"/>
            <a:ext cx="4030920" cy="33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627280" y="1484280"/>
            <a:ext cx="3745080" cy="31543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0"/>
            <a:ext cx="9144000" cy="6858000"/>
          </a:xfrm>
          <a:prstGeom prst="donut">
            <a:avLst>
              <a:gd name="adj" fmla="val 44824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path" presetID="2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7 -0.01332 0.014 -0.02797 0.021 -0.04661 C 0.04 -0.09988 0.045 -0.15182 0.031 -0.15982 C 0.017 -0.16914 -0.01 -0.13185 -0.029 -0.07858 C -0.039 -0.05061 -0.045 -0.02397 -0.047 -0.004 C -0.05 0.01199 -0.051 0.02797 -0.051 0.04661 C -0.051 0.10654 -0.038 0.15582 -0.023 0.15582 C -0.008 0.15582 0.005 0.10654 0.005 0.04661 C 0.005 0.01865 0.002 -0.00799 -0.003 -0.02664 C -0.005 -0.04262 -0.01 -0.05993 -0.016 -0.07724 C -0.036 -0.13185 -0.063 -0.16914 -0.077 -0.15982 C -0.091 -0.15049 -0.086 -0.09988 -0.066 -0.04528 C -0.058 -0.01998 -0.047 0.00133 -0.036 0.01598 C -0.028 0.0293 -0.019 0.04129 -0.007 0.05327 C 0.029 0.09189 0.065 0.10921 0.075 0.09323 C 0.084 0.07724 0.064 0.03329 0.028 -0.004 C 0.013 -0.01998 -0.003 -0.03196 -0.016 -0.03995 C -0.028 -0.04794 -0.043 -0.0546 -0.059 -0.0586 C -0.103 -0.07192 -0.141 -0.06792 -0.144 -0.04661 C -0.148 -0.02664 -0.115 0 -0.071 0.01332 C -0.051 0.01865 -0.032 0.02131 -0.017 0.01998 C -0.004 0.01998 0.01 0.01731 0.025 0.01332 C 0.069 0 0.102 -0.02797 0.098 -0.04794 C 0.095 -0.06792 0.057 -0.07325 0.013 -0.05993 C -0.008 -0.05327 -0.027 -0.04395 -0.04 -0.03329 C -0.051 -0.0253 -0.062 -0.01598 -0.074 -0.004 C -0.109 0.03463 -0.13 0.07724 -0.12 0.09323 C -0.111 0.10921 -0.074 0.09189 -0.039 0.0546 C -0.022 0.03596 -0.008 0.01731 0 0 Z">
                                      <p:cBhvr>
                                        <p:cTn id="302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258920" y="112536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26920" y="5157720"/>
            <a:ext cx="705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99"/>
                </a:solidFill>
                <a:latin typeface="Comic Sans MS"/>
              </a:rPr>
              <a:t>Mangio in una pizzeri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2627280" y="1700280"/>
            <a:ext cx="331308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0360" y="836640"/>
            <a:ext cx="3338640" cy="41767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0" y="0"/>
            <a:ext cx="9144000" cy="6858000"/>
          </a:xfrm>
          <a:prstGeom prst="donut">
            <a:avLst>
              <a:gd name="adj" fmla="val 44824"/>
            </a:avLst>
          </a:prstGeom>
          <a:solidFill>
            <a:srgbClr val="ffff00"/>
          </a:solidFill>
          <a:ln w="93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path" presetID="4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184 0.10518 C -0.09584 0.01595 -0.04584 -0.06126 0.02118 -0.06658 C 0.08524 -0.07328 0.14514 -0.01341 0.14913 0.07328 C 0.15416 0.15303 0.11215 0.22769 0.05208 0.23301 C -0.00278 0.23694 -0.05486 0.1877 -0.05886 0.11327 C -0.06285 0.0453 -0.02778 -0.01873 0.02309 -0.02404 C 0.07014 -0.02797 0.11423 0.0134 0.11719 0.07582 C 0.12014 0.13176 0.09219 0.18631 0.05017 0.18909 C 0.01215 0.19302 -0.02379 0.16112 -0.02691 0.11049 C -0.02882 0.06518 -0.00781 0.02126 0.02517 0.01872 C 0.05416 0.01595 0.08316 0.03999 0.08524 0.07859 C 0.08715 0.11188 0.07222 0.14378 0.04809 0.14655 C 0.02812 0.1491 0.00712 0.13453 0.00607 0.10795 C 0.00416 0.08645 0.01215 0.0638 0.02708 0.06126 C 0.03923 0.06126 0.05121 0.06657 0.05312 0.08113 C 0.05416 0.09061 0.05208 0.09986 0.04618 0.10379 C 0.04323 0.10518 0.04114 0.10518 0.03819 0.10379 E">
                                      <p:cBhvr>
                                        <p:cTn id="315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0" y="0"/>
          <a:ext cx="9144000" cy="58770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4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146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4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146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1835280" y="1557360"/>
            <a:ext cx="43308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40360" y="1557360"/>
            <a:ext cx="43308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710560" y="1557360"/>
            <a:ext cx="4334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2924280"/>
            <a:ext cx="43308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40360" y="2924280"/>
            <a:ext cx="43308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710560" y="2924280"/>
            <a:ext cx="4334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40360" y="4437000"/>
            <a:ext cx="43308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710560" y="4437000"/>
            <a:ext cx="43344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0" y="5950080"/>
          <a:ext cx="9144000" cy="103500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571680"/>
                <a:gridCol w="571320"/>
                <a:gridCol w="571680"/>
                <a:gridCol w="571320"/>
                <a:gridCol w="571680"/>
                <a:gridCol w="571320"/>
                <a:gridCol w="571680"/>
                <a:gridCol w="571320"/>
                <a:gridCol w="571680"/>
                <a:gridCol w="571320"/>
                <a:gridCol w="571680"/>
                <a:gridCol w="571320"/>
                <a:gridCol w="571680"/>
                <a:gridCol w="571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"/>
          <p:cNvSpPr/>
          <p:nvPr/>
        </p:nvSpPr>
        <p:spPr>
          <a:xfrm>
            <a:off x="0" y="64008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9640" y="64008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58920" y="64008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835280" y="64008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411280" y="64008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43280" y="64008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90920" y="64008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067280" y="64008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643280" y="64008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48360" y="64008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96000" y="64008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300720" y="64008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950160" y="64008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524720" y="64008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028000" y="64008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567640" y="64008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15920"/>
            <a:ext cx="1871640" cy="11602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627280" y="0"/>
            <a:ext cx="1657440" cy="15127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39640" y="1557360"/>
            <a:ext cx="1238400" cy="12286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771640" y="1557360"/>
            <a:ext cx="1295640" cy="12254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308720" y="1484280"/>
            <a:ext cx="1208160" cy="1440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68360" y="2997360"/>
            <a:ext cx="1366920" cy="13665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5003640" y="2924280"/>
            <a:ext cx="1511640" cy="15112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7451640" y="2997360"/>
            <a:ext cx="1262160" cy="13683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2556000" y="4365720"/>
            <a:ext cx="1584360" cy="14396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7236000" y="4437000"/>
            <a:ext cx="1511280" cy="12556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835280" y="0"/>
            <a:ext cx="43308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40360" y="0"/>
            <a:ext cx="43308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443640" y="0"/>
            <a:ext cx="4334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710560" y="0"/>
            <a:ext cx="4334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43640" y="2924280"/>
            <a:ext cx="4334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835280" y="4437000"/>
            <a:ext cx="43308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443640" y="4437000"/>
            <a:ext cx="43344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443640" y="1557360"/>
            <a:ext cx="4334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1"/>
          <a:stretch/>
        </p:blipFill>
        <p:spPr>
          <a:xfrm>
            <a:off x="5003640" y="0"/>
            <a:ext cx="1470240" cy="14842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2"/>
          <a:stretch/>
        </p:blipFill>
        <p:spPr>
          <a:xfrm>
            <a:off x="7308720" y="0"/>
            <a:ext cx="1308240" cy="14842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3"/>
          <a:stretch/>
        </p:blipFill>
        <p:spPr>
          <a:xfrm>
            <a:off x="5022720" y="1484280"/>
            <a:ext cx="1319400" cy="13683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4"/>
          <a:stretch/>
        </p:blipFill>
        <p:spPr>
          <a:xfrm>
            <a:off x="2771640" y="2997360"/>
            <a:ext cx="1254240" cy="13683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5"/>
          <a:stretch/>
        </p:blipFill>
        <p:spPr>
          <a:xfrm>
            <a:off x="395280" y="4437000"/>
            <a:ext cx="1440000" cy="12128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6"/>
          <a:stretch/>
        </p:blipFill>
        <p:spPr>
          <a:xfrm>
            <a:off x="5076720" y="4365720"/>
            <a:ext cx="138924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258920" y="112536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16360" y="5084640"/>
            <a:ext cx="532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99"/>
                </a:solidFill>
                <a:latin typeface="Comic Sans MS"/>
              </a:rPr>
              <a:t>ball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0360" y="476280"/>
            <a:ext cx="35114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2700360" y="1484280"/>
            <a:ext cx="3389400" cy="367344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0" y="0"/>
            <a:ext cx="9144000" cy="6858000"/>
          </a:xfrm>
          <a:prstGeom prst="donut">
            <a:avLst>
              <a:gd name="adj" fmla="val 44824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path" presetID="2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16 0.0749 C 0.01511 0.06149 0.02223 0.04693 0.02917 0.0282 C 0.04809 -0.02496 0.05313 -0.07697 0.03924 -0.08483 C 0.02518 -0.09431 -0.00191 -0.05686 -0.02083 -0.0037 C -0.0309 0.02427 -0.0368 0.05086 -0.03889 0.07097 C -0.04184 0.08692 -0.04288 0.10287 -0.04288 0.12159 C -0.04288 0.18146 -0.02986 0.2307 -0.01475 0.2307 C 0.00018 0.2307 0.0132 0.18146 0.0132 0.12159 C 0.0132 0.09362 0.01025 0.06681 0.00521 0.04832 C 0.00313 0.03237 -0.00191 0.01503 -0.00781 -0.00231 C -0.02777 -0.05686 -0.05486 -0.09431 -0.06892 -0.08483 C -0.08281 -0.07559 -0.07777 -0.02496 -0.05781 0.02959 C -0.04982 0.05502 -0.03889 0.07629 -0.02777 0.09085 C -0.01979 0.10426 -0.01076 0.11628 0.00122 0.12807 C 0.03716 0.16667 0.07309 0.18401 0.08316 0.16806 C 0.09219 0.15211 0.07223 0.10819 0.03611 0.07097 C 0.02118 0.05502 0.00521 0.043 -0.00781 0.03491 C -0.01979 0.02705 -0.03489 0.02035 -0.05087 0.01642 C -0.09479 0.00301 -0.13281 0.00694 -0.13576 0.0282 C -0.13975 0.04832 -0.10677 0.0749 -0.06284 0.08831 C -0.04288 0.09362 -0.02378 0.09617 -0.00885 0.09478 C 0.00417 0.09478 0.01823 0.09224 0.03316 0.08831 C 0.07709 0.0749 0.11025 0.04693 0.10608 0.02705 C 0.10313 0.00694 0.06511 0.00162 0.02118 0.01503 C 0.00018 0.02173 -0.01892 0.03098 -0.03177 0.04161 C -0.04288 0.0497 -0.05382 0.05895 -0.0658 0.07097 C -0.10087 0.10957 -0.12187 0.15211 -0.1118 0.16806 C -0.10277 0.18401 -0.0658 0.16667 -0.0309 0.12945 C -0.01389 0.11096 0.00018 0.09224 0.00816 0.0749 Z">
                                      <p:cBhvr>
                                        <p:cTn id="328" dur="3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258920" y="112536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547640" y="4797360"/>
            <a:ext cx="532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99"/>
                </a:solidFill>
                <a:latin typeface="Comic Sans MS"/>
              </a:rPr>
              <a:t>nuoto in pisci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2484360" y="549360"/>
            <a:ext cx="356076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258920" y="112536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851280" y="1916280"/>
            <a:ext cx="2349360" cy="26650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0" y="0"/>
            <a:ext cx="9144000" cy="6858000"/>
          </a:xfrm>
          <a:prstGeom prst="donut">
            <a:avLst>
              <a:gd name="adj" fmla="val 44824"/>
            </a:avLst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975 -0.19398 C -0.14166 -0.17826 -0.14739 -0.17017 -0.15243 -0.15583 C -0.15486 -0.14867 -0.15781 -0.14173 -0.16041 -0.13479 C -0.16146 -0.13202 -0.16354 -0.12624 -0.16354 -0.12601 C -0.16736 -0.09456 -0.17552 -0.06543 -0.17795 -0.03329 C -0.17725 0.01318 -0.19132 0.07515 -0.15885 0.10636 C -0.15399 0.11099 -0.14722 0.1096 -0.14132 0.11052 C -0.13767 0.10914 -0.1335 0.10914 -0.13021 0.10636 C -0.12291 0.10035 -0.11319 0.0844 -0.10798 0.07445 C -0.08854 0.03723 -0.07847 -0.00277 -0.0651 -0.04393 C -0.0493 -0.09248 -0.05937 -0.08069 -0.04288 -0.09664 C -0.03715 -0.10844 -0.01666 -0.123 -0.00642 -0.12624 C 0.00313 -0.12485 0.01302 -0.12601 0.02205 -0.12208 C 0.02639 -0.12023 0.0316 -0.10936 0.0316 -0.10913 C 0.03663 -0.08901 0.03872 -0.07167 0.03316 -0.05017 C 0.02118 -0.00439 0.02604 -0.04161 0.01736 -0.01849 C 0.0033 0.01896 0.01632 -0.00809 0.00782 0.00902 C 0.0066 0.01596 0.00591 0.02312 0.00469 0.03006 C 0.00382 0.03445 0.00157 0.04278 0.00157 0.04301 C 0.00209 0.06035 -2.77778000000017E-006 0.07862 0.00313 0.09573 C 0.00608 0.11122 0.01979 0.11284 0.02848 0.11469 C 0.04427 0.11399 0.06025 0.11376 0.07604 0.1126 C 0.07778 0.11237 0.07969 0.11214 0.08091 0.11052 C 0.08299 0.10775 0.08282 0.10336 0.08403 0.09989 E">
                                      <p:cBhvr>
                                        <p:cTn id="211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258920" y="112536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47640" y="5084640"/>
            <a:ext cx="59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99"/>
                </a:solidFill>
                <a:latin typeface="Comic Sans MS"/>
              </a:rPr>
              <a:t>Visito la cattedra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132000" y="1700280"/>
            <a:ext cx="24750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2987640" y="1557360"/>
            <a:ext cx="3166920" cy="3456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0" y="0"/>
            <a:ext cx="9144000" cy="6858000"/>
          </a:xfrm>
          <a:prstGeom prst="donut">
            <a:avLst>
              <a:gd name="adj" fmla="val 44824"/>
            </a:avLst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6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42 -0.09433 C -0.14219 -0.0837 -0.15122 -0.07306 -0.15521 -0.05965 C -0.1592 -0.04509 -0.16129 -0.02774 -0.1632 -0.0104 C -0.16528 0.00694 -0.1632 0.0215 -0.16129 0.03746 C -0.1592 0.05226 -0.15625 0.06821 -0.14914 0.08139 C -0.14323 0.0948 -0.13316 0.10544 -0.12223 0.11353 C -0.11216 0.12139 -0.10018 0.12671 -0.0882 0.12948 C -0.07622 0.13202 -0.06424 0.13202 -0.05313 0.12948 C -0.04115 0.12671 -0.03021 0.12 -0.02118 0.10937 C -0.01216 0.10012 -0.00417 0.08809 -0.00018 0.07353 C 0.00486 0.06012 0.00677 0.04162 0.00677 0.02682 C 0.00781 0.01226 0.00677 -0.00509 0.00173 -0.01965 C -0.00313 -0.03306 -0.01216 -0.0437 -0.02414 -0.04902 C -0.03629 -0.05295 -0.04827 -0.04763 -0.05625 -0.03838 C -0.0632 -0.02913 -0.06823 -0.01433 -0.06927 0.00278 C -0.06927 0.02012 -0.06823 0.03607 -0.0632 0.04948 C -0.05816 0.06289 -0.0592 0.06544 -0.03924 0.08278 C -0.02118 0.1015 -0.00313 0.09619 0.00781 0.09734 C 0.01875 0.09734 0.02777 0.09202 0.03871 0.08671 C 0.05086 0.08023 0.06076 0.06821 0.06788 0.05757 C 0.07482 0.04694 0.07777 0.03353 0.08177 0.01226 C 0.08472 -0.00902 0.08472 -0.01965 0.08472 -0.03584 C 0.08472 -0.05179 0.08472 -0.06774 0.08472 -0.0837 E">
                                      <p:cBhvr>
                                        <p:cTn id="224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258920" y="112536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68360" y="5373720"/>
            <a:ext cx="532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99"/>
                </a:solidFill>
                <a:latin typeface="Comic Sans MS"/>
              </a:rPr>
              <a:t>Faccio lo shopp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132000" y="1484280"/>
            <a:ext cx="2638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203640" y="1989000"/>
            <a:ext cx="2498760" cy="259236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0" y="0"/>
            <a:ext cx="9144000" cy="6858000"/>
          </a:xfrm>
          <a:prstGeom prst="donut">
            <a:avLst>
              <a:gd name="adj" fmla="val 44824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path" presetID="5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95 -0.17826 C -0.06302 -0.17017 -0.11198 -0.15029 -0.11198 -0.13433 C -0.11198 -0.11977 -0.06406 -0.1089 8.33333E-007 -0.1089 C 0.06389 -0.1089 0.11788 -0.11977 0.11788 -0.13433 C 0.11788 -0.15029 0.06198 -0.15422 -0.00208 -0.14358 C -0.0651 -0.13156 -0.11198 -0.11167 -0.11198 -0.09711 C -0.11198 -0.08231 -0.06302 -0.07029 8.33333E-007 -0.07029 C 0.06389 -0.07029 0.11788 -0.08231 0.11788 -0.09711 C 0.11788 -0.11167 0.06198 -0.11561 -0.00104 -0.10497 C -0.0651 -0.09433 -0.11198 -0.07445 -0.11198 -0.05965 C -0.11198 -0.0437 -0.06302 -0.03167 0.00087 -0.03167 C 0.06389 -0.03167 0.11788 -0.0437 0.11788 -0.05965 C 0.11788 -0.07306 0.06198 -0.07699 -0.00104 -0.06774 C -0.06406 -0.05711 -0.11198 -0.03584 -0.11198 -0.02104 C -0.11198 -0.00647 -0.06198 0.00555 0.00087 0.00555 C 0.06597 0.00555 0.11788 -0.00647 0.11788 -0.02104 C 0.11788 -0.03584 0.06302 -0.03977 8.33333E-007 -0.02913 C -0.06302 -0.0185 -0.11198 0.00162 -0.11198 0.01619 C -0.11198 0.03214 -0.06198 0.04278 0.00191 0.04278 C 0.06597 0.04278 0.11788 0.03075 0.11788 0.01619 C 0.11788 0.00162 0.06302 -0.00254 8.33333E-007 0.00809 C -0.06302 0.01896 -0.11198 0.04023 -0.11198 0.05341 C -0.11198 0.06821 -0.06111 0.08 0.00191 0.08 C 0.06597 0.08 0.11788 0.06821 0.11788 0.05341 C 0.11788 0.04023 0.06389 0.03607 8.33333E-007 0.04555 C -0.06302 0.05619 -0.11198 0.07746 -0.11198 0.09202 C -0.11198 0.10544 -0.06111 0.11861 0.00295 0.11861 C 0.06701 0.11861 0.11788 0.10682 0.11788 0.09202 C 0.11788 0.07746 0.06389 0.07353 0.00087 0.08416 C -0.06198 0.0948 -0.11302 0.11468 -0.11198 0.12948 C -0.11111 0.14405 -0.06111 0.15468 0.00295 0.15468 C 0.06701 0.15468 0.11788 0.14266 0.11788 0.12809 C 0.11788 0.11468 0.06597 0.11075 0.00295 0.12278 E">
                                      <p:cBhvr>
                                        <p:cTn id="237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258920" y="112536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692360" y="5373720"/>
            <a:ext cx="532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99"/>
                </a:solidFill>
                <a:latin typeface="Comic Sans MS"/>
              </a:rPr>
              <a:t>Vado alla spiaggi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287880" y="1484280"/>
            <a:ext cx="30542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32000" y="1628640"/>
            <a:ext cx="3024360" cy="30243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0" y="0"/>
            <a:ext cx="9144000" cy="6858000"/>
          </a:xfrm>
          <a:prstGeom prst="donut">
            <a:avLst>
              <a:gd name="adj" fmla="val 44824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path" presetID="4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087 -0.05225 C 0.10886 -0.04161 0.11788 -0.03098 0.12188 -0.01757 C 0.12587 -0.00301 0.12795 0.01433 0.12986 0.03166 C 0.13195 0.049 0.12986 0.06356 0.12795 0.07951 C 0.12587 0.09431 0.12292 0.11026 0.1158 0.12343 C 0.1099 0.13684 0.09983 0.14748 0.08889 0.15557 C 0.07882 0.16343 0.06684 0.16874 0.05486 0.17152 C 0.04288 0.17406 0.03091 0.17406 0.01979 0.17152 C 0.00782 0.16874 -0.00312 0.16204 -0.01215 0.15141 C -0.02118 0.14216 -0.02916 0.13014 -0.03316 0.11558 C -0.03819 0.10217 -0.0401 0.08368 -0.0401 0.06888 C -0.04114 0.05432 -0.0401 0.03698 -0.03507 0.02242 C -0.03021 0.00901 -0.02118 -0.00162 -0.0092 -0.00694 C 0.00295 -0.01087 0.01493 -0.00555 0.02292 0.00369 C 0.02986 0.01294 0.0349 0.02773 0.03594 0.04484 C 0.03594 0.06218 0.0349 0.07813 0.02986 0.09153 C 0.02483 0.10494 0.02587 0.10748 0.00591 0.12482 C -0.01215 0.14355 -0.03021 0.13823 -0.04114 0.13939 C -0.05208 0.13939 -0.06111 0.13407 -0.07205 0.12875 C -0.0842 0.12228 -0.09409 0.11026 -0.10121 0.09963 C -0.10816 0.08899 -0.11111 0.07558 -0.1151 0.05432 C -0.11805 0.03305 -0.11805 0.02242 -0.11805 0.00624 C -0.11805 -0.00971 -0.11805 -0.02566 -0.11805 -0.04161 E">
                                      <p:cBhvr>
                                        <p:cTn id="250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1T16:57:46Z</dcterms:created>
  <dc:creator>User</dc:creator>
  <dc:description/>
  <dc:language>en-US</dc:language>
  <cp:lastModifiedBy>Clare</cp:lastModifiedBy>
  <dcterms:modified xsi:type="dcterms:W3CDTF">2009-01-19T13:14:49Z</dcterms:modified>
  <cp:revision>25</cp:revision>
  <dc:subject/>
  <dc:title>Objectives </dc:title>
</cp:coreProperties>
</file>