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B68-8632-4638-A909-4114A87D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D90-C8CD-4973-B690-55CE0185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95B-0D43-4CF8-8608-750163A3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109-D952-4112-8724-B64D923F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63C-6795-4920-9C17-ED8E34A2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D2C4-21BA-4CDD-9F73-601B14C1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01C2-A2F5-4EE1-B469-A5F1019F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6A96-76F5-41D9-AD74-87D18BB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BAD-D235-45C5-97B0-9EFA77B8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30AD-55BE-4C11-8B2E-A8B0A6BE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3032-D907-4AE5-9E0B-EBF4B9A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295-BD7D-4A2C-951F-0E687C87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72A5-F3CB-4D53-909B-96DBF57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201-CE38-4052-AE35-C3A369B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084-EADE-43D8-9D28-B1C064D3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7942-D643-417D-A1F3-B35265FA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143A-17B3-4F7E-9CE4-DD8FFF71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BB7E-71E8-4506-98C3-6C920C2C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280F-2C6C-44E5-9329-6B65AE00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8D77-C3A1-4BE4-905A-1E8A117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ECA1-5C17-475F-A573-DE93E936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90B7-9E06-489A-9977-1100A14A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FFF-3987-4CF9-BD43-33EA60C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FDE1-1F89-4075-9FF3-6125009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720C-FB10-4571-9CC4-92AB66C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010C-3216-4220-9C9F-195F298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1404-94AA-4D80-9587-05C4840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166A-4E3E-4AE0-9D05-7F6ACF9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DA74-4262-4870-8456-DDFBE8E9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8B30-DA61-4A5C-922B-EA4DE305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3DC-679E-418E-B21A-4AF97E4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098-AA53-466F-9AC9-3ECCDC6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BBA-181B-444D-8C4C-58D2150C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AC9-36C7-4294-B86A-1457AE0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6CD-E8C4-4C2E-A8C3-0554E7F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FA2-7B7D-4249-B163-2DF774D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79E-DD84-4D67-AE87-3546E4BC3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C596-E8B4-4DD9-A628-6BB064C280F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196-2AA4-49F7-8E63-5F6E2D1045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eddybemps.com/shops/2shops01.gif&amp;imgrefurl=http://www.meddybemps.com/shops/2shops.html&amp;h=396&amp;w=635&amp;sz=66&amp;hl=en&amp;start=1&amp;tbnid=NX2SQfPt9oijWM:&amp;tbnh=85&amp;tbnw=137&amp;prev=/images%3Fq%3Dshops%2B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circle.cc.hokudai.ac.jp/huisa/images/tennis_cartoon.gif&amp;imgrefurl=http://circle.cc.hokudai.ac.jp/huisa/forums/showthread.php%3Ft%3D153&amp;h=198&amp;w=197&amp;sz=6&amp;hl=en&amp;start=6&amp;tbnid=_L8IcGkk9s9qJM:&amp;tbnh=104&amp;tbnw=103&amp;prev=/images%3Fq%3Dtennis%2Bcartoon%26gbv%3D2%26svnum%3D10%26hl%3Den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undanceridingstables.com/fixed/horse%2520cartoon/1.gif&amp;imgrefurl=http://www.sundanceridingstables.com/&amp;h=486&amp;w=491&amp;sz=10&amp;hl=en&amp;start=2&amp;tbnid=EEHflUbjXoHWtM:&amp;tbnh=129&amp;tbnw=130&amp;prev=/images%3Fq%3Dhorse%2Briding%2Bcartoon%26gbv%3D2%26svnum%3D10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bp0.blogger.com/_UU-faylKkn4/RkQiqVExOJI/AAAAAAAAAv8/Pb45e9l11A8/s400/friendsCartoon.jpg&amp;imgrefurl=http://www.jaspari.info/2007/05/why-do-we-need-friends-in-our-life.html&amp;h=238&amp;w=252&amp;sz=11&amp;hl=en&amp;start=20&amp;tbnid=7bwX1Wg6GISL1M:&amp;tbnh=105&amp;tbnw=111&amp;prev=/images%3Fq%3Dfriends%2B%2Bcartoon%26gbv%3D2%26svnum%3D10%26hl%3Den%26sa%3D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1.istockphoto.com/file_thumbview_approve/1816985/2/istockphoto_1816985_editable_cartoon_illustration_of_disco_dancers.jpg&amp;imgrefurl=http://www.istockphoto.com/file_closeup/styles_of_music/disco/discotheques/1816985_editable_cartoon_illustration_of_disco_dancers.php%3Fid%3D1816985&amp;h=380&amp;w=380&amp;sz=34&amp;hl=en&amp;start=1&amp;tbnid=mLT959yUwMh4DM:&amp;tbnh=123&amp;tbnw=123&amp;prev=/images%3Fq%3Ddisco%2B%2Bcartoon%26gbv%3D2%26svnum%3D10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www.gbcytide.org/images/swim_cartoon.gif&amp;imgrefurl=http://www.bayoublacktarpons.com/&amp;h=500&amp;w=438&amp;sz=153&amp;hl=en&amp;start=1&amp;tbnid=TB4zwRbIifzh6M:&amp;tbnh=130&amp;tbnw=114&amp;prev=/images%3Fq%3Dswim%2Bcartoon%26gbv%3D2%26svnum%3D10%26hl%3Den%26sa%3D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0" Type="http://schemas.openxmlformats.org/officeDocument/2006/relationships/image" Target="../media/image10.jpeg"/><Relationship Id="rId21" Type="http://schemas.openxmlformats.org/officeDocument/2006/relationships/image" Target="../media/image11.wmf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wmf"/><Relationship Id="rId25" Type="http://schemas.openxmlformats.org/officeDocument/2006/relationships/image" Target="../media/image15.wmf"/><Relationship Id="rId26" Type="http://schemas.openxmlformats.org/officeDocument/2006/relationships/image" Target="../media/image16.wmf"/><Relationship Id="rId2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eddybemps.com/shops/2shops01.gif&amp;imgrefurl=http://www.meddybemps.com/shops/2shops.html&amp;h=396&amp;w=635&amp;sz=66&amp;hl=en&amp;start=1&amp;tbnid=NX2SQfPt9oijWM:&amp;tbnh=85&amp;tbnw=137&amp;prev=/images%3Fq%3Dshops%2B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circle.cc.hokudai.ac.jp/huisa/images/tennis_cartoon.gif&amp;imgrefurl=http://circle.cc.hokudai.ac.jp/huisa/forums/showthread.php%3Ft%3D153&amp;h=198&amp;w=197&amp;sz=6&amp;hl=en&amp;start=6&amp;tbnid=_L8IcGkk9s9qJM:&amp;tbnh=104&amp;tbnw=103&amp;prev=/images%3Fq%3Dtennis%2Bcartoon%26gbv%3D2%26svnum%3D10%26hl%3Den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uk/imgres?imgurl=http://www.sundanceridingstables.com/fixed/horse%2520cartoon/1.gif&amp;imgrefurl=http://www.sundanceridingstables.com/&amp;h=486&amp;w=491&amp;sz=10&amp;hl=en&amp;start=2&amp;tbnid=EEHflUbjXoHWtM:&amp;tbnh=129&amp;tbnw=130&amp;prev=/images%3Fq%3Dhorse%2Briding%2Bcartoon%26gbv%3D2%26svnum%3D10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uk/imgres?imgurl=http://bp0.blogger.com/_UU-faylKkn4/RkQiqVExOJI/AAAAAAAAAv8/Pb45e9l11A8/s400/friendsCartoon.jpg&amp;imgrefurl=http://www.jaspari.info/2007/05/why-do-we-need-friends-in-our-life.html&amp;h=238&amp;w=252&amp;sz=11&amp;hl=en&amp;start=20&amp;tbnid=7bwX1Wg6GISL1M:&amp;tbnh=105&amp;tbnw=111&amp;prev=/images%3Fq%3Dfriends%2B%2Bcartoon%26gbv%3D2%26svnum%3D10%26hl%3Den%26sa%3D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.uk/imgres?imgurl=http://www1.istockphoto.com/file_thumbview_approve/1816985/2/istockphoto_1816985_editable_cartoon_illustration_of_disco_dancers.jpg&amp;imgrefurl=http://www.istockphoto.com/file_closeup/styles_of_music/disco/discotheques/1816985_editable_cartoon_illustration_of_disco_dancers.php%3Fid%3D1816985&amp;h=380&amp;w=380&amp;sz=34&amp;hl=en&amp;start=1&amp;tbnid=mLT959yUwMh4DM:&amp;tbnh=123&amp;tbnw=123&amp;prev=/images%3Fq%3Ddisco%2B%2Bcartoon%26gbv%3D2%26svnum%3D10%26hl%3De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.uk/imgres?imgurl=http://www.gbcytide.org/images/swim_cartoon.gif&amp;imgrefurl=http://www.bayoublacktarpons.com/&amp;h=500&amp;w=438&amp;sz=153&amp;hl=en&amp;start=1&amp;tbnid=TB4zwRbIifzh6M:&amp;tbnh=130&amp;tbnw=114&amp;prev=/images%3Fq%3Dswim%2Bcartoon%26gbv%3D2%26svnum%3D10%26hl%3Den%26sa%3D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.uk/imgres?imgurl=http://www.dare2livedog.com/product_images/kids_T_mountain_bike.gif&amp;imgrefurl=http://www.dare2livedog.com/subcategory.php%3Fsubcategory%3DKid%27s%2520Tees&amp;h=294&amp;w=294&amp;sz=20&amp;hl=en&amp;start=4&amp;tbnid=2rrnY2EgJ216lM:&amp;tbnh=115&amp;tbnw=115&amp;prev=/images%3Fq%3Dbike%2Bcartoon%26gbv%3D2%26svnum%3D10%26hl%3De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.uk/imgres?imgurl=http://www.sportcartoonbooks.com/kicki.jpg&amp;imgrefurl=http://www.sportcartoonbooks.com/soccercartoonbook.htm&amp;h=511&amp;w=614&amp;sz=65&amp;hl=en&amp;start=7&amp;tbnid=_b67t_fsRmX2gM:&amp;tbnh=113&amp;tbnw=136&amp;prev=/images%3Fq%3Dsoccer%2Bcartoon%26gbv%3D2%26svnum%3D10%26hl%3Den" TargetMode="External"/><Relationship Id="rId20" Type="http://schemas.openxmlformats.org/officeDocument/2006/relationships/image" Target="../media/image10.jpeg"/><Relationship Id="rId21" Type="http://schemas.openxmlformats.org/officeDocument/2006/relationships/image" Target="../media/image13.png"/><Relationship Id="rId22" Type="http://schemas.openxmlformats.org/officeDocument/2006/relationships/image" Target="../media/image11.wmf"/><Relationship Id="rId23" Type="http://schemas.openxmlformats.org/officeDocument/2006/relationships/image" Target="../media/image12.png"/><Relationship Id="rId24" Type="http://schemas.openxmlformats.org/officeDocument/2006/relationships/image" Target="../media/image14.wmf"/><Relationship Id="rId25" Type="http://schemas.openxmlformats.org/officeDocument/2006/relationships/image" Target="../media/image16.wmf"/><Relationship Id="rId26" Type="http://schemas.openxmlformats.org/officeDocument/2006/relationships/image" Target="../media/image15.wmf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yflowerballroom.com/images/color_cartoon_partners.gif&amp;imgrefurl=http://www.mayflowerballroom.com/dancing.html&amp;h=400&amp;w=210&amp;sz=11&amp;hl=en&amp;start=10&amp;tbnid=qhMyu40qvpaqFM:&amp;tbnh=124&amp;tbnw=65&amp;prev=/images%3Fq%3Ddance%2B%2Bcartoon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podcast.happytreefriends.com/pokernight.jpg&amp;imgrefurl=http://www.podbean.com/search%3Fk%3Dtag%26v%3Danimation%26page%3D5&amp;h=360&amp;w=360&amp;sz=79&amp;hl=en&amp;start=28&amp;tbnid=b5PiR93myLOZgM:&amp;tbnh=121&amp;tbnw=121&amp;prev=/images%3Fq%3Dplay%2Bcards%2Bcartoon%26start%3D20%26gbv%3D2%26ndsp%3D20%26svnum%3D1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0" cy="5877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l finesettimana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871640" cy="1160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1125360"/>
            <a:ext cx="19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ito el centro sto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0"/>
            <a:ext cx="1657440" cy="151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112536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oco a ten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700280"/>
            <a:ext cx="1238400" cy="1085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37000"/>
            <a:ext cx="22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equi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1557360"/>
            <a:ext cx="1295640" cy="1225440"/>
          </a:xfrm>
          <a:prstGeom prst="rect">
            <a:avLst/>
          </a:prstGeom>
          <a:ln w="0">
            <a:noFill/>
          </a:ln>
        </p:spPr>
      </p:pic>
      <p:sp>
        <p:nvSpPr>
          <p:cNvPr id="132" name="PubOvalCallout"/>
          <p:cNvSpPr/>
          <p:nvPr/>
        </p:nvSpPr>
        <p:spPr>
          <a:xfrm>
            <a:off x="3780000" y="1484280"/>
            <a:ext cx="431640" cy="576360"/>
          </a:xfrm>
          <a:custGeom>
            <a:avLst/>
            <a:gdLst>
              <a:gd name="textAreaLeft" fmla="*/ 63000 w 431640"/>
              <a:gd name="textAreaRight" fmla="*/ 368640 w 431640"/>
              <a:gd name="textAreaTop" fmla="*/ 63360 h 576360"/>
              <a:gd name="textAreaBottom" fmla="*/ 369360 h 576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263700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o con gli a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08720" y="1413000"/>
            <a:ext cx="1208160" cy="151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20000" y="2637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360" y="2997360"/>
            <a:ext cx="1366920" cy="136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07664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do in disc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2924280"/>
            <a:ext cx="1511640" cy="1511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16360" y="407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oco a c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51640" y="2997360"/>
            <a:ext cx="1262160" cy="136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20000" y="407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oto in pis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556000" y="4365720"/>
            <a:ext cx="1584360" cy="143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484360" y="551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cic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36000" y="4437000"/>
            <a:ext cx="1511280" cy="1255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020000" y="5516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atico lo 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7308720" y="0"/>
            <a:ext cx="1308240" cy="148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948360" y="1125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ito la catted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5022720" y="1484280"/>
            <a:ext cx="1319400" cy="1368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263700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do alla spiag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3"/>
          <a:stretch/>
        </p:blipFill>
        <p:spPr>
          <a:xfrm>
            <a:off x="5003640" y="0"/>
            <a:ext cx="1328760" cy="1341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112536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do al cast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4"/>
          <a:stretch/>
        </p:blipFill>
        <p:spPr>
          <a:xfrm>
            <a:off x="2771640" y="2997360"/>
            <a:ext cx="1254240" cy="136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68360" y="4076640"/>
            <a:ext cx="23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lo sho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5"/>
          <a:stretch/>
        </p:blipFill>
        <p:spPr>
          <a:xfrm>
            <a:off x="5076720" y="4365720"/>
            <a:ext cx="1190880" cy="129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0" y="5516640"/>
            <a:ext cx="230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ccio una passeggi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6"/>
          <a:stretch/>
        </p:blipFill>
        <p:spPr>
          <a:xfrm>
            <a:off x="395280" y="4437000"/>
            <a:ext cx="1440000" cy="1212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516640"/>
            <a:ext cx="234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gio in una pizz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524640"/>
            <a:ext cx="532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K 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9079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340000" y="515772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gioco a car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3600360" cy="3271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26028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-0.03884 C -0.13455 -0.0282 -0.14358 -0.01757 -0.14757 -0.00416 C -0.15156 0.0104 -0.15365 0.02774 -0.15556 0.04507 C -0.15764 0.06241 -0.15556 0.07697 -0.15365 0.09292 C -0.15156 0.10772 -0.14861 0.12367 -0.1415 0.13685 C -0.13559 0.15025 -0.12552 0.16089 -0.11459 0.16898 C -0.10452 0.17684 -0.09254 0.18215 -0.08056 0.18493 C -0.06858 0.18747 -0.0566 0.18747 -0.04549 0.18493 C -0.03351 0.18215 -0.02257 0.17545 -0.01354 0.16482 C -0.00452 0.15557 0.00347 0.14355 0.00746 0.12899 C 0.0125 0.11558 0.01441 0.09709 0.01441 0.08229 C 0.01545 0.06773 0.01441 0.05039 0.00937 0.03583 C 0.00451 0.02242 -0.00452 0.01179 -0.0165 0.00647 C -0.02865 0.00254 -0.04063 0.00786 -0.04861 0.0171 C -0.05556 0.02635 -0.06059 0.04114 -0.06163 0.05825 C -0.06163 0.07559 -0.06059 0.09154 -0.05556 0.10494 C -0.05052 0.11835 -0.05156 0.12089 -0.0316 0.13823 C -0.01354 0.15696 0.00451 0.15164 0.01545 0.1528 C 0.02639 0.1528 0.03541 0.14748 0.04635 0.14216 C 0.0585 0.13569 0.0684 0.12367 0.07552 0.11304 C 0.08246 0.1024 0.08541 0.08899 0.08941 0.06773 C 0.09236 0.04646 0.09236 0.03583 0.09236 0.01965 C 0.09236 0.0037 0.09236 -0.01225 0.09236 -0.0282 E">
                                      <p:cBhvr>
                                        <p:cTn id="26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4581360"/>
            <a:ext cx="6694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faccio ciclis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vado in bi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620640"/>
            <a:ext cx="403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3375000" cy="3671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27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537372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Faccio una passeggi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779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268280"/>
            <a:ext cx="4175280" cy="346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3336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89 0.21591 C -0.15955 0.03375 -0.13003 -0.14817 -0.1066 -0.14817 C -0.08316 -0.14817 -0.075 0.21706 -0.04861 0.21591 C -0.02239 0.21475 0.02448 -0.16851 0.05122 -0.15534 C 0.07813 -0.14216 0.08073 0.26676 0.1125 0.29543 C 0.14462 0.32409 0.28368 0.0363 0.24254 0.01572 C 0.20156 -0.00485 -0.10191 0.18031 -0.13298 0.17245 C -0.16389 0.16482 0.01719 -0.01294 0.0566 -0.03028 C 0.09618 -0.04761 0.12813 0.06981 0.10382 0.06866 C 0.07969 0.0675 -0.05677 -0.01964 -0.08906 -0.03744 E">
                                      <p:cBhvr>
                                        <p:cTn id="28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4935600"/>
            <a:ext cx="53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gioco a calc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pratico lo spo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197000"/>
            <a:ext cx="40309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745080" cy="3154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30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515772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Mangio in una pizze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3130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83664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ff00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84 0.10518 C -0.09584 0.01595 -0.04584 -0.06126 0.02118 -0.06658 C 0.08524 -0.07328 0.14514 -0.01341 0.14913 0.07328 C 0.15416 0.15303 0.11215 0.22769 0.05208 0.23301 C -0.00278 0.23694 -0.05486 0.1877 -0.05886 0.11327 C -0.06285 0.0453 -0.02778 -0.01873 0.02309 -0.02404 C 0.07014 -0.02797 0.11423 0.0134 0.11719 0.07582 C 0.12014 0.13176 0.09219 0.18631 0.05017 0.18909 C 0.01215 0.19302 -0.02379 0.16112 -0.02691 0.11049 C -0.02882 0.06518 -0.00781 0.02126 0.02517 0.01872 C 0.05416 0.01595 0.08316 0.03999 0.08524 0.07859 C 0.08715 0.11188 0.07222 0.14378 0.04809 0.14655 C 0.02812 0.1491 0.00712 0.13453 0.00607 0.10795 C 0.00416 0.08645 0.01215 0.0638 0.02708 0.06126 C 0.03923 0.06126 0.05121 0.06657 0.05312 0.08113 C 0.05416 0.09061 0.05208 0.09986 0.04618 0.10379 C 0.04323 0.10518 0.04114 0.10518 0.03819 0.10379 E">
                                      <p:cBhvr>
                                        <p:cTn id="315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5877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835280" y="155736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155736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10560" y="155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92428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292428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0560" y="292428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4437000"/>
            <a:ext cx="43308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10560" y="4437000"/>
            <a:ext cx="4334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5950080"/>
          <a:ext cx="9144000" cy="1035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016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2800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764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871640" cy="1160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0"/>
            <a:ext cx="1657440" cy="1512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557360"/>
            <a:ext cx="1238400" cy="1228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1557360"/>
            <a:ext cx="1295640" cy="1225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08720" y="1484280"/>
            <a:ext cx="120816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360" y="2997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2924280"/>
            <a:ext cx="15116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51640" y="2997360"/>
            <a:ext cx="126216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556000" y="436572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36000" y="4437000"/>
            <a:ext cx="1511280" cy="1255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35280" y="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0"/>
            <a:ext cx="4330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10560" y="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292428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4437000"/>
            <a:ext cx="43308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437000"/>
            <a:ext cx="4334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155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1"/>
          <a:stretch/>
        </p:blipFill>
        <p:spPr>
          <a:xfrm>
            <a:off x="5003640" y="0"/>
            <a:ext cx="1470240" cy="1484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7308720" y="0"/>
            <a:ext cx="1308240" cy="1484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3"/>
          <a:stretch/>
        </p:blipFill>
        <p:spPr>
          <a:xfrm>
            <a:off x="5022720" y="1484280"/>
            <a:ext cx="131940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4"/>
          <a:stretch/>
        </p:blipFill>
        <p:spPr>
          <a:xfrm>
            <a:off x="2771640" y="2997360"/>
            <a:ext cx="1254240" cy="136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5"/>
          <a:stretch/>
        </p:blipFill>
        <p:spPr>
          <a:xfrm>
            <a:off x="395280" y="4437000"/>
            <a:ext cx="1440000" cy="1212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6"/>
          <a:stretch/>
        </p:blipFill>
        <p:spPr>
          <a:xfrm>
            <a:off x="5076720" y="4365720"/>
            <a:ext cx="13892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508464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bal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476280"/>
            <a:ext cx="351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389400" cy="3673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749 C 0.01511 0.06149 0.02223 0.04693 0.02917 0.0282 C 0.04809 -0.02496 0.05313 -0.07697 0.03924 -0.08483 C 0.02518 -0.09431 -0.00191 -0.05686 -0.02083 -0.0037 C -0.0309 0.02427 -0.0368 0.05086 -0.03889 0.07097 C -0.04184 0.08692 -0.04288 0.10287 -0.04288 0.12159 C -0.04288 0.18146 -0.02986 0.2307 -0.01475 0.2307 C 0.00018 0.2307 0.0132 0.18146 0.0132 0.12159 C 0.0132 0.09362 0.01025 0.06681 0.00521 0.04832 C 0.00313 0.03237 -0.00191 0.01503 -0.00781 -0.00231 C -0.02777 -0.05686 -0.05486 -0.09431 -0.06892 -0.08483 C -0.08281 -0.07559 -0.07777 -0.02496 -0.05781 0.02959 C -0.04982 0.05502 -0.03889 0.07629 -0.02777 0.09085 C -0.01979 0.10426 -0.01076 0.11628 0.00122 0.12807 C 0.03716 0.16667 0.07309 0.18401 0.08316 0.16806 C 0.09219 0.15211 0.07223 0.10819 0.03611 0.07097 C 0.02118 0.05502 0.00521 0.043 -0.00781 0.03491 C -0.01979 0.02705 -0.03489 0.02035 -0.05087 0.01642 C -0.09479 0.00301 -0.13281 0.00694 -0.13576 0.0282 C -0.13975 0.04832 -0.10677 0.0749 -0.06284 0.08831 C -0.04288 0.09362 -0.02378 0.09617 -0.00885 0.09478 C 0.00417 0.09478 0.01823 0.09224 0.03316 0.08831 C 0.07709 0.0749 0.11025 0.04693 0.10608 0.02705 C 0.10313 0.00694 0.06511 0.00162 0.02118 0.01503 C 0.00018 0.02173 -0.01892 0.03098 -0.03177 0.04161 C -0.04288 0.0497 -0.05382 0.05895 -0.0658 0.07097 C -0.10087 0.10957 -0.12187 0.15211 -0.1118 0.16806 C -0.10277 0.18401 -0.0658 0.16667 -0.0309 0.12945 C -0.01389 0.11096 0.00018 0.09224 0.00816 0.0749 Z">
                                      <p:cBhvr>
                                        <p:cTn id="328" dur="3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47640" y="4797360"/>
            <a:ext cx="53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nuoto in pisc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35607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2349360" cy="2665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975 -0.19398 C -0.14166 -0.17826 -0.14739 -0.17017 -0.15243 -0.15583 C -0.15486 -0.14867 -0.15781 -0.14173 -0.16041 -0.13479 C -0.16146 -0.13202 -0.16354 -0.12624 -0.16354 -0.12601 C -0.16736 -0.09456 -0.17552 -0.06543 -0.17795 -0.03329 C -0.17725 0.01318 -0.19132 0.07515 -0.15885 0.10636 C -0.15399 0.11099 -0.14722 0.1096 -0.14132 0.11052 C -0.13767 0.10914 -0.1335 0.10914 -0.13021 0.10636 C -0.12291 0.10035 -0.11319 0.0844 -0.10798 0.07445 C -0.08854 0.03723 -0.07847 -0.00277 -0.0651 -0.04393 C -0.0493 -0.09248 -0.05937 -0.08069 -0.04288 -0.09664 C -0.03715 -0.10844 -0.01666 -0.123 -0.00642 -0.12624 C 0.00313 -0.12485 0.01302 -0.12601 0.02205 -0.12208 C 0.02639 -0.12023 0.0316 -0.10936 0.0316 -0.10913 C 0.03663 -0.08901 0.03872 -0.07167 0.03316 -0.05017 C 0.02118 -0.00439 0.02604 -0.04161 0.01736 -0.01849 C 0.0033 0.01896 0.01632 -0.00809 0.00782 0.00902 C 0.0066 0.01596 0.00591 0.02312 0.00469 0.03006 C 0.00382 0.03445 0.00157 0.04278 0.00157 0.04301 C 0.00209 0.06035 -2.77778000000017E-006 0.07862 0.00313 0.09573 C 0.00608 0.11122 0.01979 0.11284 0.02848 0.11469 C 0.04427 0.11399 0.06025 0.11376 0.07604 0.1126 C 0.07778 0.11237 0.07969 0.11214 0.08091 0.11052 C 0.08299 0.10775 0.08282 0.10336 0.08403 0.09989 E">
                                      <p:cBhvr>
                                        <p:cTn id="211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5084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Visito la cattedr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2475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166920" cy="3456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2 -0.09433 C -0.14219 -0.0837 -0.15122 -0.07306 -0.15521 -0.05965 C -0.1592 -0.04509 -0.16129 -0.02774 -0.1632 -0.0104 C -0.16528 0.00694 -0.1632 0.0215 -0.16129 0.03746 C -0.1592 0.05226 -0.15625 0.06821 -0.14914 0.08139 C -0.14323 0.0948 -0.13316 0.10544 -0.12223 0.11353 C -0.11216 0.12139 -0.10018 0.12671 -0.0882 0.12948 C -0.07622 0.13202 -0.06424 0.13202 -0.05313 0.12948 C -0.04115 0.12671 -0.03021 0.12 -0.02118 0.10937 C -0.01216 0.10012 -0.00417 0.08809 -0.00018 0.07353 C 0.00486 0.06012 0.00677 0.04162 0.00677 0.02682 C 0.00781 0.01226 0.00677 -0.00509 0.00173 -0.01965 C -0.00313 -0.03306 -0.01216 -0.0437 -0.02414 -0.04902 C -0.03629 -0.05295 -0.04827 -0.04763 -0.05625 -0.03838 C -0.0632 -0.02913 -0.06823 -0.01433 -0.06927 0.00278 C -0.06927 0.02012 -0.06823 0.03607 -0.0632 0.04948 C -0.05816 0.06289 -0.0592 0.06544 -0.03924 0.08278 C -0.02118 0.1015 -0.00313 0.09619 0.00781 0.09734 C 0.01875 0.09734 0.02777 0.09202 0.03871 0.08671 C 0.05086 0.08023 0.06076 0.06821 0.06788 0.05757 C 0.07482 0.04694 0.07777 0.03353 0.08177 0.01226 C 0.08472 -0.00902 0.08472 -0.01965 0.08472 -0.03584 C 0.08472 -0.05179 0.08472 -0.06774 0.08472 -0.0837 E">
                                      <p:cBhvr>
                                        <p:cTn id="22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5373720"/>
            <a:ext cx="53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Faccio lo shop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2638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49876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-0.17826 C -0.06302 -0.17017 -0.11198 -0.15029 -0.11198 -0.13433 C -0.11198 -0.11977 -0.06406 -0.1089 8.33333E-007 -0.1089 C 0.06389 -0.1089 0.11788 -0.11977 0.11788 -0.13433 C 0.11788 -0.15029 0.06198 -0.15422 -0.00208 -0.14358 C -0.0651 -0.13156 -0.11198 -0.11167 -0.11198 -0.09711 C -0.11198 -0.08231 -0.06302 -0.07029 8.33333E-007 -0.07029 C 0.06389 -0.07029 0.11788 -0.08231 0.11788 -0.09711 C 0.11788 -0.11167 0.06198 -0.11561 -0.00104 -0.10497 C -0.0651 -0.09433 -0.11198 -0.07445 -0.11198 -0.05965 C -0.11198 -0.0437 -0.06302 -0.03167 0.00087 -0.03167 C 0.06389 -0.03167 0.11788 -0.0437 0.11788 -0.05965 C 0.11788 -0.07306 0.06198 -0.07699 -0.00104 -0.06774 C -0.06406 -0.05711 -0.11198 -0.03584 -0.11198 -0.02104 C -0.11198 -0.00647 -0.06198 0.00555 0.00087 0.00555 C 0.06597 0.00555 0.11788 -0.00647 0.11788 -0.02104 C 0.11788 -0.03584 0.06302 -0.03977 8.33333E-007 -0.02913 C -0.06302 -0.0185 -0.11198 0.00162 -0.11198 0.01619 C -0.11198 0.03214 -0.06198 0.04278 0.00191 0.04278 C 0.06597 0.04278 0.11788 0.03075 0.11788 0.01619 C 0.11788 0.00162 0.06302 -0.00254 8.33333E-007 0.00809 C -0.06302 0.01896 -0.11198 0.04023 -0.11198 0.05341 C -0.11198 0.06821 -0.06111 0.08 0.00191 0.08 C 0.06597 0.08 0.11788 0.06821 0.11788 0.05341 C 0.11788 0.04023 0.06389 0.03607 8.33333E-007 0.04555 C -0.06302 0.05619 -0.11198 0.07746 -0.11198 0.09202 C -0.11198 0.10544 -0.06111 0.11861 0.00295 0.11861 C 0.06701 0.11861 0.11788 0.10682 0.11788 0.09202 C 0.11788 0.07746 0.06389 0.07353 0.00087 0.08416 C -0.06198 0.0948 -0.11302 0.11468 -0.11198 0.12948 C -0.11111 0.14405 -0.06111 0.15468 0.00295 0.15468 C 0.06701 0.15468 0.11788 0.14266 0.11788 0.12809 C 0.11788 0.11468 0.06597 0.11075 0.00295 0.12278 E">
                                      <p:cBhvr>
                                        <p:cTn id="23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5892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537372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99"/>
                </a:solidFill>
                <a:latin typeface="Comic Sans MS"/>
              </a:rPr>
              <a:t>Vado alla spiag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87880" y="1484280"/>
            <a:ext cx="3054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448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087 -0.05225 C 0.10886 -0.04161 0.11788 -0.03098 0.12188 -0.01757 C 0.12587 -0.00301 0.12795 0.01433 0.12986 0.03166 C 0.13195 0.049 0.12986 0.06356 0.12795 0.07951 C 0.12587 0.09431 0.12292 0.11026 0.1158 0.12343 C 0.1099 0.13684 0.09983 0.14748 0.08889 0.15557 C 0.07882 0.16343 0.06684 0.16874 0.05486 0.17152 C 0.04288 0.17406 0.03091 0.17406 0.01979 0.17152 C 0.00782 0.16874 -0.00312 0.16204 -0.01215 0.15141 C -0.02118 0.14216 -0.02916 0.13014 -0.03316 0.11558 C -0.03819 0.10217 -0.0401 0.08368 -0.0401 0.06888 C -0.04114 0.05432 -0.0401 0.03698 -0.03507 0.02242 C -0.03021 0.00901 -0.02118 -0.00162 -0.0092 -0.00694 C 0.00295 -0.01087 0.01493 -0.00555 0.02292 0.00369 C 0.02986 0.01294 0.0349 0.02773 0.03594 0.04484 C 0.03594 0.06218 0.0349 0.07813 0.02986 0.09153 C 0.02483 0.10494 0.02587 0.10748 0.00591 0.12482 C -0.01215 0.14355 -0.03021 0.13823 -0.04114 0.13939 C -0.05208 0.13939 -0.06111 0.13407 -0.07205 0.12875 C -0.0842 0.12228 -0.09409 0.11026 -0.10121 0.09963 C -0.10816 0.08899 -0.11111 0.07558 -0.1151 0.05432 C -0.11805 0.03305 -0.11805 0.02242 -0.11805 0.00624 C -0.11805 -0.00971 -0.11805 -0.02566 -0.11805 -0.04161 E">
                                      <p:cBhvr>
                                        <p:cTn id="25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57:46Z</dcterms:created>
  <dc:creator>User</dc:creator>
  <dc:description/>
  <dc:language>en-US</dc:language>
  <cp:lastModifiedBy>Clare</cp:lastModifiedBy>
  <dcterms:modified xsi:type="dcterms:W3CDTF">2009-01-19T13:14:49Z</dcterms:modified>
  <cp:revision>25</cp:revision>
  <dc:subject/>
  <dc:title>Objectives </dc:title>
</cp:coreProperties>
</file>