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86B-5EFA-4DC2-A8CB-4F0A939D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F17-EC45-4F01-80AE-C1C394D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C77-907B-4233-880D-53F178EB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908-8DCD-4B1F-AA47-0B11A1A4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6CC-0B11-4B35-9741-B9FFEE6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711-31E9-46FF-A131-67809C5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A41-43AE-4E4C-9514-D8C915A7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A63-A165-41D1-9C18-8881EFEE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76C-ED77-4F33-BD4D-A5361ABE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CB3-0814-4D8F-98BB-E2CDE210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537-B9B6-46F4-B6CB-A313BC5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AF6-EB32-4528-9BC8-46DEE0B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836-3A62-4A82-A1EA-F719E585A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IL passato prossimo con esse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 already know how to form the passato prossimo tense.  Here is a reminder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28195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6483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038480" y="6218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181480" y="6172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2193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990720" y="6095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of ave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91440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143000" y="297180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GB" sz="2400" spc="-1" strike="noStrike">
                <a:solidFill>
                  <a:srgbClr val="cc00ff"/>
                </a:solidFill>
                <a:latin typeface="Comic Sans MS"/>
              </a:rPr>
              <a:t>part of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the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cc00ff"/>
                </a:solidFill>
                <a:latin typeface="Comic Sans MS"/>
              </a:rPr>
              <a:t>present tense of Av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1600200" y="3048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143000" y="3581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n add th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ver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want to put into the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762120" y="4648320"/>
            <a:ext cx="6933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g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h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vendu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bbiamo 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gioc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B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ne group of verbs use the present tense of </a:t>
            </a: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esser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nstead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MOST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verbs use part of </a:t>
            </a:r>
            <a:r>
              <a:rPr b="1" lang="en-GB" sz="3200" spc="-1" strike="noStrike">
                <a:solidFill>
                  <a:srgbClr val="cc00ff"/>
                </a:solidFill>
                <a:latin typeface="Comic Sans MS"/>
              </a:rPr>
              <a:t>Aver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to form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sato prossim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362320" y="411480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e are some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558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3886200" y="537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st of Verbs which use Essere to form the passato prossim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riv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ti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d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ac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cced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rr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t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rn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vent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man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c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tra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usic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s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l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ri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end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sc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mbr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828800" y="60199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914400" y="5410080"/>
            <a:ext cx="74674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st intransitive verbs, most impersonal verbs and all reflexive verbs take esse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914400" y="609480"/>
            <a:ext cx="7391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passato prossimo is formed with Essere, the past participle behaves like an adjective.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990720" y="1676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f you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 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e “doer” of the verb), you must also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9144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171880" y="39830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    andata (femin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066680" y="4572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also b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9907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828800" y="5486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andati      (mascul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17524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andato    (mascu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24382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270160" y="5943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784520" y="6172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andate       (femin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962520" y="6172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is a table showing all the agree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1447920"/>
          <a:ext cx="7086600" cy="4692600"/>
        </p:xfrm>
        <a:graphic>
          <a:graphicData uri="http://schemas.openxmlformats.org/drawingml/2006/table">
            <a:tbl>
              <a:tblPr/>
              <a:tblGrid>
                <a:gridCol w="1295280"/>
                <a:gridCol w="1828800"/>
                <a:gridCol w="39625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o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a)</a:t>
                      </a: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o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a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u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no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am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i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vo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e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i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or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lor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dat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are the past participles of some of the essere verb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44792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59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English</a:t>
                      </a:r>
                      <a:r>
                        <a:rPr b="1" lang="en-GB" sz="36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r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2d2db9"/>
                          </a:solidFill>
                          <a:latin typeface="Comic Sans MS"/>
                        </a:rPr>
                        <a:t>Cor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s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t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have 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di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c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ac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aciu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li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man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Rima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stay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end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 d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cced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ucces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succee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n you remember what to do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71640" y="2133720"/>
            <a:ext cx="67690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ui è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895480" y="358128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6294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648320" y="358128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219320" y="1676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066680" y="1600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oose the correct past partici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8:09:06Z</dcterms:created>
  <dc:creator>B Cheded</dc:creator>
  <dc:description/>
  <dc:language>en-US</dc:language>
  <cp:lastModifiedBy>Clare Seccombe</cp:lastModifiedBy>
  <cp:lastPrinted>2010-12-15T10:58:03Z</cp:lastPrinted>
  <dcterms:modified xsi:type="dcterms:W3CDTF">2011-01-31T11:29:13Z</dcterms:modified>
  <cp:revision>15</cp:revision>
  <dc:subject/>
  <dc:title>The Passé Composé with Etre</dc:title>
</cp:coreProperties>
</file>