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9BC-BC4B-4CAC-BC13-C07082DF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5B1-1798-4815-A692-34568C59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8161-BC71-4E83-AAAD-0F6D1C1A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7441-CDE5-4721-8982-D6BE244B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696-682A-45BE-915C-D4C7F1B7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D9E5-0768-4811-A42B-A4A2C4E6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959B-3992-4F18-A9D0-46B677F8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ED73-DBA4-429B-970F-3436BCAA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776B-D407-4F86-BD51-C8EA6C04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6F08-CBC8-4559-B040-F6588EEC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DDB0-6E22-4BDE-8C5B-248FEBDF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C386-A689-4277-A933-888B7E86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852C-823E-4CC5-B543-EFC75378CA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IL passato prossimo con essere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You already know how to form the passato prossimo tense.  Here is a reminder: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2819520" y="56386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4648320" y="56386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038480" y="62182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181480" y="61722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st particip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1219320" y="5943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990720" y="6095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t of ave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91440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143000" y="2971800"/>
            <a:ext cx="670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Use </a:t>
            </a:r>
            <a:r>
              <a:rPr b="1" lang="en-GB" sz="2400" spc="-1" strike="noStrike">
                <a:solidFill>
                  <a:srgbClr val="cc00ff"/>
                </a:solidFill>
                <a:latin typeface="Comic Sans MS"/>
              </a:rPr>
              <a:t>part of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the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cc00ff"/>
                </a:solidFill>
                <a:latin typeface="Comic Sans MS"/>
              </a:rPr>
              <a:t>present tense of Av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1600200" y="30481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143000" y="35812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n add th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Comic Sans MS"/>
              </a:rPr>
              <a:t>past participl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the verb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want to put into the pa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762120" y="4648320"/>
            <a:ext cx="693396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Eg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ha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vendut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abbiamo </a:t>
            </a: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iocat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ff"/>
                </a:solidFill>
                <a:latin typeface="Comic Sans MS"/>
              </a:rPr>
              <a:t>BU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ne group of verbs use the present tense of </a:t>
            </a:r>
            <a:r>
              <a:rPr b="1" lang="en-GB" sz="3200" spc="-1" strike="noStrike">
                <a:solidFill>
                  <a:srgbClr val="cc00ff"/>
                </a:solidFill>
                <a:latin typeface="Comic Sans MS"/>
              </a:rPr>
              <a:t>essere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instead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ff"/>
                </a:solidFill>
                <a:latin typeface="Comic Sans MS"/>
              </a:rPr>
              <a:t>MOST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verbs use part of </a:t>
            </a:r>
            <a:r>
              <a:rPr b="1" lang="en-GB" sz="3200" spc="-1" strike="noStrike">
                <a:solidFill>
                  <a:srgbClr val="cc00ff"/>
                </a:solidFill>
                <a:latin typeface="Comic Sans MS"/>
              </a:rPr>
              <a:t>Avere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to form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ssato prossimo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2362320" y="411480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re are some examp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755880" y="44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AutoShape 15"/>
          <p:cNvSpPr/>
          <p:nvPr/>
        </p:nvSpPr>
        <p:spPr>
          <a:xfrm>
            <a:off x="3886200" y="5373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st of Verbs which use Essere to form the passato prossimo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riva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arti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de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iace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cced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rre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sta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rn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venta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imane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ci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tra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iusic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sse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li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ri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cend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asce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mbr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828800" y="60199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914400" y="5410080"/>
            <a:ext cx="74674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st intransitive verbs, most impersonal verbs and all reflexive verbs take esse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9"/>
          <p:cNvSpPr/>
          <p:nvPr/>
        </p:nvSpPr>
        <p:spPr>
          <a:xfrm>
            <a:off x="914400" y="609480"/>
            <a:ext cx="7391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hen the passato prossimo is formed with Essere, the past participle behaves like an adjective.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990720" y="16765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if you have a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feminine subj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he “doer” of the verb), you must also have a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femini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past participl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914400" y="2971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2171880" y="398304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     andata (feminin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1066680" y="457200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plur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past particip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ust also be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plur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990720" y="54864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1828800" y="5486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no andati      (masculine plur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1752480" y="29718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 andato    (masculin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243828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2270160" y="59436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25"/>
          <p:cNvSpPr/>
          <p:nvPr/>
        </p:nvSpPr>
        <p:spPr>
          <a:xfrm>
            <a:off x="1784520" y="6172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no andate       (feminine plur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3962520" y="61722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ere is a table showing all the agreement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43000" y="1447920"/>
          <a:ext cx="7086600" cy="4692600"/>
        </p:xfrm>
        <a:graphic>
          <a:graphicData uri="http://schemas.openxmlformats.org/drawingml/2006/table">
            <a:tbl>
              <a:tblPr/>
              <a:tblGrid>
                <a:gridCol w="1295280"/>
                <a:gridCol w="1828800"/>
                <a:gridCol w="39625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i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on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ndato</a:t>
                      </a: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a)</a:t>
                      </a: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t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e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ndato</a:t>
                      </a: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a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lu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nda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le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ndat</a:t>
                      </a: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no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am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ndati</a:t>
                      </a: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vo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e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ndati</a:t>
                      </a: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lor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on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ndat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lor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on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ndat</a:t>
                      </a: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ere are the past participles of some of the essere verb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1447920"/>
          <a:ext cx="8229600" cy="5303880"/>
        </p:xfrm>
        <a:graphic>
          <a:graphicData uri="http://schemas.openxmlformats.org/drawingml/2006/table">
            <a:tbl>
              <a:tblPr/>
              <a:tblGrid>
                <a:gridCol w="2743200"/>
                <a:gridCol w="2895480"/>
                <a:gridCol w="2590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nfini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English</a:t>
                      </a:r>
                      <a:r>
                        <a:rPr b="1" lang="en-GB" sz="36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r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2d2db9"/>
                          </a:solidFill>
                          <a:latin typeface="Comic Sans MS"/>
                        </a:rPr>
                        <a:t>Cor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s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ta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have b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Mo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di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sc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Na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bo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ac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iaciu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li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man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Rima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stay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cend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went d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cced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ucces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succee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an you remember what to do?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971640" y="2133720"/>
            <a:ext cx="6769080" cy="11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ui è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a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895480" y="3581280"/>
            <a:ext cx="12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6629400" y="3581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4648320" y="3581280"/>
            <a:ext cx="114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1219320" y="16765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1066680" y="16002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oose the correct past particip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8:09:06Z</dcterms:created>
  <dc:creator>B Cheded</dc:creator>
  <dc:description/>
  <dc:language>en-US</dc:language>
  <cp:lastModifiedBy>Clare Seccombe</cp:lastModifiedBy>
  <cp:lastPrinted>2010-12-15T10:58:03Z</cp:lastPrinted>
  <dcterms:modified xsi:type="dcterms:W3CDTF">2011-01-31T11:29:13Z</dcterms:modified>
  <cp:revision>15</cp:revision>
  <dc:subject/>
  <dc:title>The Passé Composé with Etre</dc:title>
</cp:coreProperties>
</file>