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72D-78FE-4BA0-AB3B-CB10B6EA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45D-BA44-401F-98B7-A3D7A38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24B-62CB-4869-BA4D-2C78D841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0F8-0A51-4592-A242-DA605D8B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09D-0B3E-4AEE-ABA2-322E325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A47-D3BB-405F-B8C1-339E0B09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792-9E3B-4574-BECD-9E7174B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E49-7473-44A2-AA5D-40EC1AC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CAE-69BE-4C9D-82A3-66A60ABA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47E-8179-4258-96A8-5937BDC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D8E-CA72-4EAD-9289-4CD3E27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C86-3CAE-4A18-B17F-A0BB195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AA4-BCD5-4C1A-8028-52A4B7E8C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hyperlink" Target="http://www.sunderlandschools.org/mfl-sunderland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image" Target="../media/image1.wmf"/><Relationship Id="rId6" Type="http://schemas.openxmlformats.org/officeDocument/2006/relationships/image" Target="../media/image14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2.png"/><Relationship Id="rId5" Type="http://schemas.openxmlformats.org/officeDocument/2006/relationships/image" Target="../media/image26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7.png"/><Relationship Id="rId9" Type="http://schemas.openxmlformats.org/officeDocument/2006/relationships/image" Target="../media/image19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79640"/>
            <a:ext cx="6629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 u="sng">
                <a:solidFill>
                  <a:srgbClr val="000000"/>
                </a:solidFill>
                <a:uFillTx/>
                <a:latin typeface="Comic Sans MS"/>
              </a:rPr>
              <a:t>La Scuol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90392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recap the school subjects in Ital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7238880" y="1676520"/>
            <a:ext cx="124488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90188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19920" y="4287960"/>
            <a:ext cx="1218960" cy="98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8001000" y="5791320"/>
            <a:ext cx="838080" cy="753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 flipH="1" rot="10800000">
            <a:off x="0" y="5867280"/>
            <a:ext cx="95868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76720" y="6524640"/>
            <a:ext cx="4067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9 MK </a:t>
            </a:r>
            <a:r>
              <a:rPr b="0" lang="en-GB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7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687240"/>
            <a:ext cx="5715000" cy="428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50292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educazione fis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105520" cy="399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541008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mus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25600" y="1195560"/>
            <a:ext cx="5508720" cy="3833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2578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10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relig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081080"/>
            <a:ext cx="4357440" cy="406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tecnolog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70120" y="1353960"/>
            <a:ext cx="4187880" cy="3800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matema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52680" y="647640"/>
            <a:ext cx="4100760" cy="4381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cc00"/>
                </a:solidFill>
                <a:latin typeface="Comic Sans MS"/>
              </a:rPr>
              <a:t>scienz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66880" y="1633680"/>
            <a:ext cx="4191120" cy="352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2590920"/>
            <a:ext cx="22100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657600"/>
            <a:ext cx="160020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447920"/>
            <a:ext cx="335304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590920"/>
            <a:ext cx="1828800" cy="274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2590920"/>
            <a:ext cx="114300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447920"/>
            <a:ext cx="1828800" cy="11430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657600"/>
            <a:ext cx="1752840" cy="1676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5638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nformatic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33440" y="1582560"/>
            <a:ext cx="4700880" cy="3522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038480"/>
            <a:ext cx="312408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685800" cy="2514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371600"/>
            <a:ext cx="22860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2708280"/>
            <a:ext cx="31240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371600"/>
            <a:ext cx="68580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413000"/>
            <a:ext cx="312408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200400"/>
            <a:ext cx="22860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ducazione fisic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067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71720" y="1676520"/>
            <a:ext cx="3578400" cy="365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3581280"/>
            <a:ext cx="160020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419720"/>
            <a:ext cx="281952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419720"/>
            <a:ext cx="2286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1523880"/>
            <a:ext cx="1600200" cy="289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523880"/>
            <a:ext cx="1905120" cy="28958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523880"/>
            <a:ext cx="1600200" cy="838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362320"/>
            <a:ext cx="16002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43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5120" y="4267080"/>
            <a:ext cx="2743200" cy="10670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666880"/>
            <a:ext cx="99036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809880"/>
            <a:ext cx="3200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371600"/>
            <a:ext cx="220968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666880"/>
            <a:ext cx="18288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371600"/>
            <a:ext cx="28195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666880"/>
            <a:ext cx="221004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267080"/>
            <a:ext cx="2286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pagno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3440" y="1301760"/>
            <a:ext cx="4049640" cy="380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480060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7467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teat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86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31760" y="5638680"/>
            <a:ext cx="9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eografi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295280"/>
            <a:ext cx="2286000" cy="152424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819520"/>
            <a:ext cx="4572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819520"/>
            <a:ext cx="1143000" cy="274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295280"/>
            <a:ext cx="236196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038480"/>
            <a:ext cx="3047760" cy="1524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19520"/>
            <a:ext cx="198108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819520"/>
            <a:ext cx="1066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2922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1890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a mia materia preferita 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600200"/>
            <a:ext cx="3886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600200"/>
            <a:ext cx="914400" cy="3733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3809880"/>
            <a:ext cx="190476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3809880"/>
            <a:ext cx="1981440" cy="1524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362320"/>
            <a:ext cx="1828800" cy="14475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2362320"/>
            <a:ext cx="20574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6386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ngles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2438280" cy="169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91120" y="838080"/>
            <a:ext cx="1695600" cy="175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480" y="34290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886200"/>
            <a:ext cx="54864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graf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relig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28600"/>
            <a:ext cx="3581640" cy="304812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1819440" cy="194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48520" y="4343400"/>
            <a:ext cx="2057400" cy="173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400800" y="4114800"/>
            <a:ext cx="1714680" cy="1752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4120" y="3200400"/>
            <a:ext cx="3962160" cy="3886200"/>
          </a:xfrm>
          <a:custGeom>
            <a:avLst/>
            <a:gdLst>
              <a:gd name="textAreaLeft" fmla="*/ 930960 w 3962160"/>
              <a:gd name="textAreaRight" fmla="*/ 3028320 w 3962160"/>
              <a:gd name="textAreaTop" fmla="*/ 456840 h 3886200"/>
              <a:gd name="textAreaBottom" fmla="*/ 2437560 h 3886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57200"/>
            <a:ext cx="38862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for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ci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431172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2209680" cy="200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2209680" cy="2063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14800" y="380880"/>
            <a:ext cx="449568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te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ecn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pagn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838080" y="2438280"/>
            <a:ext cx="6476760" cy="4648320"/>
          </a:xfrm>
          <a:prstGeom prst="star5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826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2130480" cy="167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14400" y="838080"/>
            <a:ext cx="2362320" cy="184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762120" y="-762120"/>
            <a:ext cx="5562720" cy="5105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327480"/>
            <a:ext cx="3200400" cy="255744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ranc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gl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012680"/>
            <a:ext cx="7315200" cy="59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Ar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tea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spagno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france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Comic Sans MS"/>
              </a:rPr>
              <a:t>ingle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Educazione fis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geograf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stor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informa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mus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928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1461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071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6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290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038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648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527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580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851120"/>
            <a:ext cx="4572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religi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cc0099"/>
                </a:solidFill>
                <a:latin typeface="Comic Sans MS"/>
              </a:rPr>
              <a:t>tecnolog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1880" y="527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580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838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461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838080"/>
            <a:ext cx="281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mate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Comic Sans MS"/>
              </a:rPr>
              <a:t>sci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bi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chi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ff"/>
                </a:solidFill>
                <a:latin typeface="Comic Sans MS"/>
              </a:rPr>
              <a:t>fi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2071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2757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33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tudio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4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stud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195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24080" y="2455920"/>
            <a:ext cx="2438640" cy="1963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216072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6040" y="152280"/>
            <a:ext cx="1916280" cy="198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57200" y="2438280"/>
            <a:ext cx="2133720" cy="1936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410160" y="4724280"/>
            <a:ext cx="2048040" cy="213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616800" y="76320"/>
            <a:ext cx="1993680" cy="213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3200400" y="325440"/>
            <a:ext cx="2209680" cy="1731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48120" y="4751280"/>
            <a:ext cx="2666880" cy="187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457200" y="4818240"/>
            <a:ext cx="2057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4221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3336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118764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020000" y="465300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348000" y="26028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780000" y="2565360"/>
            <a:ext cx="1584000" cy="1509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24000" y="115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6659640" y="47628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6372360" y="234936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324000" y="4365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2050920" y="2276640"/>
            <a:ext cx="11876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221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3336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2000" y="54936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1906560" cy="143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556000" cy="191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084720" y="4437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16720" y="549360"/>
            <a:ext cx="2232000" cy="15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419640" y="5300640"/>
            <a:ext cx="1584000" cy="1243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716360" y="4292640"/>
            <a:ext cx="1187640" cy="1019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95280" y="189000"/>
            <a:ext cx="2376360" cy="1950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6156360" y="2276640"/>
            <a:ext cx="2556000" cy="1917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492360" y="476280"/>
            <a:ext cx="22687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912960"/>
            <a:ext cx="5410080" cy="43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spagnol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635800" cy="442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france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19160" y="450720"/>
            <a:ext cx="4981680" cy="518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569916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Comic Sans MS"/>
              </a:rPr>
              <a:t>ingle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4621320" cy="47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57754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855720"/>
            <a:ext cx="4724280" cy="4249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st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34844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geograf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054080"/>
            <a:ext cx="4878360" cy="410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54100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0099"/>
                </a:solidFill>
                <a:latin typeface="Comic Sans MS"/>
              </a:rPr>
              <a:t>informa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6:20:48Z</dcterms:created>
  <dc:creator>Winme</dc:creator>
  <dc:description/>
  <dc:language>en-US</dc:language>
  <cp:lastModifiedBy>Clare</cp:lastModifiedBy>
  <dcterms:modified xsi:type="dcterms:W3CDTF">2009-01-19T13:16:15Z</dcterms:modified>
  <cp:revision>10</cp:revision>
  <dc:subject/>
  <dc:title>PowerPoint Presentation</dc:title>
</cp:coreProperties>
</file>