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28.png" ContentType="image/png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CE73-A7BF-45FE-A369-3650D6109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CDD6-0969-4CD7-B38D-C56A0BAA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D62C-6E53-47AF-B494-D45249781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B7A5-78D9-4F63-8DDE-0C6C3D1C1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9587-23FB-4C4E-AF51-1F993D7A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2A71-984E-4981-9A45-602531D7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DCFA-526A-42BB-99D7-3FE2989F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01B1-E308-4C53-9612-CC6FA61E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4558-AE1F-42C5-83C1-531C787B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A81D-4844-4321-9F45-5E845632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3BC5-5B56-4735-AFF1-57A633A3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E8BD-FE88-496F-A125-03CC1799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A9C6-699C-4B72-8CC7-8ADEBC4DD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hyperlink" Target="http://www.sunderlandschools.org/mfl-sunderland" TargetMode="External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2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9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wmf"/><Relationship Id="rId3" Type="http://schemas.openxmlformats.org/officeDocument/2006/relationships/image" Target="../media/image6.wmf"/><Relationship Id="rId4" Type="http://schemas.openxmlformats.org/officeDocument/2006/relationships/image" Target="../media/image13.wmf"/><Relationship Id="rId5" Type="http://schemas.openxmlformats.org/officeDocument/2006/relationships/image" Target="../media/image1.wmf"/><Relationship Id="rId6" Type="http://schemas.openxmlformats.org/officeDocument/2006/relationships/image" Target="../media/image14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2.png"/><Relationship Id="rId5" Type="http://schemas.openxmlformats.org/officeDocument/2006/relationships/image" Target="../media/image26.wmf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27.png"/><Relationship Id="rId9" Type="http://schemas.openxmlformats.org/officeDocument/2006/relationships/image" Target="../media/image19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79640"/>
            <a:ext cx="66294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 u="sng">
                <a:solidFill>
                  <a:srgbClr val="000000"/>
                </a:solidFill>
                <a:uFillTx/>
                <a:latin typeface="Comic Sans MS"/>
              </a:rPr>
              <a:t>La Scuol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903920"/>
            <a:ext cx="6629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recap the school subjects in Itali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 flipH="1">
            <a:off x="7238880" y="1676520"/>
            <a:ext cx="1244880" cy="1295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1901880" cy="1494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990720" y="4191120"/>
            <a:ext cx="1143000" cy="1066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019920" y="4287960"/>
            <a:ext cx="1218960" cy="982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8001000" y="5791320"/>
            <a:ext cx="838080" cy="753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 flipH="1" rot="10800000">
            <a:off x="0" y="5867280"/>
            <a:ext cx="958680" cy="990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076720" y="6524640"/>
            <a:ext cx="40672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2009 MK </a:t>
            </a:r>
            <a:r>
              <a:rPr b="0" lang="en-GB" sz="800" spc="-1" strike="noStrike" u="sng">
                <a:solidFill>
                  <a:srgbClr val="ccccff"/>
                </a:solidFill>
                <a:uFillTx/>
                <a:latin typeface="Arial Rounded MT Bold"/>
                <a:hlinkClick r:id="rId7"/>
              </a:rPr>
              <a:t>http://www.sunderlandschools.org/mfl-sunderl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828800" y="687240"/>
            <a:ext cx="5715000" cy="4281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90720" y="5029200"/>
            <a:ext cx="746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cc0099"/>
                </a:solidFill>
                <a:latin typeface="Comic Sans MS"/>
              </a:rPr>
              <a:t>educazione fisic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5105520" cy="3997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38080" y="5410080"/>
            <a:ext cx="7467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cc0099"/>
                </a:solidFill>
                <a:latin typeface="Comic Sans MS"/>
              </a:rPr>
              <a:t>music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25600" y="1195560"/>
            <a:ext cx="5508720" cy="3833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14400" y="5257800"/>
            <a:ext cx="769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54100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cc0099"/>
                </a:solidFill>
                <a:latin typeface="Comic Sans MS"/>
              </a:rPr>
              <a:t>religio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24240" y="1081080"/>
            <a:ext cx="4357440" cy="4068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143000" y="5410080"/>
            <a:ext cx="746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cc0099"/>
                </a:solidFill>
                <a:latin typeface="Comic Sans MS"/>
              </a:rPr>
              <a:t>tecnologi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670120" y="1353960"/>
            <a:ext cx="4187880" cy="3800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143000" y="5410080"/>
            <a:ext cx="746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cc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00cc00"/>
                </a:solidFill>
                <a:latin typeface="Comic Sans MS"/>
              </a:rPr>
              <a:t>matematic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352680" y="647640"/>
            <a:ext cx="4100760" cy="43815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43000" y="5410080"/>
            <a:ext cx="746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cc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00cc00"/>
                </a:solidFill>
                <a:latin typeface="Comic Sans MS"/>
              </a:rPr>
              <a:t>scienze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666880" y="1633680"/>
            <a:ext cx="4191120" cy="3528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181480" y="2590920"/>
            <a:ext cx="2210040" cy="1066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38480" y="3657600"/>
            <a:ext cx="1600200" cy="1676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38480" y="1447920"/>
            <a:ext cx="335304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09680" y="2590920"/>
            <a:ext cx="1828800" cy="27432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38480" y="2590920"/>
            <a:ext cx="1143000" cy="1066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1447920"/>
            <a:ext cx="1828800" cy="1143000"/>
          </a:xfrm>
          <a:prstGeom prst="rect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3657600"/>
            <a:ext cx="1752840" cy="1676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89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La mia materia preferita 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5638680"/>
            <a:ext cx="8915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informatica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4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33440" y="1582560"/>
            <a:ext cx="4700880" cy="35229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228600"/>
            <a:ext cx="9067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La mia materia preferita 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4038480"/>
            <a:ext cx="3124080" cy="1447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2971800"/>
            <a:ext cx="685800" cy="2514600"/>
          </a:xfrm>
          <a:prstGeom prst="rect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1371600"/>
            <a:ext cx="2286000" cy="1828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76360" y="2708280"/>
            <a:ext cx="3124080" cy="1371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1371600"/>
            <a:ext cx="685800" cy="1600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76360" y="1413000"/>
            <a:ext cx="3124080" cy="12952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57800" y="3200400"/>
            <a:ext cx="2286000" cy="2286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563868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educazione fisica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28600"/>
            <a:ext cx="906768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La mia materia preferita 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871720" y="1676520"/>
            <a:ext cx="3578400" cy="3657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62520" y="3581280"/>
            <a:ext cx="1600200" cy="838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4419720"/>
            <a:ext cx="281952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419720"/>
            <a:ext cx="22860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1523880"/>
            <a:ext cx="1600200" cy="2895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1523880"/>
            <a:ext cx="1905120" cy="2895840"/>
          </a:xfrm>
          <a:prstGeom prst="rect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62520" y="1523880"/>
            <a:ext cx="1600200" cy="838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2362320"/>
            <a:ext cx="160020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563868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rt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6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4267440" cy="3436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905120" y="4267080"/>
            <a:ext cx="2743200" cy="1067040"/>
          </a:xfrm>
          <a:prstGeom prst="rect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33920" y="2666880"/>
            <a:ext cx="99036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33920" y="3809880"/>
            <a:ext cx="3200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1371600"/>
            <a:ext cx="2209680" cy="12952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2666880"/>
            <a:ext cx="1828800" cy="1600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14800" y="1371600"/>
            <a:ext cx="2819520" cy="1295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24280" y="2666880"/>
            <a:ext cx="221004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48320" y="4267080"/>
            <a:ext cx="2286000" cy="1067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28600"/>
            <a:ext cx="9067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La mia materia preferita 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563868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spagnolo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0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7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8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8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3440" y="1301760"/>
            <a:ext cx="4049640" cy="3803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09480" y="4800600"/>
            <a:ext cx="8763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5410080"/>
            <a:ext cx="74674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3333cc"/>
                </a:solidFill>
                <a:latin typeface="Comic Sans MS"/>
              </a:rPr>
              <a:t>teatr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90920" y="144792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228600"/>
            <a:ext cx="9067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La mia materia preferita 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-131760" y="5638680"/>
            <a:ext cx="959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geografia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1295280"/>
            <a:ext cx="2286000" cy="1524240"/>
          </a:xfrm>
          <a:prstGeom prst="rect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81480" y="2819520"/>
            <a:ext cx="457200" cy="2743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680" y="2819520"/>
            <a:ext cx="1143000" cy="27432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33720" y="1295280"/>
            <a:ext cx="2361960" cy="1524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4038480"/>
            <a:ext cx="3047760" cy="15242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33720" y="2819520"/>
            <a:ext cx="1981080" cy="1218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14800" y="2819520"/>
            <a:ext cx="106668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4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3292200" cy="3429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79280" y="189000"/>
            <a:ext cx="896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La mia materia preferita 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1600200"/>
            <a:ext cx="388620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1600200"/>
            <a:ext cx="914400" cy="3733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62520" y="3809880"/>
            <a:ext cx="1904760" cy="1524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81080" y="3809880"/>
            <a:ext cx="1981440" cy="1524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81080" y="2362320"/>
            <a:ext cx="1828800" cy="1447560"/>
          </a:xfrm>
          <a:prstGeom prst="rect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9880" y="2362320"/>
            <a:ext cx="2057400" cy="144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563868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inglese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2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952880" y="838080"/>
            <a:ext cx="1905120" cy="17892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800600" y="990720"/>
            <a:ext cx="2438280" cy="169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5091120" y="838080"/>
            <a:ext cx="1695600" cy="1752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09480" y="3429000"/>
            <a:ext cx="693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3886200"/>
            <a:ext cx="5486400" cy="255744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r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graf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religi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67080" y="228600"/>
            <a:ext cx="3581640" cy="3048120"/>
          </a:xfrm>
          <a:prstGeom prst="smileyFace">
            <a:avLst>
              <a:gd name="adj" fmla="val 928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1819440" cy="1942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248520" y="4343400"/>
            <a:ext cx="2057400" cy="17319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6400800" y="4114800"/>
            <a:ext cx="1714680" cy="17524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334120" y="3200400"/>
            <a:ext cx="3962160" cy="3886200"/>
          </a:xfrm>
          <a:custGeom>
            <a:avLst/>
            <a:gdLst>
              <a:gd name="textAreaLeft" fmla="*/ 930960 w 3962160"/>
              <a:gd name="textAreaRight" fmla="*/ 3028320 w 3962160"/>
              <a:gd name="textAreaTop" fmla="*/ 456840 h 3886200"/>
              <a:gd name="textAreaBottom" fmla="*/ 2437560 h 38862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457200"/>
            <a:ext cx="3886200" cy="255744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r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informat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cienz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143000" y="4311720"/>
            <a:ext cx="1981080" cy="15955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143000" y="4114800"/>
            <a:ext cx="2209680" cy="20048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143000" y="3886200"/>
            <a:ext cx="2209680" cy="20638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114800" y="380880"/>
            <a:ext cx="4495680" cy="255744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atemat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ecnolo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pagno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-838080" y="2438280"/>
            <a:ext cx="6476760" cy="4648320"/>
          </a:xfrm>
          <a:prstGeom prst="star5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1682640" cy="17524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066680" y="838080"/>
            <a:ext cx="2130480" cy="16732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914400" y="838080"/>
            <a:ext cx="2362320" cy="18496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-762120" y="-762120"/>
            <a:ext cx="5562720" cy="51055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4120" y="3327480"/>
            <a:ext cx="3200400" cy="255744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us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rance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ingle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28600" y="1012680"/>
            <a:ext cx="7315200" cy="59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3333cc"/>
                </a:solidFill>
                <a:latin typeface="Comic Sans MS"/>
              </a:rPr>
              <a:t>Ar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3333cc"/>
                </a:solidFill>
                <a:latin typeface="Comic Sans MS"/>
              </a:rPr>
              <a:t>teatr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3333cc"/>
                </a:solidFill>
                <a:latin typeface="Comic Sans MS"/>
              </a:rPr>
              <a:t>spagnol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2500" spc="-1" strike="noStrike">
                <a:solidFill>
                  <a:srgbClr val="3333cc"/>
                </a:solidFill>
                <a:latin typeface="Comic Sans MS"/>
              </a:rPr>
              <a:t>france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3333cc"/>
                </a:solidFill>
                <a:latin typeface="Comic Sans MS"/>
              </a:rPr>
              <a:t>ingle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cc0099"/>
                </a:solidFill>
                <a:latin typeface="Comic Sans MS"/>
              </a:rPr>
              <a:t>Educazione fisic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500" spc="-1" strike="noStrike">
                <a:solidFill>
                  <a:srgbClr val="cc0099"/>
                </a:solidFill>
                <a:latin typeface="Comic Sans MS"/>
              </a:rPr>
              <a:t>geograf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cc0099"/>
                </a:solidFill>
                <a:latin typeface="Comic Sans MS"/>
              </a:rPr>
              <a:t>stor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cc0099"/>
                </a:solidFill>
                <a:latin typeface="Comic Sans MS"/>
              </a:rPr>
              <a:t>informatic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500" spc="-1" strike="noStrike">
                <a:solidFill>
                  <a:srgbClr val="cc0099"/>
                </a:solidFill>
                <a:latin typeface="Comic Sans MS"/>
              </a:rPr>
              <a:t>music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00400" y="9288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00400" y="146196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00400" y="20718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a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26812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en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76720" y="329076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gl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5880" y="4038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.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46483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52722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580536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.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0040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s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57800" y="1851120"/>
            <a:ext cx="457200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cc0099"/>
                </a:solidFill>
                <a:latin typeface="Comic Sans MS"/>
              </a:rPr>
              <a:t>religion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500" spc="-1" strike="noStrike">
                <a:solidFill>
                  <a:srgbClr val="cc0099"/>
                </a:solidFill>
                <a:latin typeface="Comic Sans MS"/>
              </a:rPr>
              <a:t>tecnolog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1880" y="52722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.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86600" y="580536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67480" y="8380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467480" y="146196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81480" y="838080"/>
            <a:ext cx="28195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Comic Sans MS"/>
              </a:rPr>
              <a:t>matema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9900"/>
                </a:solidFill>
                <a:latin typeface="Comic Sans MS"/>
              </a:rPr>
              <a:t>scien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00ff"/>
                </a:solidFill>
                <a:latin typeface="Comic Sans MS"/>
              </a:rPr>
              <a:t>bi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00ff"/>
                </a:solidFill>
                <a:latin typeface="Comic Sans MS"/>
              </a:rPr>
              <a:t>chi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00ff"/>
                </a:solidFill>
                <a:latin typeface="Comic Sans MS"/>
              </a:rPr>
              <a:t>fis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43800" y="20718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15200" y="27576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m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20120" y="33670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hys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4572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studio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00400" y="4716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stud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819520" y="304920"/>
            <a:ext cx="0" cy="624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19920" y="304920"/>
            <a:ext cx="0" cy="624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22096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" y="457200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124080" y="2455920"/>
            <a:ext cx="2438640" cy="1963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324480" y="2286000"/>
            <a:ext cx="2160720" cy="22096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446040" y="152280"/>
            <a:ext cx="1916280" cy="19814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457200" y="2438280"/>
            <a:ext cx="2133720" cy="19368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6410160" y="4724280"/>
            <a:ext cx="2048040" cy="21337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6616800" y="76320"/>
            <a:ext cx="1993680" cy="21333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>
            <a:off x="3200400" y="325440"/>
            <a:ext cx="2209680" cy="1731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3048120" y="4751280"/>
            <a:ext cx="2666880" cy="18781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9"/>
          <a:stretch/>
        </p:blipFill>
        <p:spPr>
          <a:xfrm>
            <a:off x="457200" y="4818240"/>
            <a:ext cx="205740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95280" y="220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0920" y="4221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333360"/>
            <a:ext cx="0" cy="63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12000" y="404640"/>
            <a:ext cx="0" cy="619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50920" y="2781360"/>
            <a:ext cx="1584360" cy="12430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716360" y="4292640"/>
            <a:ext cx="1187640" cy="10191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7020000" y="465300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3348000" y="260280"/>
            <a:ext cx="2556000" cy="19177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3492360" y="450864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3780000" y="2565360"/>
            <a:ext cx="1584000" cy="15098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>
            <a:off x="324000" y="115920"/>
            <a:ext cx="2700360" cy="20257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8"/>
          <a:stretch/>
        </p:blipFill>
        <p:spPr>
          <a:xfrm>
            <a:off x="6659640" y="476280"/>
            <a:ext cx="1979640" cy="14842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9"/>
          <a:stretch/>
        </p:blipFill>
        <p:spPr>
          <a:xfrm>
            <a:off x="6372360" y="2349360"/>
            <a:ext cx="2447640" cy="18367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0"/>
          <a:stretch/>
        </p:blipFill>
        <p:spPr>
          <a:xfrm>
            <a:off x="324000" y="436572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1"/>
          <a:stretch/>
        </p:blipFill>
        <p:spPr>
          <a:xfrm>
            <a:off x="2050920" y="2276640"/>
            <a:ext cx="118764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95280" y="220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0920" y="4221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76720" y="333360"/>
            <a:ext cx="0" cy="63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12000" y="549360"/>
            <a:ext cx="0" cy="604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708360" y="2421000"/>
            <a:ext cx="1906560" cy="1430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2556000" cy="19173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6084720" y="443700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324000" y="4437000"/>
            <a:ext cx="2700360" cy="20257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6516720" y="549360"/>
            <a:ext cx="2232000" cy="15192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6"/>
          <a:stretch/>
        </p:blipFill>
        <p:spPr>
          <a:xfrm>
            <a:off x="3419640" y="5300640"/>
            <a:ext cx="1584000" cy="12430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7"/>
          <a:stretch/>
        </p:blipFill>
        <p:spPr>
          <a:xfrm>
            <a:off x="4716360" y="4292640"/>
            <a:ext cx="1187640" cy="10191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8"/>
          <a:stretch/>
        </p:blipFill>
        <p:spPr>
          <a:xfrm>
            <a:off x="395280" y="189000"/>
            <a:ext cx="2376360" cy="19508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9"/>
          <a:stretch/>
        </p:blipFill>
        <p:spPr>
          <a:xfrm>
            <a:off x="6156360" y="2276640"/>
            <a:ext cx="2556000" cy="19173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0"/>
          <a:stretch/>
        </p:blipFill>
        <p:spPr>
          <a:xfrm>
            <a:off x="3492360" y="476280"/>
            <a:ext cx="226872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828800" y="912960"/>
            <a:ext cx="5410080" cy="4357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43000" y="5410080"/>
            <a:ext cx="746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33cc"/>
                </a:solidFill>
                <a:latin typeface="Comic Sans MS"/>
              </a:rPr>
              <a:t>spagnol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635800" cy="4426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143000" y="5410080"/>
            <a:ext cx="746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3333cc"/>
                </a:solidFill>
                <a:latin typeface="Comic Sans MS"/>
              </a:rPr>
              <a:t>frances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19160" y="450720"/>
            <a:ext cx="4981680" cy="51879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143000" y="5699160"/>
            <a:ext cx="746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33cc"/>
                </a:solidFill>
                <a:latin typeface="Comic Sans MS"/>
              </a:rPr>
              <a:t>ingles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4621320" cy="4724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43000" y="5775480"/>
            <a:ext cx="746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art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33720" y="855720"/>
            <a:ext cx="4724280" cy="4249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143000" y="5410080"/>
            <a:ext cx="746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cc0099"/>
                </a:solidFill>
                <a:latin typeface="Comic Sans MS"/>
              </a:rPr>
              <a:t>stori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438280" y="838080"/>
            <a:ext cx="4348440" cy="4496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143000" y="5410080"/>
            <a:ext cx="746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cc0099"/>
                </a:solidFill>
                <a:latin typeface="Comic Sans MS"/>
              </a:rPr>
              <a:t>geografi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79640" y="1054080"/>
            <a:ext cx="4878360" cy="41083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14400" y="5410080"/>
            <a:ext cx="746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cc0099"/>
                </a:solidFill>
                <a:latin typeface="Comic Sans MS"/>
              </a:rPr>
              <a:t>informatic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06:20:48Z</dcterms:created>
  <dc:creator>Winme</dc:creator>
  <dc:description/>
  <dc:language>en-US</dc:language>
  <cp:lastModifiedBy>Clare</cp:lastModifiedBy>
  <dcterms:modified xsi:type="dcterms:W3CDTF">2009-01-19T13:16:15Z</dcterms:modified>
  <cp:revision>10</cp:revision>
  <dc:subject/>
  <dc:title>PowerPoint Presentation</dc:title>
</cp:coreProperties>
</file>