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gif" ContentType="image/gif"/>
  <Override PartName="/ppt/media/image8.png" ContentType="image/png"/>
  <Override PartName="/ppt/media/image12.png" ContentType="image/png"/>
  <Override PartName="/ppt/media/image7.png" ContentType="image/png"/>
  <Override PartName="/ppt/media/image11.gif" ContentType="image/gif"/>
  <Override PartName="/ppt/media/image14.png" ContentType="image/png"/>
  <Override PartName="/ppt/media/image6.gif" ContentType="image/gif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5.gif" ContentType="image/gif"/>
  <Override PartName="/ppt/media/image20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C6B-ED21-47F7-9EC8-B4188EE7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91C-B887-4F0A-9394-8C0C5097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A52-3234-4DAC-9DA2-E2504FF4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5F6-1AAA-4327-A211-FF3FBED0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1C9-0D3B-4FFA-BFB2-AD1802D8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EF7C-0922-49A5-9C3A-A923EE0A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E47-256B-4308-8B6E-85E57A43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C9B-1987-4AA4-9276-8D55080A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4D8-AA9F-40A5-9DF6-C3D7129D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735-0540-4E6E-A269-57B015BF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29E-2C61-4852-80E0-C697A062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DBD-E447-4FA8-B65C-437A42E4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F749-0AD3-499C-B48E-169EC0504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200"/>
            </a:br>
            <a:r>
              <a:rPr b="0" lang="en-GB" sz="6200" spc="-1" strike="noStrike">
                <a:solidFill>
                  <a:srgbClr val="333399"/>
                </a:solidFill>
                <a:latin typeface="Comic Sans MS"/>
              </a:rPr>
              <a:t>Ciao, mi chiamo Bart!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Ecco la m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famigli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02200" y="1916280"/>
            <a:ext cx="2198880" cy="4170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67280" y="6381720"/>
            <a:ext cx="5076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MK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cc"/>
                </a:solidFill>
                <a:latin typeface="Comic Sans MS"/>
              </a:rPr>
              <a:t>È intelligen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23749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cc"/>
                </a:solidFill>
                <a:latin typeface="Comic Sans MS"/>
              </a:rPr>
              <a:t>Mia sorell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3097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5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cc"/>
                </a:solidFill>
                <a:latin typeface="Comic Sans MS"/>
              </a:rPr>
              <a:t>È piccol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51280" y="2924280"/>
            <a:ext cx="2484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08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Mio non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360" y="1413000"/>
            <a:ext cx="266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È vecchi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22320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6120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Mia non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40305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Mia zia</a:t>
            </a:r>
            <a:r>
              <a:rPr b="0" lang="en-US" sz="8000" spc="-1" strike="noStrike">
                <a:solidFill>
                  <a:srgbClr val="3333cc"/>
                </a:solidFill>
                <a:latin typeface="Comic Sans MS"/>
              </a:rPr>
              <a:t> Patt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429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Mia zia </a:t>
            </a:r>
            <a:r>
              <a:rPr b="0" lang="en-US" sz="8000" spc="-1" strike="noStrike">
                <a:solidFill>
                  <a:srgbClr val="3333cc"/>
                </a:solidFill>
                <a:latin typeface="Comic Sans MS"/>
              </a:rPr>
              <a:t>Selm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Selma"/>
          <p:cNvPicPr/>
          <p:nvPr/>
        </p:nvPicPr>
        <p:blipFill>
          <a:blip r:embed="rId1"/>
          <a:stretch/>
        </p:blipFill>
        <p:spPr>
          <a:xfrm>
            <a:off x="2701800" y="1600200"/>
            <a:ext cx="374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Mie zi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3333cc"/>
                </a:solidFill>
                <a:latin typeface="Comic Sans MS"/>
              </a:rPr>
              <a:t>Il mio ca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159000" y="1341360"/>
            <a:ext cx="34639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7280" y="333000"/>
            <a:ext cx="6337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cc"/>
                </a:solidFill>
                <a:latin typeface="Comic Sans MS"/>
              </a:rPr>
              <a:t>La Mia Famigl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908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3333cc"/>
                </a:solidFill>
                <a:latin typeface="Comic Sans MS"/>
              </a:rPr>
              <a:t>Il mio gatt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Go to fullsize image"/>
          <p:cNvPicPr/>
          <p:nvPr/>
        </p:nvPicPr>
        <p:blipFill>
          <a:blip r:embed="rId1"/>
          <a:stretch/>
        </p:blipFill>
        <p:spPr>
          <a:xfrm>
            <a:off x="1187280" y="3284640"/>
            <a:ext cx="6697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44844 0.21572 C -0.40747 0.17248 -0.28386 -0.19191 -0.21979 -0.19214 C -0.15573 -0.19237 -0.12136 0.21341 -0.06424 0.21341 C -0.00712 0.21387 0.05416 -0.18659 0.12291 -0.19006 C 0.19184 -0.19353 0.28576 0.19815 0.34843 0.1926 C 0.41111 0.18682 0.4651 -0.15469 0.4993 -0.22405 C 0.5335 -0.29342 0.55052 -0.22197 0.55312 -0.22405 C 0.55573 -0.22613 0.5809 -0.17457 0.5151 -0.23677 C 0.4493 -0.2985 0.24705 -0.53873 0.15798 -0.59607 C 0.06892 -0.65342 0.0434 -0.58035 -0.01979 -0.58128 C -0.08299 -0.5822 -0.16198 -0.61596 -0.22136 -0.60232 C -0.28091 -0.58868 -0.34913 -0.54197 -0.37691 -0.49873 C -0.40469 -0.4555 -0.37448 -0.39908 -0.38802 -0.34243 C -0.40157 -0.28602 -0.44497 -0.22636 -0.45799 -0.15839 C -0.47101 -0.09041 -0.46667 0.00276999999999999 -0.4658 0.06566 C -0.46493 0.12832 -0.48941 0.25872 -0.44844 0.21572 Z">
                                      <p:cBhvr>
                                        <p:cTn id="26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3333cc"/>
                </a:solidFill>
                <a:latin typeface="Comic Sans MS"/>
              </a:rPr>
              <a:t>Il mio vicin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759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La mia vici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image:maude.jpg"/>
          <p:cNvPicPr/>
          <p:nvPr/>
        </p:nvPicPr>
        <p:blipFill>
          <a:blip r:embed="rId1"/>
          <a:stretch/>
        </p:blipFill>
        <p:spPr>
          <a:xfrm>
            <a:off x="1908000" y="1268280"/>
            <a:ext cx="5832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I miei amic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5038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0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La mia famiglia e la mia ca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The Simpsons"/>
          <p:cNvPicPr/>
          <p:nvPr/>
        </p:nvPicPr>
        <p:blipFill>
          <a:blip r:embed="rId1"/>
          <a:stretch/>
        </p:blipFill>
        <p:spPr>
          <a:xfrm>
            <a:off x="1403280" y="1341360"/>
            <a:ext cx="669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La mia citt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138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en-GB" sz="7200" spc="-1" strike="noStrike">
                <a:solidFill>
                  <a:srgbClr val="3333cc"/>
                </a:solidFill>
                <a:latin typeface="Comic Sans MS"/>
              </a:rPr>
              <a:t>mia madre/</a:t>
            </a:r>
            <a:br>
              <a:rPr sz="7200"/>
            </a:br>
            <a:r>
              <a:rPr b="0" lang="en-GB" sz="7200" spc="-1" strike="noStrike">
                <a:solidFill>
                  <a:srgbClr val="3333cc"/>
                </a:solidFill>
                <a:latin typeface="Comic Sans MS"/>
              </a:rPr>
              <a:t>mia mamm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88000" y="260280"/>
            <a:ext cx="345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È gentile</a:t>
            </a: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220356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cc"/>
                </a:solidFill>
                <a:latin typeface="Comic Sans MS"/>
              </a:rPr>
              <a:t>Mio pap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3168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cc"/>
                </a:solidFill>
                <a:latin typeface="Comic Sans MS"/>
              </a:rPr>
              <a:t>È pazz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80347E-006 C -0.30868 0.12416 -0.61718 0.24855 -0.59045 0.29387 C -0.56371 0.33918 -0.20173 0.30589 0.16025 0.2726 E">
                                      <p:cBhvr>
                                        <p:cTn id="10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Mia sorell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59280" y="1384200"/>
            <a:ext cx="4465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89595E-006 C -0.01232 -0.01111 -0.02847 -0.01064 -0.04271 -0.01272 C -0.09861 -0.01157 -0.15035 -0.01365 -0.20469 -0.00209 C -0.22378 0.00624 -0.23698 0.02543 -0.25069 0.04439 C -0.25225 0.0467 -0.2526 0.05017 -0.25382 0.05271 C -0.25764 0.06034 -0.26215 0.06566 -0.26823 0.06982 C -0.275 0.08762 -0.26666 0.07005 -0.27778 0.08231 C -0.27934 0.08392 -0.27951 0.08693 -0.2809 0.08878 C -0.29114 0.10242 -0.30382 0.11074 -0.31267 0.1267 C -0.31892 0.1378 -0.33281 0.16138 -0.33802 0.17548 C -0.33923 0.17872 -0.33958 0.18265 -0.34114 0.18589 C -0.34462 0.19306 -0.34982 0.19999 -0.35382 0.20693 C -0.3592 0.21641 -0.36041 0.22612 -0.36666 0.23467 C -0.37083 0.246 -0.37361 0.25641 -0.37934 0.26635 C -0.37986 0.27051 -0.38021 0.27467 -0.3809 0.27907 C -0.38281 0.28901 -0.38715 0.30866 -0.38715 0.30866 C -0.39149 0.37109 -0.3901 0.43236 -0.3967 0.49456 C -0.396 0.54889 -0.39965 0.62242 -0.38715 0.67837 C -0.38385 0.70982 -0.36962 0.73572 -0.35382 0.75884 C -0.31337 0.81826 -0.25 0.84508 -0.19201 0.85826 C -0.15243 0.86728 -0.1842 0.86311 -0.146 0.86658 C -0.08524 0.86311 0.000699999999999999 0.8682 0.04445 0.79699 C 0.0467 0.78704 0.05243 0.7778 0.05243 0.76739 C 0.05243 0.68392 0.04514 0.57965 -0.01736 0.53479 C -0.02812 0.52716 -0.04045 0.52392 -0.05225 0.51999 C -0.11823 0.52207 -0.17222 0.52277 -0.23958 0.51999 C -0.27361 0.51306 -0.30243 0.49826 -0.33333 0.47768 C -0.34826 0.46751 -0.35712 0.45294 -0.36979 0.43976 C -0.37552 0.42635 -0.38125 0.41664 -0.38403 0.40138 C -0.38298 0.3882 -0.38333 0.37433 -0.3809 0.36138 C -0.38038 0.35861 -0.3776 0.35861 -0.37604 0.35699 C -0.36441 0.34566 -0.36458 0.34496 -0.34913 0.34011 C -0.33003 0.34288 -0.30798 0.33687 -0.29201 0.35098 C -0.27743 0.36392 -0.26475 0.38404 -0.25382 0.40138 C -0.24132 0.42126 -0.22344 0.43722 -0.20781 0.45225 C -0.13785 0.51791 -0.05712 0.56254 0.02865 0.57063 C 0.0816 0.5667 0.10764 0.56508 0.15243 0.55375 C 0.1717 0.53572 0.18594 0.51907 0.19844 0.49248 C 0.21459 0.40994 0.18195 0.32647 0.13507 0.27467 C 0.1165 0.2541 0.09896 0.2319 0.07622 0.21965 C 0.05955 0.21109 0.04167 0.20624 0.02396 0.203 C 0.01181 0.20439 -0.00069 0.20392 -0.01267 0.20693 C -0.02448 0.21017 -0.04028 0.24115 -0.04757 0.25155 C -0.07916 0.29687 -0.10625 0.34288 -0.146 0.37595 C -0.17535 0.40069 -0.20208 0.41687 -0.23489 0.43329 C -0.24097 0.43606 -0.24739 0.43861 -0.25382 0.43976 C -0.26649 0.44207 -0.29201 0.44369 -0.29201 0.44369 C -0.30364 0.44184 -0.31545 0.44046 -0.32691 0.43722 C -0.36441 0.42704 -0.37569 0.37109 -0.38889 0.33178 C -0.39132 0.30265 -0.39323 0.2867 -0.38889 0.25155 C -0.38819 0.24624 -0.3743 0.22681 -0.37135 0.22404 C -0.34166 0.19583 -0.30903 0.18404 -0.27291 0.17965 C -0.2033 0.18103 -0.17639 0.17803 -0.11892 0.19861 C -0.11423 0.20254 -0.10972 0.20762 -0.10469 0.21132 C -0.09531 0.21803 -0.08489 0.22242 -0.07604 0.23028 C -0.06163 0.24277 -0.04826 0.2571 -0.03333 0.2682 C -0.02778 0.27259 -0.02135 0.27467 -0.0158 0.27907 C -0.00434 0.28762 0.00643 0.29733 0.01754 0.30658 C 0.0217 0.31005 0.05209 0.3193 0.05729 0.32138 C 0.07656 0.32878 0.09271 0.33363 0.11285 0.33618 C 0.14445 0.3334 0.16146 0.33595 0.18733 0.32138 C 0.19584 0.31005 0.20104 0.29965 0.20643 0.28531 C 0.21424 0.22173 0.1974 0.18126 0.16667 0.13525 C 0.16111 0.1267 0.1559 0.12531 0.14931 0.11837 C 0.13577 0.10404 0.12552 0.08994 0.10799 0.08231 C 0.09844 0.07814 0.08924 0.07652 0.07952 0.07398 C 0.06406 0.07537 0.04861 0.07537 0.03334 0.07814 C 0.01059 0.08207 -0.01094 0.10103 -0.03333 0.10774 C -0.04583 0.11121 -0.0585 0.11467 -0.07135 0.11629 C -0.08298 0.11745 -0.10625 0.12046 -0.10625 0.12046 C -0.121 0.11837 -0.13594 0.11629 -0.15069 0.11421 C -0.15607 0.11352 -0.16666 0.1119 -0.16666 0.1119 C -0.17604 0.10889 -0.18819 0.10728 -0.19514 0.09687 C -0.19913 0.09109 -0.20625 0.07814 -0.20625 0.07814 C -0.21528 0.0171 -0.15694 -0.01827 -0.12222 -0.034 C -0.10955 -0.03307 -0.0967 -0.0333 -0.08403 -0.03168 C -0.08073 -0.03122 -0.07778 -0.02868 -0.07448 -0.02752 C -0.0651 -0.02405 -0.05538 -0.0222 -0.046 -0.01897 C -0.04271 -0.01781 -0.03975 -0.01596 -0.03646 -0.01504 C -0.03229 -0.01342 -0.02795 -0.01203 -0.02378 -0.01064 C -0.02118 -0.00972 -0.0184 -0.00949 -0.0158 -0.00879 C -0.01423 -0.0081 -0.01111 -0.00648 -0.01111 -0.00648 L 0.35087 0.05502 L 0.44775 -0.09943 L 0.45243 -0.12255 L -0.51267 0.54936 L -0.07934 0.4608 L 0.054 0.68693 L 0.20955 0.73572 L 0.26354 0.76947 L -0.47604 0.06126 L -0.68559 0.75467 L -0.21736 0.60254 L 0.3 -0.14382 L 0.66511 -0.08255 L 0.10799 0.15837 L 0.03334 -0.11215 L -0.69201 -0.19446 E">
                                      <p:cBhvr>
                                        <p:cTn id="11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12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1:35:33Z</dcterms:created>
  <dc:creator>IBM_USER</dc:creator>
  <dc:description/>
  <dc:language>en-US</dc:language>
  <cp:lastModifiedBy>Clare</cp:lastModifiedBy>
  <dcterms:modified xsi:type="dcterms:W3CDTF">2009-01-19T13:21:29Z</dcterms:modified>
  <cp:revision>28</cp:revision>
  <dc:subject/>
  <dc:title>Slide 1</dc:title>
</cp:coreProperties>
</file>