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A29-22AE-4417-9F59-3E53358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833-7597-4224-9FB0-A10BC43A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80-60A0-47A2-B1C8-B5F2F097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A15-18FC-4AB5-B45D-7BB6311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DF2-07A7-4A9F-B000-3DCFBDF4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049-6D68-4A22-8702-1DAFD1E1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99B-CE44-439F-A612-B2BD25F0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9B6-A848-45F1-853A-9CC092E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891-432E-4C7D-930D-5C42CFF6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51F-6D33-43B9-B0D1-7BF53D2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6E8-CA38-4A19-9ABA-9701E8C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512-5466-4FA5-B927-7F1B471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3302-79F4-4560-9E42-21E7964CC1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22860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913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lavanderia (automati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22860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mu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3049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ufficio pos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1220" b="0"/>
          <a:stretch/>
        </p:blipFill>
        <p:spPr>
          <a:xfrm>
            <a:off x="380880" y="304920"/>
            <a:ext cx="821844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ipermerc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457200" y="30492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’ufficio inform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96" b="0"/>
          <a:stretch/>
        </p:blipFill>
        <p:spPr>
          <a:xfrm>
            <a:off x="380880" y="228600"/>
            <a:ext cx="8245440" cy="584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uff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57200" y="3049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autolav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3049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6019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albe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380880" y="304920"/>
            <a:ext cx="8224920" cy="584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stazione di servi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393" b="0"/>
          <a:stretch/>
        </p:blipFill>
        <p:spPr>
          <a:xfrm>
            <a:off x="380880" y="304920"/>
            <a:ext cx="8204400" cy="584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risto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800" spc="-1" strike="noStrike">
                <a:solidFill>
                  <a:srgbClr val="000000"/>
                </a:solidFill>
                <a:latin typeface="Comic Sans MS"/>
              </a:rPr>
              <a:t>DOVE LAVORA ?</a:t>
            </a:r>
            <a:br>
              <a:rPr sz="4800"/>
            </a:br>
            <a:r>
              <a:rPr b="1" lang="cy-GB" sz="4800" spc="-1" strike="noStrike">
                <a:solidFill>
                  <a:srgbClr val="000000"/>
                </a:solidFill>
                <a:latin typeface="Comic Sans MS"/>
              </a:rPr>
              <a:t>DOVE LAVOR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8636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7948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0120" y="1371600"/>
            <a:ext cx="10094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1060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1069" b="0"/>
          <a:stretch/>
        </p:blipFill>
        <p:spPr>
          <a:xfrm>
            <a:off x="380880" y="304920"/>
            <a:ext cx="8231400" cy="584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ampe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457200" y="304920"/>
            <a:ext cx="822492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sala gi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640" b="0"/>
          <a:stretch/>
        </p:blipFill>
        <p:spPr>
          <a:xfrm>
            <a:off x="380880" y="228600"/>
            <a:ext cx="81835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380880" y="22860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ampo di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89" b="0"/>
          <a:stretch/>
        </p:blipFill>
        <p:spPr>
          <a:xfrm>
            <a:off x="457200" y="228600"/>
            <a:ext cx="81961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fi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22860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aliment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57200" y="3049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vest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3049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videot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6:37Z</dcterms:created>
  <dc:creator>Clevedon Community</dc:creator>
  <dc:description/>
  <dc:language>en-US</dc:language>
  <cp:lastModifiedBy>Clare</cp:lastModifiedBy>
  <dcterms:modified xsi:type="dcterms:W3CDTF">2009-08-13T09:24:52Z</dcterms:modified>
  <cp:revision>1</cp:revision>
  <dc:subject/>
  <dc:title>Slide 1</dc:title>
</cp:coreProperties>
</file>