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F50-9162-4326-83B1-E8358F87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E72-E36F-48CE-84E9-85F8511A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345-8E02-4753-BA58-055B145D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74B-F33C-4390-9E6F-A552EF48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841-20F7-4E6A-ABAB-C68073EF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F69-08F5-4279-B1A4-E338A30C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CFB-9746-4C41-BAD1-AB298476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F5D-216A-415F-9031-41B3484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93F-224D-406A-89E3-8A65C15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836-3DF8-4781-8F0A-3C522FB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19A-769C-4475-A7A8-E23F578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70C-67B1-42FF-9626-91C4603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1DE7-36E6-4A9A-8CE1-D1497D39A4C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22860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913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lavanderia (automati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22860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mu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3049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ufficio pos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1220" b="0"/>
          <a:stretch/>
        </p:blipFill>
        <p:spPr>
          <a:xfrm>
            <a:off x="380880" y="304920"/>
            <a:ext cx="821844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ipermerc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457200" y="30492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’ufficio inform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96" b="0"/>
          <a:stretch/>
        </p:blipFill>
        <p:spPr>
          <a:xfrm>
            <a:off x="380880" y="228600"/>
            <a:ext cx="8245440" cy="584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uff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57200" y="3049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autolav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086" b="0"/>
          <a:stretch/>
        </p:blipFill>
        <p:spPr>
          <a:xfrm>
            <a:off x="380880" y="3049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6019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albe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380880" y="304920"/>
            <a:ext cx="8224920" cy="584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stazione di servi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393" b="0"/>
          <a:stretch/>
        </p:blipFill>
        <p:spPr>
          <a:xfrm>
            <a:off x="380880" y="304920"/>
            <a:ext cx="8204400" cy="584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risto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800" spc="-1" strike="noStrike">
                <a:solidFill>
                  <a:srgbClr val="000000"/>
                </a:solidFill>
                <a:latin typeface="Comic Sans MS"/>
              </a:rPr>
              <a:t>DOVE LAVORA ?</a:t>
            </a:r>
            <a:br>
              <a:rPr sz="4800"/>
            </a:br>
            <a:r>
              <a:rPr b="1" lang="cy-GB" sz="4800" spc="-1" strike="noStrike">
                <a:solidFill>
                  <a:srgbClr val="000000"/>
                </a:solidFill>
                <a:latin typeface="Comic Sans MS"/>
              </a:rPr>
              <a:t>DOVE LAVOR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8636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79480" cy="181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20120" y="1371600"/>
            <a:ext cx="10094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10602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1069" b="0"/>
          <a:stretch/>
        </p:blipFill>
        <p:spPr>
          <a:xfrm>
            <a:off x="380880" y="304920"/>
            <a:ext cx="8231400" cy="584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ampe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42" b="0"/>
          <a:stretch/>
        </p:blipFill>
        <p:spPr>
          <a:xfrm>
            <a:off x="457200" y="304920"/>
            <a:ext cx="822492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sala gio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640" b="0"/>
          <a:stretch/>
        </p:blipFill>
        <p:spPr>
          <a:xfrm>
            <a:off x="380880" y="228600"/>
            <a:ext cx="81835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380880" y="22860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campo di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89" b="0"/>
          <a:stretch/>
        </p:blipFill>
        <p:spPr>
          <a:xfrm>
            <a:off x="457200" y="228600"/>
            <a:ext cx="81961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fi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22860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943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aliment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57200" y="3049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 negozio di vest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57200" y="3049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019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una videot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06:37Z</dcterms:created>
  <dc:creator>Clevedon Community</dc:creator>
  <dc:description/>
  <dc:language>en-US</dc:language>
  <cp:lastModifiedBy>Clare</cp:lastModifiedBy>
  <dcterms:modified xsi:type="dcterms:W3CDTF">2009-08-13T09:24:52Z</dcterms:modified>
  <cp:revision>1</cp:revision>
  <dc:subject/>
  <dc:title>Slide 1</dc:title>
</cp:coreProperties>
</file>