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7DE-C6F1-40AD-8080-F4D20AB6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CF3-FF1A-4D06-8A22-5961253F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CBA-4847-4157-8062-3BCDE09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B2B-5322-4F05-B4F4-C8B1D6BB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9F4-B97B-4A5A-856B-5647B980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432-CAA2-4F53-AAE0-3970818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5D6-7D2B-4E69-AF1A-9D1BC60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71A-B1DA-46B7-A0A7-511D6B0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9BF-8D82-47B5-BCD9-7B2D5A7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1AA-93F5-467C-AD1F-0867415B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5A6-4318-465A-8077-DA7E141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866-8514-4B3C-B4E7-EA1835C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3D6-84C7-4D01-B108-1F5E0DCE90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506" b="0"/>
          <a:stretch/>
        </p:blipFill>
        <p:spPr>
          <a:xfrm>
            <a:off x="411120" y="511200"/>
            <a:ext cx="8194680" cy="5834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4191120"/>
            <a:ext cx="236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nseg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80988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camer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 parrucch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1337" b="0"/>
          <a:stretch/>
        </p:blipFill>
        <p:spPr>
          <a:xfrm>
            <a:off x="411120" y="504720"/>
            <a:ext cx="820908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8954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cu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97180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FA TUO PAD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30880"/>
            <a:ext cx="720720" cy="152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87600" cy="142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56680" y="1125360"/>
            <a:ext cx="787320" cy="142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211640" y="304920"/>
            <a:ext cx="128124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8172360" y="5491080"/>
            <a:ext cx="798480" cy="136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00" y="17733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FA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2100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VORRESTI F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Comic Sans MS"/>
              </a:rPr>
              <a:t>CHE LAVORO FAI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8636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7948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0120" y="1371600"/>
            <a:ext cx="10094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1060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514600"/>
            <a:ext cx="2362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l  dot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l me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11200"/>
            <a:ext cx="8223120" cy="5834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3048120"/>
            <a:ext cx="32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lizi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354" b="0"/>
          <a:stretch/>
        </p:blipFill>
        <p:spPr>
          <a:xfrm>
            <a:off x="411120" y="504720"/>
            <a:ext cx="820728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1143000"/>
            <a:ext cx="25905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vigi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del fu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32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post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37" b="0"/>
          <a:stretch/>
        </p:blipFill>
        <p:spPr>
          <a:xfrm>
            <a:off x="411120" y="504720"/>
            <a:ext cx="82090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1480" y="411480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L’ inferm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2666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L’ au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276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pil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1:12Z</dcterms:created>
  <dc:creator>Clevedon Community</dc:creator>
  <dc:description/>
  <dc:language>en-US</dc:language>
  <cp:lastModifiedBy>Clare</cp:lastModifiedBy>
  <dcterms:modified xsi:type="dcterms:W3CDTF">2009-08-13T09:25:43Z</dcterms:modified>
  <cp:revision>1</cp:revision>
  <dc:subject/>
  <dc:title>Slide 1</dc:title>
</cp:coreProperties>
</file>