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F8B-F41B-4D22-A907-F68E990D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980-0957-4AE5-911C-42287B2A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CC2-BAD7-43F5-92CD-B327E3DE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070-AC65-40C1-927A-ED936923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44E-DAEB-4224-9236-47504A1F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C60-0F68-47A2-8ED2-8DD0BA2B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BB83-7B41-4115-B8F3-76C2E4FB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7D0-2A2D-48D2-85F6-35405E56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DF7-215C-469A-ADA1-DAF35171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972-ECDA-4739-B06E-C725DAD5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A1E-17C6-4C31-A25C-DEA677D7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A5E-B819-4071-85D0-0B0E4999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803F-630D-4942-A278-1049809D4CB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1506" b="0"/>
          <a:stretch/>
        </p:blipFill>
        <p:spPr>
          <a:xfrm>
            <a:off x="411120" y="511200"/>
            <a:ext cx="8194680" cy="5834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4191120"/>
            <a:ext cx="2361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cy-GB" sz="3200" spc="-1" strike="noStrike">
                <a:solidFill>
                  <a:srgbClr val="ff0000"/>
                </a:solidFill>
                <a:latin typeface="Comic Sans MS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0000"/>
                </a:solidFill>
                <a:latin typeface="Comic Sans MS"/>
              </a:rPr>
              <a:t>insegn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1181" b="0"/>
          <a:stretch/>
        </p:blipFill>
        <p:spPr>
          <a:xfrm>
            <a:off x="411120" y="504720"/>
            <a:ext cx="8221680" cy="5846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66680" y="3809880"/>
            <a:ext cx="312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Il cameri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472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57600" y="9144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Il  parrucchi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1337" b="0"/>
          <a:stretch/>
        </p:blipFill>
        <p:spPr>
          <a:xfrm>
            <a:off x="411120" y="504720"/>
            <a:ext cx="8209080" cy="5846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2895480"/>
            <a:ext cx="21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l cu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971800"/>
            <a:ext cx="84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000000"/>
                </a:solidFill>
                <a:latin typeface="Comic Sans MS"/>
              </a:rPr>
              <a:t>CHE LAVORO FA TUO PAD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5330880"/>
            <a:ext cx="720720" cy="1527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87600" cy="1422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56680" y="1125360"/>
            <a:ext cx="787320" cy="142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211640" y="304920"/>
            <a:ext cx="1281240" cy="1139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8172360" y="5491080"/>
            <a:ext cx="798480" cy="1366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16000" y="177336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000000"/>
                </a:solidFill>
                <a:latin typeface="Comic Sans MS"/>
              </a:rPr>
              <a:t>CHE LAVORO FA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4221000"/>
            <a:ext cx="842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000000"/>
                </a:solidFill>
                <a:latin typeface="Comic Sans MS"/>
              </a:rPr>
              <a:t>CHE LAVORO VORRESTI F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400" spc="-1" strike="noStrike">
                <a:solidFill>
                  <a:srgbClr val="000000"/>
                </a:solidFill>
                <a:latin typeface="Comic Sans MS"/>
              </a:rPr>
              <a:t>CHE LAVORO FAI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4495680"/>
            <a:ext cx="86364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79480" cy="181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20120" y="1371600"/>
            <a:ext cx="100944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657600" y="304920"/>
            <a:ext cx="1835280" cy="1631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19920" y="4419720"/>
            <a:ext cx="10602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1181" b="0"/>
          <a:stretch/>
        </p:blipFill>
        <p:spPr>
          <a:xfrm>
            <a:off x="411120" y="504720"/>
            <a:ext cx="8221680" cy="5846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2514600"/>
            <a:ext cx="23623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0000"/>
                </a:solidFill>
                <a:latin typeface="Comic Sans MS"/>
              </a:rPr>
              <a:t>Il  dot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cy-GB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0000"/>
                </a:solidFill>
                <a:latin typeface="Comic Sans MS"/>
              </a:rPr>
              <a:t>Il med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11200"/>
            <a:ext cx="8223120" cy="5834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3048120"/>
            <a:ext cx="327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lizi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1354" b="0"/>
          <a:stretch/>
        </p:blipFill>
        <p:spPr>
          <a:xfrm>
            <a:off x="411120" y="504720"/>
            <a:ext cx="8207280" cy="5846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62720" y="1143000"/>
            <a:ext cx="25905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Il vigi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del fu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1181" b="0"/>
          <a:stretch/>
        </p:blipFill>
        <p:spPr>
          <a:xfrm>
            <a:off x="411120" y="504720"/>
            <a:ext cx="8221680" cy="584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32767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l post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1337" b="0"/>
          <a:stretch/>
        </p:blipFill>
        <p:spPr>
          <a:xfrm>
            <a:off x="411120" y="504720"/>
            <a:ext cx="8209080" cy="584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81480" y="4114800"/>
            <a:ext cx="312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L’ inferm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472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8080" y="26668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0000"/>
                </a:solidFill>
                <a:latin typeface="Comic Sans MS"/>
              </a:rPr>
              <a:t>L’ aut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1450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32767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l pil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0:01:12Z</dcterms:created>
  <dc:creator>Clevedon Community</dc:creator>
  <dc:description/>
  <dc:language>en-US</dc:language>
  <cp:lastModifiedBy>Clare</cp:lastModifiedBy>
  <dcterms:modified xsi:type="dcterms:W3CDTF">2009-08-13T09:25:43Z</dcterms:modified>
  <cp:revision>1</cp:revision>
  <dc:subject/>
  <dc:title>Slide 1</dc:title>
</cp:coreProperties>
</file>