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CC0-7339-4647-89AD-3A4DB223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37E-6F5C-424D-AFBE-F220EEA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089-9B11-4630-8C21-3E11A65B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2B5-9371-4CC9-81BC-F34FD395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1FA-FC59-47F1-BE0E-6CB1627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192-E0DD-4B85-8FAC-1966B13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73B-DA3B-430C-BC39-667EDD8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50B-D44C-4FD1-9058-CDD8CDC4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96A-064A-44B9-B5B3-D97C4409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35A-6F08-4F5A-B829-1064361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CDC-5F59-4993-8C9C-E87BE18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AB9-1407-4B99-A721-8850343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6014-071F-4A95-A61C-562A2F24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</a:rPr>
              <a:t>I LAVORETT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 lavoretti fai in casa?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=What jobs do you do at home?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cio il/la baby-s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cio la sp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isco la mia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o a spasso il c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vo la mac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ho un lavo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evo una paghetta dai miei gen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by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food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ean my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the dog out f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not have a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et/receive pocket money from my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637240" cy="59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6093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ccio il/la baby-s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359680" cy="554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6165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ccio la sp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664000" cy="20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483080" cy="583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538920" y="260280"/>
            <a:ext cx="3311640" cy="244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6093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lisco la mia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960480"/>
            <a:ext cx="7201080" cy="525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6165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rto a spasso il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35640" cy="618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649116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23736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vo la mac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110016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97488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0360" y="1125360"/>
            <a:ext cx="83016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140360" y="2205000"/>
            <a:ext cx="1152360" cy="83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435640" y="2133720"/>
            <a:ext cx="934920" cy="912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12680" y="3716280"/>
            <a:ext cx="1722600" cy="252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59280" y="620640"/>
            <a:ext cx="4968720" cy="30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907920"/>
            <a:ext cx="3600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92360" y="981000"/>
            <a:ext cx="367200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229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ho un lavor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2600" cy="252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237672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907920"/>
            <a:ext cx="2214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478800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549360"/>
            <a:ext cx="6696000" cy="30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157720"/>
            <a:ext cx="64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cevo una paghetta dai miei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620640"/>
            <a:ext cx="208764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1903320" cy="196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1682640" cy="218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2665440" cy="194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39640" y="692280"/>
            <a:ext cx="1871640" cy="1827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020000" y="4005360"/>
            <a:ext cx="14270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148360" y="4238640"/>
            <a:ext cx="1366920" cy="1104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59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3429000"/>
            <a:ext cx="4248360" cy="25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3:14:15Z</dcterms:created>
  <dc:creator>Giulio</dc:creator>
  <dc:description/>
  <dc:language>en-US</dc:language>
  <cp:lastModifiedBy>Clare</cp:lastModifiedBy>
  <dcterms:modified xsi:type="dcterms:W3CDTF">2009-08-13T09:26:58Z</dcterms:modified>
  <cp:revision>4</cp:revision>
  <dc:subject/>
  <dc:title>I LAVORETTI</dc:title>
</cp:coreProperties>
</file>