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DA23-C59F-465A-B919-087D77C03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ABEB-1052-4D2E-9A2E-E5E2C0F3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2953-DF7E-4D36-953E-37A1EEC2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DA62-6680-4BFA-900C-4E85939B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3D57-56CE-4272-A778-7766BDD8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6F32-9192-42DE-872D-CDF867A9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9A51-9451-48AE-8D8C-80096A09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BF82-2C5F-4EE1-9CDB-31B9EF44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BA52-01BB-4EF5-B099-020EF16D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A86B-8069-4ADD-A878-CC5F6EDF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3D5F-923A-4A9C-BA1F-B6842667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36AC-3848-4830-8844-F25A5DD1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F591-DF1F-460A-94C8-7530E42DC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>
                <a:solidFill>
                  <a:srgbClr val="000000"/>
                </a:solidFill>
                <a:latin typeface="Comic Sans MS"/>
              </a:rPr>
              <a:t>I LAVORETT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he lavoretti fai in casa?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=What jobs do you do at home?)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cio il/la baby-s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cio la sp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lisco la mia 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rto a spasso il c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vo la mac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 ho un lavor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evo una paghetta dai miei geni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aby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o food sh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lean my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ake the dog out for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ash the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o not have a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et/receive pocket money from my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5637240" cy="590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58920" y="609300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accio il/la baby-s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5359680" cy="5545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835280" y="616572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accio la sp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2664000" cy="2023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95640" y="333360"/>
            <a:ext cx="4483080" cy="583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H="1">
            <a:off x="538920" y="260280"/>
            <a:ext cx="3311640" cy="2448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76360" y="609300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ulisco la mia ca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87280" y="960480"/>
            <a:ext cx="7201080" cy="5251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16000" y="6165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rto a spasso il c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335640" cy="6184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47640" y="649116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623736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vo la mac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08360" y="1052640"/>
            <a:ext cx="1100160" cy="115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932360" y="1125360"/>
            <a:ext cx="974880" cy="1009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940360" y="1125360"/>
            <a:ext cx="830160" cy="1079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140360" y="2205000"/>
            <a:ext cx="1152360" cy="839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435640" y="2133720"/>
            <a:ext cx="934920" cy="912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012680" y="3716280"/>
            <a:ext cx="1722600" cy="2521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59280" y="620640"/>
            <a:ext cx="4968720" cy="3095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64000" y="907920"/>
            <a:ext cx="360036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92360" y="981000"/>
            <a:ext cx="367200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22936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 ho un lavor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4076640"/>
            <a:ext cx="1722600" cy="2521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68360" y="1125360"/>
            <a:ext cx="2376720" cy="1920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12000" y="907920"/>
            <a:ext cx="2214360" cy="22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4788000" y="2060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79640" y="549360"/>
            <a:ext cx="6696000" cy="3095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5157720"/>
            <a:ext cx="648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icevo una paghetta dai miei geni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156360" y="620640"/>
            <a:ext cx="2087640" cy="21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556000" y="3645000"/>
            <a:ext cx="1903320" cy="1968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1682640" cy="2187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771640" y="765000"/>
            <a:ext cx="2665440" cy="1943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539640" y="692280"/>
            <a:ext cx="1871640" cy="1827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7020000" y="4005360"/>
            <a:ext cx="1427040" cy="143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5148360" y="4238640"/>
            <a:ext cx="1366920" cy="1104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65964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16360" y="3429000"/>
            <a:ext cx="4248360" cy="259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13:14:15Z</dcterms:created>
  <dc:creator>Giulio</dc:creator>
  <dc:description/>
  <dc:language>en-US</dc:language>
  <cp:lastModifiedBy>Clare</cp:lastModifiedBy>
  <dcterms:modified xsi:type="dcterms:W3CDTF">2009-08-13T09:26:58Z</dcterms:modified>
  <cp:revision>4</cp:revision>
  <dc:subject/>
  <dc:title>I LAVORETTI</dc:title>
</cp:coreProperties>
</file>