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FF7-84FF-4E0A-A6C1-4F17DA27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AA1-357F-4466-A99E-AFDACC3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BA1-8386-474C-BFFE-F348F408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4EB-86AF-4641-A0D0-D2F1977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EE9-9E47-469A-B619-ED9FFE2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1F0-A421-42F2-84B4-AE1815B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FD7-AC1A-441E-BEE9-791D90E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557-0D28-4513-82CA-A09EE94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91A-5ABE-4B70-AC70-3304EB18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85E-0F23-4051-9F2D-7E59BAA2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D2B-0249-45B1-B3EB-8FAB420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3BF-3D3C-43C4-B38F-92BDDA3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580-6FB6-452C-9F27-715B7BDB38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ages.google.co.uk/imgres?imgurl=http://www.centralelatte-brescia.it/esy/objects/docs/3379/latterex.jpg&amp;imgrefurl=http://www.centralelatte-brescia.it/or4/or%3Fuid%3DCELATesy.main.index%26oid%3D3159&amp;h=544&amp;w=430&amp;sz=28&amp;hl=en&amp;start=10&amp;tbnid=WEjf4h9WHjeEyM:&amp;tbnh=133&amp;tbnw=105&amp;prev=/images%3Fq%3Dlatte%2Bfresco%26svnum%3D10%26hl%3Den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google.co.uk/imgres?imgurl=http://www.lattearborea.com/dati/ContentManager/images/prodotti/latte_fresco/latte_fresco_intero_grande.jpg&amp;imgrefurl=http://www.lattearborea.com/index.aspx%3Fm%3D53%26did%3D42&amp;h=320&amp;w=343&amp;sz=25&amp;hl=en&amp;start=11&amp;tbnid=-vncCYhfZWzIwM:&amp;tbnh=112&amp;tbnw=120&amp;prev=/images%3Fq%3Dlatte%2Bfresco%26svnum%3D10%26hl%3Den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76440"/>
            <a:ext cx="6553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29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07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267000" cy="414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732040" cy="270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372360" y="3429000"/>
            <a:ext cx="2771640" cy="305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03640" y="3476520"/>
            <a:ext cx="3354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33480"/>
            <a:ext cx="8208720" cy="6824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619360" y="1773360"/>
            <a:ext cx="37497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939600">
            <a:off x="2050560" y="1699920"/>
            <a:ext cx="7812360" cy="465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747400">
            <a:off x="358920" y="650880"/>
            <a:ext cx="241272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67280" y="836640"/>
            <a:ext cx="2559240" cy="246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each"/>
          <p:cNvPicPr/>
          <p:nvPr/>
        </p:nvPicPr>
        <p:blipFill>
          <a:blip r:embed="rId4"/>
          <a:stretch/>
        </p:blipFill>
        <p:spPr>
          <a:xfrm>
            <a:off x="2268360" y="4102200"/>
            <a:ext cx="3213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p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268280"/>
          <a:ext cx="8642160" cy="52563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é / Espr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c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cc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elatte/caffé macchi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muta d’aran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 orange 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o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o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e burro e marmell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d, butter and j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ese and ham to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sa prendi a colazione?</a:t>
            </a: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have for breakf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oday’s les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new vocabulary related to the breakfast in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at th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people talking about their breakfast/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ral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40160" y="0"/>
            <a:ext cx="3903840" cy="418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779400">
            <a:off x="5940000" y="3838320"/>
            <a:ext cx="2895840" cy="30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851280"/>
            <a:ext cx="3006720" cy="300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1102600">
            <a:off x="250920" y="260280"/>
            <a:ext cx="3779640" cy="31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771640" y="1484280"/>
            <a:ext cx="3443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16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168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595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824800">
            <a:off x="684360" y="333000"/>
            <a:ext cx="227304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292640"/>
            <a:ext cx="2519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4200" y="189000"/>
            <a:ext cx="8929800" cy="653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20974200">
            <a:off x="250920" y="4436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17640"/>
            <a:ext cx="6659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2:50Z</dcterms:created>
  <dc:creator>Clevedon Community</dc:creator>
  <dc:description/>
  <dc:language>en-US</dc:language>
  <cp:lastModifiedBy>Clare</cp:lastModifiedBy>
  <dcterms:modified xsi:type="dcterms:W3CDTF">2009-08-13T09:29:27Z</dcterms:modified>
  <cp:revision>2</cp:revision>
  <dc:subject/>
  <dc:title>Slide 1</dc:title>
</cp:coreProperties>
</file>