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A3B9-2237-489A-8437-6671733B1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0869-AD51-437A-86A3-27249955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0D30-685F-49D9-982A-ADF0527E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AFAD-366D-49A6-A26E-A270973A5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CF5D-C3C2-49AD-AED0-BCC770C3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E400-F5FB-42C5-940A-AF80B6FD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EB89-AF3D-4D0D-8DFB-E2BB25A3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A35E-8650-44D1-9447-11CA5358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BA67-49E6-4DD1-9B3A-817248F4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5839-71E9-4689-BB38-DBEDB6D7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9F93-C897-45CC-9369-257013E5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0CD2-6BAF-4B83-B81F-15E5BD15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1C51-DDE4-4D50-810F-D59AB5C79A2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images.google.co.uk/imgres?imgurl=http://www.centralelatte-brescia.it/esy/objects/docs/3379/latterex.jpg&amp;imgrefurl=http://www.centralelatte-brescia.it/or4/or%3Fuid%3DCELATesy.main.index%26oid%3D3159&amp;h=544&amp;w=430&amp;sz=28&amp;hl=en&amp;start=10&amp;tbnid=WEjf4h9WHjeEyM:&amp;tbnh=133&amp;tbnw=105&amp;prev=/images%3Fq%3Dlatte%2Bfresco%26svnum%3D10%26hl%3Den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images.google.co.uk/imgres?imgurl=http://www.lattearborea.com/dati/ContentManager/images/prodotti/latte_fresco/latte_fresco_intero_grande.jpg&amp;imgrefurl=http://www.lattearborea.com/index.aspx%3Fm%3D53%26did%3D42&amp;h=320&amp;w=343&amp;sz=25&amp;hl=en&amp;start=11&amp;tbnid=-vncCYhfZWzIwM:&amp;tbnh=112&amp;tbnw=120&amp;prev=/images%3Fq%3Dlatte%2Bfresco%26svnum%3D10%26hl%3Den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42920" y="676440"/>
            <a:ext cx="6553440" cy="6181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1081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l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42940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4076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2708280"/>
            <a:ext cx="3267000" cy="4149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156360" y="0"/>
            <a:ext cx="2732040" cy="2708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6372360" y="3429000"/>
            <a:ext cx="2771640" cy="3059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3203640" y="3476520"/>
            <a:ext cx="33544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11280" y="33480"/>
            <a:ext cx="8208720" cy="6824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619360" y="1773360"/>
            <a:ext cx="37497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 rot="939600">
            <a:off x="2050560" y="1699920"/>
            <a:ext cx="7812360" cy="4653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 rot="20747400">
            <a:off x="358920" y="650880"/>
            <a:ext cx="2412720" cy="2879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867280" y="836640"/>
            <a:ext cx="2559240" cy="2463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Peach"/>
          <p:cNvPicPr/>
          <p:nvPr/>
        </p:nvPicPr>
        <p:blipFill>
          <a:blip r:embed="rId4"/>
          <a:stretch/>
        </p:blipFill>
        <p:spPr>
          <a:xfrm>
            <a:off x="2268360" y="4102200"/>
            <a:ext cx="321336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pi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50920" y="1268280"/>
          <a:ext cx="8642160" cy="5256360"/>
        </p:xfrm>
        <a:graphic>
          <a:graphicData uri="http://schemas.openxmlformats.org/drawingml/2006/table">
            <a:tbl>
              <a:tblPr/>
              <a:tblGrid>
                <a:gridCol w="4321080"/>
                <a:gridCol w="432108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ffé / Espres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ff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pucci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pucci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ffelatte/caffé macchia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emuta d’aranc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sh orange ju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scot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scu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o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iss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e burro e marmell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, butter and j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ese and ham toas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ut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u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sa prendi a colazione?</a:t>
            </a:r>
            <a:br>
              <a:rPr sz="40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you have for breakfa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utcomes of today’s les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rn new vocabulary related to the breakfast in It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k at the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derstand people talking about their breakfast/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tho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oral re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rc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240160" y="0"/>
            <a:ext cx="3903840" cy="4186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 rot="779400">
            <a:off x="5940000" y="3838320"/>
            <a:ext cx="2895840" cy="3019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3851280"/>
            <a:ext cx="3006720" cy="3006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 rot="21102600">
            <a:off x="250920" y="260280"/>
            <a:ext cx="3779640" cy="3105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2771640" y="1484280"/>
            <a:ext cx="34434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76360" y="260280"/>
            <a:ext cx="56167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1680" cy="6842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19640" y="0"/>
            <a:ext cx="559584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 rot="20824800">
            <a:off x="684360" y="333000"/>
            <a:ext cx="2273040" cy="2879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5280" y="4292640"/>
            <a:ext cx="251928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4200" y="189000"/>
            <a:ext cx="8929800" cy="6534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 rot="20974200">
            <a:off x="250920" y="443664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03280" y="17640"/>
            <a:ext cx="665964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11:42:50Z</dcterms:created>
  <dc:creator>Clevedon Community</dc:creator>
  <dc:description/>
  <dc:language>en-US</dc:language>
  <cp:lastModifiedBy>Clare</cp:lastModifiedBy>
  <dcterms:modified xsi:type="dcterms:W3CDTF">2009-08-13T09:29:27Z</dcterms:modified>
  <cp:revision>2</cp:revision>
  <dc:subject/>
  <dc:title>Slide 1</dc:title>
</cp:coreProperties>
</file>