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E57-2605-428D-8EC5-5A9C41EC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1F7-72AB-4808-B882-D96B4A9F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887-F5CC-4584-AD46-619CB6C2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566-D055-415B-9D69-ED0FCFC6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167-71EB-456A-B2FF-B479336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6FE-BD4A-455F-BD36-D5F39A2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AC8-8450-4434-8FF7-70115CB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5A5-C2BD-4A29-B355-D2480F0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824-46E7-4D2B-BAFC-FCA6E9E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597-3439-4008-8B86-F2FF3BB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ED5-6264-4B79-B7DE-818102A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4B1-AF6B-4F7F-9583-0AF32D9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C880-E83B-4D00-8724-921AB6D20E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5.jpeg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5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2.gi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5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2.gi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182520"/>
            <a:ext cx="6840360" cy="644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51280" y="2492280"/>
            <a:ext cx="12175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6597720"/>
            <a:ext cx="493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©MFL Sunderland 2009 MK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Vorrei prenotare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12000" y="1557360"/>
            <a:ext cx="718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657080" cy="117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86364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1657440" cy="117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1657080" cy="117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88360" y="3141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104" name="j0121425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1508040" cy="104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771640" y="4653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300720" y="2924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987640" y="155736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140360" y="3068640"/>
            <a:ext cx="165564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003640" y="4797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che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498760" cy="2587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risto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2754360" cy="2884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fono pub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3672000" cy="2643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iscina riscal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2789280" cy="243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3141720"/>
            <a:ext cx="6707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egozio di ci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2490480" cy="2495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285228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discote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2808360" cy="274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640" y="285228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uca per le let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2737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433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rucch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2332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499920"/>
            <a:ext cx="4038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lavand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6050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513400" cy="5302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3141720"/>
            <a:ext cx="292392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09300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  <a:ea typeface="Arial"/>
              </a:rPr>
              <a:t>Learn to talk about accommodatio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068640"/>
            <a:ext cx="292392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Comic Sans MS"/>
                <a:ea typeface="Arial"/>
              </a:rPr>
              <a:t>allo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85840" y="1052640"/>
            <a:ext cx="5007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Comic Sans MS"/>
              </a:rPr>
              <a:t>Nel albergo moderno c’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è</a:t>
            </a:r>
            <a:r>
              <a:rPr b="0" lang="es-E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5157720"/>
            <a:ext cx="1224000" cy="116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67280" y="4724280"/>
            <a:ext cx="1100160" cy="167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42920" y="4869000"/>
            <a:ext cx="1224000" cy="119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198800" cy="120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67280" y="3357720"/>
            <a:ext cx="122400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187280" y="3213000"/>
            <a:ext cx="144000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36000" y="177336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067280" y="1628640"/>
            <a:ext cx="1368360" cy="1176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187280" y="1844640"/>
            <a:ext cx="110664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299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arche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42926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iscina riscal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270828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buca per le lett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508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telefono pub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30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isco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6156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arrucch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638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lavand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4581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egozio di 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306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risto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6000" y="5084640"/>
            <a:ext cx="1223640" cy="1163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211640" y="4869000"/>
            <a:ext cx="1100160" cy="167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1224000" cy="1197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19880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067280" y="350028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187280" y="3357720"/>
            <a:ext cx="1440000" cy="1036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236000" y="177336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3995640" y="1916280"/>
            <a:ext cx="1368360" cy="1176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1187280" y="1844640"/>
            <a:ext cx="1106640" cy="1146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14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292392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3573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singo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292392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 dopp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38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2943360" cy="209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227808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2081160" cy="3120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vista sul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6160" y="227664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38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2565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790720" cy="209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79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bal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38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1640" y="2565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479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ba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11640" y="4368960"/>
            <a:ext cx="3024360" cy="1809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38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2943360" cy="209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227808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doc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2232000" cy="213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os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3068640"/>
            <a:ext cx="51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t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j0121425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1508040" cy="10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324160" cy="1742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19640" y="314172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5111640" y="4292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roul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92360" y="515772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5589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quattro gio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12:39Z</dcterms:created>
  <dc:creator>slunn</dc:creator>
  <dc:description/>
  <dc:language>en-US</dc:language>
  <cp:lastModifiedBy>Clare</cp:lastModifiedBy>
  <dcterms:modified xsi:type="dcterms:W3CDTF">2009-04-26T20:28:18Z</dcterms:modified>
  <cp:revision>14</cp:revision>
  <dc:subject/>
  <dc:title>Slide 1</dc:title>
</cp:coreProperties>
</file>