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5.jpeg" ContentType="image/jpeg"/>
  <Override PartName="/ppt/media/image18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E13-8E82-4B55-A655-AC6E5F4B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C50-0D68-4990-AB45-A1D47D61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AC2-EF33-43D6-AB42-AEC7BDB4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05B-0AA4-4B1B-A00D-D722A348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B64-B348-4167-BC5D-FB9A038F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E93-9979-4AC1-B609-3D59EE5B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5EA-B1A6-46FC-B0A5-AFCA50C4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2D6-D9C9-4F5C-BC71-CC8B88C3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01F-9BEC-4C0D-98D4-982009EF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8A3-8650-4E63-9FEB-F26A1F08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2AE-8839-49F0-BDF4-16D8EECC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E2E-A743-4DC3-A3F9-99A980FC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7EB9-5950-472D-9DB9-F8C1FEDB2C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wmf"/><Relationship Id="rId6" Type="http://schemas.openxmlformats.org/officeDocument/2006/relationships/image" Target="../media/image9.jpeg"/><Relationship Id="rId7" Type="http://schemas.openxmlformats.org/officeDocument/2006/relationships/image" Target="../media/image5.jpeg"/><Relationship Id="rId8" Type="http://schemas.openxmlformats.org/officeDocument/2006/relationships/image" Target="../media/image7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image" Target="../media/image15.wmf"/><Relationship Id="rId4" Type="http://schemas.openxmlformats.org/officeDocument/2006/relationships/image" Target="../media/image14.wmf"/><Relationship Id="rId5" Type="http://schemas.openxmlformats.org/officeDocument/2006/relationships/image" Target="../media/image13.wmf"/><Relationship Id="rId6" Type="http://schemas.openxmlformats.org/officeDocument/2006/relationships/image" Target="../media/image12.gif"/><Relationship Id="rId7" Type="http://schemas.openxmlformats.org/officeDocument/2006/relationships/image" Target="../media/image11.wmf"/><Relationship Id="rId8" Type="http://schemas.openxmlformats.org/officeDocument/2006/relationships/image" Target="../media/image16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image" Target="../media/image15.wmf"/><Relationship Id="rId4" Type="http://schemas.openxmlformats.org/officeDocument/2006/relationships/image" Target="../media/image14.wmf"/><Relationship Id="rId5" Type="http://schemas.openxmlformats.org/officeDocument/2006/relationships/image" Target="../media/image13.wmf"/><Relationship Id="rId6" Type="http://schemas.openxmlformats.org/officeDocument/2006/relationships/image" Target="../media/image12.gif"/><Relationship Id="rId7" Type="http://schemas.openxmlformats.org/officeDocument/2006/relationships/image" Target="../media/image11.wmf"/><Relationship Id="rId8" Type="http://schemas.openxmlformats.org/officeDocument/2006/relationships/image" Target="../media/image16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182520"/>
            <a:ext cx="6840360" cy="6443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51280" y="2492280"/>
            <a:ext cx="1217520" cy="16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6597720"/>
            <a:ext cx="4932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©MFL Sunderland 2009 MK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Vorrei prenotare 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12000" y="1557360"/>
            <a:ext cx="718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1657080" cy="1179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86364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050920" y="2924280"/>
            <a:ext cx="1657440" cy="1179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24000" y="2924280"/>
            <a:ext cx="1657080" cy="1179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388360" y="3141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104" name="j0121425" descr=""/>
          <p:cNvPicPr/>
          <p:nvPr/>
        </p:nvPicPr>
        <p:blipFill>
          <a:blip r:embed="rId5"/>
          <a:stretch/>
        </p:blipFill>
        <p:spPr>
          <a:xfrm>
            <a:off x="468360" y="4653000"/>
            <a:ext cx="1508040" cy="104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2771640" y="4653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6300720" y="2924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2987640" y="1557360"/>
            <a:ext cx="930240" cy="892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4140360" y="3068640"/>
            <a:ext cx="1655640" cy="990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003640" y="4797360"/>
            <a:ext cx="72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3333ff"/>
                </a:solidFill>
                <a:latin typeface="Comic Sans MS"/>
              </a:rPr>
              <a:t>un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chegg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2498760" cy="2587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ff"/>
                </a:solidFill>
                <a:latin typeface="Comic Sans MS"/>
              </a:rPr>
              <a:t>Un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ristor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92720" y="2708280"/>
            <a:ext cx="2754360" cy="2884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ff"/>
                </a:solidFill>
                <a:latin typeface="Comic Sans MS"/>
              </a:rPr>
              <a:t>Un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te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fono pub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3672000" cy="2643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278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iscina riscal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56000" y="3429000"/>
            <a:ext cx="2789280" cy="2433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000" y="3141720"/>
            <a:ext cx="6707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Un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egozio di ci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51640" y="2421000"/>
            <a:ext cx="2490480" cy="2495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71640" y="2852280"/>
            <a:ext cx="4038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discote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64000" y="2781360"/>
            <a:ext cx="2808360" cy="2746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71640" y="2852280"/>
            <a:ext cx="4038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uca per le let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80000" y="2565360"/>
            <a:ext cx="2737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26920" y="2565000"/>
            <a:ext cx="433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rucch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508720" y="1989000"/>
            <a:ext cx="23320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3499920"/>
            <a:ext cx="4038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lavand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60504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5513400" cy="5302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59280" y="3141720"/>
            <a:ext cx="292392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609300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  <a:ea typeface="Arial"/>
              </a:rPr>
              <a:t>Learn to talk about accommodation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3068640"/>
            <a:ext cx="292392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Comic Sans MS"/>
                <a:ea typeface="Arial"/>
              </a:rPr>
              <a:t>allogg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085840" y="1052640"/>
            <a:ext cx="50072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Comic Sans MS"/>
              </a:rPr>
              <a:t>Nel albergo moderno c’</a:t>
            </a: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è</a:t>
            </a:r>
            <a:r>
              <a:rPr b="0" lang="es-ES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08720" y="5157720"/>
            <a:ext cx="1224000" cy="1163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067280" y="4724280"/>
            <a:ext cx="1100160" cy="1673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042920" y="4869000"/>
            <a:ext cx="1224000" cy="1197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308720" y="3429000"/>
            <a:ext cx="1198800" cy="1200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067280" y="3357720"/>
            <a:ext cx="1224000" cy="1068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187280" y="3213000"/>
            <a:ext cx="1440000" cy="1036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7236000" y="1773360"/>
            <a:ext cx="13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4067280" y="1628640"/>
            <a:ext cx="1368360" cy="1176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1187280" y="1844640"/>
            <a:ext cx="1106640" cy="1146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55640" y="2997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Comic Sans MS"/>
              </a:rPr>
              <a:t>u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arche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429264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iscina riscal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360" y="270828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Comic Sans MS"/>
              </a:rPr>
              <a:t>Una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buca per le lett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450864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Comic Sans MS"/>
              </a:rPr>
              <a:t>u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telefono pub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308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discote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615636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arrucch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6381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lavand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458136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mic Sans MS"/>
              </a:rPr>
              <a:t>Un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egozio di ci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88000" y="3068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Comic Sans MS"/>
              </a:rPr>
              <a:t>u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ristor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236000" y="5084640"/>
            <a:ext cx="1223640" cy="1163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211640" y="4869000"/>
            <a:ext cx="1100160" cy="1672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042920" y="5157720"/>
            <a:ext cx="1224000" cy="1197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7308720" y="3429000"/>
            <a:ext cx="1198800" cy="1200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4067280" y="3500280"/>
            <a:ext cx="1224000" cy="1068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187280" y="3357720"/>
            <a:ext cx="1440000" cy="1036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7236000" y="1773360"/>
            <a:ext cx="13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3995640" y="1916280"/>
            <a:ext cx="1368360" cy="1176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1187280" y="1844640"/>
            <a:ext cx="1106640" cy="1146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400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58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364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4149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27640" y="566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2923920"/>
            <a:ext cx="338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3280" y="2637000"/>
            <a:ext cx="2943360" cy="209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357336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una per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(singo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2923920"/>
            <a:ext cx="338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2943360" cy="209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357336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due pers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( dopp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516720" y="2565360"/>
            <a:ext cx="2627280" cy="2095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3384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2943360" cy="209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5640" y="227808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92720" y="3357720"/>
            <a:ext cx="2081160" cy="3120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995640" y="3284640"/>
            <a:ext cx="51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4292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on vista sul m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6160" y="2276640"/>
            <a:ext cx="33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una per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338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2943360" cy="209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1640" y="256536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due pers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516720" y="1341360"/>
            <a:ext cx="2627280" cy="2095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995640" y="3284640"/>
            <a:ext cx="51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00720" y="3789360"/>
            <a:ext cx="2790720" cy="2093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4797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on balc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338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2943360" cy="2095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1640" y="256536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due pers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516720" y="1341360"/>
            <a:ext cx="2627280" cy="2095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995640" y="3284640"/>
            <a:ext cx="51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4797360"/>
            <a:ext cx="33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on bag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211640" y="4368960"/>
            <a:ext cx="3024360" cy="1809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3384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2943360" cy="209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55640" y="227808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una per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95640" y="3284640"/>
            <a:ext cx="51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4292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on doc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59280" y="4005360"/>
            <a:ext cx="2232000" cy="2139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338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os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3068640"/>
            <a:ext cx="512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4292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t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j0121425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1508040" cy="104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324160" cy="1742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219640" y="3141720"/>
            <a:ext cx="51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5111640" y="429264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un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roul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92360" y="5157720"/>
            <a:ext cx="1511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635280" y="5589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er quattro gior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0:12:39Z</dcterms:created>
  <dc:creator>slunn</dc:creator>
  <dc:description/>
  <dc:language>en-US</dc:language>
  <cp:lastModifiedBy>Clare</cp:lastModifiedBy>
  <dcterms:modified xsi:type="dcterms:W3CDTF">2009-04-26T20:28:18Z</dcterms:modified>
  <cp:revision>14</cp:revision>
  <dc:subject/>
  <dc:title>Slide 1</dc:title>
</cp:coreProperties>
</file>