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7762-D608-4BCC-9172-FFEA554642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3BFA-0A50-483F-BBA4-218CF21DA9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5D55-EFB9-4E67-9A7A-07BAF7C4DD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A45D-4101-49EF-A179-35D1110699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719D-4A15-4F32-B3F7-55C39808A3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EC1-99DB-4EDE-BA8B-44E9561779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1F40-B899-4F20-A33F-8C85FFFCF3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A447-7AFA-40D3-8CE6-6C5AC5394C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4DF-CE1A-4C7C-BB5F-EA72B99F838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E02-A530-48F3-A55F-0C8EB8A0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C69-C2EF-4917-B681-8A30412E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7AF-4D26-4012-9E8D-7FFF91AD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0D2-32AC-46B7-96D4-88076F16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12A7-73E2-447B-A9C2-1C85FB11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B933-A9D8-43D0-B3A2-82E6AC4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5AA3-CAD4-4912-9E72-3F07C666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A9FF-29BD-4343-8553-46AFAAB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F830-3727-4694-9132-82A75A2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73E0-B5B0-46B3-BA61-CC7084F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2273-31B6-4C38-A491-B0FC9DB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C52-ED39-4B33-B1D5-2077573D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C2AB-91B9-4A95-8DA3-917880C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866-D25C-4BDC-8019-C030172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3D71-C842-4A9E-AC98-0CC88648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24B8-6683-4030-B087-A7E9D5C7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92D-6920-4126-A46E-7426EB2F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7472-EA16-4228-9773-09FA9EDD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06C8-EB98-45C5-BF91-EE72C9D8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7393-6A01-497C-B1E6-937E125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0C93-DCE1-4D02-B5DA-20FC7DF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2EBB-0CDE-4C59-8532-C52D7593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A8C-7CAD-493C-A47D-5CB72896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62D8-FEB2-42EE-AD3F-27FEE740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AF86-3055-469C-B411-BCC2F09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41D1-DEB9-4C16-B300-30F8E725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5E39-23F6-4F11-81F5-CCD9996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5A89-DA56-4E4D-8327-01A0D7F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7AAB-6251-4542-B75A-2789439C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C1CA-C453-49F3-A3F0-07C85921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E19-4A07-4A18-876E-90C3A48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7B4-DB4B-485B-B0E3-F9066CC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B46-AEF8-4526-BEDC-99D936D8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B68-FA52-4591-BDEA-6F237544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AC0-6E6B-4AE3-88F1-24CAC5B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552-F7F9-459D-87F9-DC25583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523-9465-44BB-852D-474B7078FE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4B3-FDEE-4108-8FB1-DE7D673EF9D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58DE-E7AC-49AE-AD8F-C251CDFC00B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sesenta y ocho      6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565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uarenta y dos      5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setenta y ocho      6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treinta y cinco      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ochenta y seis      8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noventa y tres      7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iento sesenta      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 mayor, menor o igu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5000"/>
            <a:ext cx="9144000" cy="916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&gt;     &lt; 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6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7"/>
                </a:solidFill>
                <a:latin typeface="Comic Sans MS"/>
              </a:rPr>
              <a:t>cincuenta y nueve    8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492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5-10T19:37:16Z</dcterms:modified>
  <cp:revision>216</cp:revision>
  <dc:subject/>
  <dc:title>TITLE</dc:title>
</cp:coreProperties>
</file>