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5A02-78A6-45A1-BB5A-4ED2A456AB3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BDAB-6C75-40F7-97E6-7EEB1EE93E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6B83-7298-449D-8E74-18B95F0AC0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F45A-7CC2-4485-B3CF-900F2CF4C0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6572-92C3-418D-B455-42A909EFEE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810C-A76B-4AF8-836F-CFCA5A26EB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4738-2095-496E-A2DE-0746AECDAB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B145-3A58-4A60-A291-807F74E70E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8085-3F45-49BE-8E20-90DB6F3C40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55A-22AA-40D3-9B1B-FA35A84F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59F-57AE-49A2-9D8D-CEEE167D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882-014C-4911-A039-E0B417D7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F4D-2561-4F63-8DB3-EB148C0D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5C05-6F56-43C5-80EF-9937DB83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96C4-C8F8-4E1D-B274-EC5AF54B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33B3-341A-4512-8EBE-BBF4ABE2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5AD1-8C20-4A2D-AEA7-F9C77C9F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F2E8-510A-4EA3-BFFB-219B6B25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6B22-ECB8-4DF5-8AC1-5B3BBC98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8CED-F347-4D62-A078-BD837C4B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825-E9C3-4BBA-AF16-9FAC60B6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CD27-BB3B-4A19-8546-40D08EB1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F1B6-3A35-4D74-8D45-E38B6A96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65E4-2176-421F-BA55-2F7FA137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16A0-A3C3-483B-8448-1DDA975D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5DBE-466E-40FD-A000-CE84C57C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2F22-CD94-4942-922D-D5FEC4A6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0830E-8091-4DBD-B9A4-B13146EF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4C41-4661-4747-B4A1-274DF7DC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D3B98-F7D6-4DA3-90AC-AE82BA81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07411-EF32-4E78-A76B-99F07924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FD9-A00C-42A8-AB74-E8FD6FF0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B47A-2F58-4187-A0EE-044913E6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725F0-D0E2-4C8C-A054-A05C1A6D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D280B-5C93-4F22-B91A-252FC06C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04DF-07AA-417B-8B73-6FDD2B17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68373-D64F-44E2-AB67-7C208722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041A7-96C6-4F21-9338-894F3185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FD3F-DEDA-495B-B257-9F40CC15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AF5-651B-47A7-8F8B-4CDD8A89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8344-0B0D-462D-BF4C-0C0B9C3F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24B-8E7D-4491-9F01-99A866E3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6E9-B427-4C6D-BD18-9E874352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90A-F0BD-419E-9413-0A617180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67D-9FC1-4E62-A196-F85F2C83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8B07-6EEB-4237-8481-1840611BC2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A909-A44C-47CB-8FBE-27CF5EBE2D7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C790-5416-443A-B886-6CF074920DD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sesenta y ocho      6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56536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cuarenta y dos      5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setenta y ocho      6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treinta y cinco      4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ochenta y seis      8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5636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noventa y tres      7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5636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ciento sesenta      6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cincuenta y nueve    8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10T19:37:16Z</dcterms:modified>
  <cp:revision>216</cp:revision>
  <dc:subject/>
  <dc:title>TITLE</dc:title>
</cp:coreProperties>
</file>