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FD79-5AA8-459A-B9A8-0E4A6E167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4F22-3E0E-4B47-91C5-CED228F5C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727D-10D6-4060-B12A-50B05ED75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B5D7-6908-4DF0-A232-91701689C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26B8-AD6F-4D84-A0B3-16AC30DCF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5A0B-CC5C-4869-9976-4F1311D62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F7D6-09B5-4217-8703-EAD51BBE2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E539-E306-48D0-A68B-C6771FC21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56CA-9DDE-4178-8DAA-53075D98B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9CB4-2560-4E88-8586-4F24DBFF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F50E-3F48-4F89-A685-8EBDD7816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0185-26CF-476F-8EB5-50F9F803D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62633-7F0B-47E6-A663-616B8B862F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28440"/>
            <a:ext cx="8785440" cy="66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Comic Sans MS"/>
              </a:rPr>
              <a:t>ocho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Comic Sans MS"/>
              </a:rPr>
              <a:t>cuatro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Comic Sans MS"/>
              </a:rPr>
              <a:t>uno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Comic Sans MS"/>
              </a:rPr>
              <a:t>siet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Comic Sans MS"/>
              </a:rPr>
              <a:t>tre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Comic Sans MS"/>
              </a:rPr>
              <a:t>diez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96360" y="6597720"/>
            <a:ext cx="15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 -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79280" y="28440"/>
            <a:ext cx="8785440" cy="66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Comic Sans MS"/>
              </a:rPr>
              <a:t>do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Comic Sans MS"/>
              </a:rPr>
              <a:t>quinc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Comic Sans MS"/>
              </a:rPr>
              <a:t>doc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Comic Sans MS"/>
              </a:rPr>
              <a:t>diez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Comic Sans MS"/>
              </a:rPr>
              <a:t>nuev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Comic Sans MS"/>
              </a:rPr>
              <a:t>cinco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596360" y="6597720"/>
            <a:ext cx="15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 -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79280" y="28440"/>
            <a:ext cx="8785440" cy="66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Comic Sans MS"/>
              </a:rPr>
              <a:t>quatorc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Comic Sans MS"/>
              </a:rPr>
              <a:t>nuev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Comic Sans MS"/>
              </a:rPr>
              <a:t>cinco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Comic Sans MS"/>
              </a:rPr>
              <a:t>diecinuev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Comic Sans MS"/>
              </a:rPr>
              <a:t>doc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Comic Sans MS"/>
              </a:rPr>
              <a:t>dieciséi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596360" y="6597720"/>
            <a:ext cx="15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 -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79280" y="28440"/>
            <a:ext cx="8785440" cy="66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Comic Sans MS"/>
              </a:rPr>
              <a:t>cincuenta y cinco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Comic Sans MS"/>
              </a:rPr>
              <a:t>veintitré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Comic Sans MS"/>
              </a:rPr>
              <a:t>sesenta y siet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Comic Sans MS"/>
              </a:rPr>
              <a:t>cuarenta y uno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Comic Sans MS"/>
              </a:rPr>
              <a:t>treinta y ocho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Comic Sans MS"/>
              </a:rPr>
              <a:t>sesenta y cuatro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596360" y="6597720"/>
            <a:ext cx="15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0-6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79280" y="28440"/>
            <a:ext cx="8785440" cy="66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Comic Sans MS"/>
              </a:rPr>
              <a:t>setenta y ocho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Comic Sans MS"/>
              </a:rPr>
              <a:t>ochenta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Comic Sans MS"/>
              </a:rPr>
              <a:t>noventa y cinco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Comic Sans MS"/>
              </a:rPr>
              <a:t>setenta y uno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Comic Sans MS"/>
              </a:rPr>
              <a:t>sesenta y sei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Comic Sans MS"/>
              </a:rPr>
              <a:t>noventa y siet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596360" y="6597720"/>
            <a:ext cx="15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61-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3T09:55:16Z</dcterms:created>
  <dc:creator>Clare</dc:creator>
  <dc:description/>
  <dc:language>en-US</dc:language>
  <cp:lastModifiedBy>Clare</cp:lastModifiedBy>
  <dcterms:modified xsi:type="dcterms:W3CDTF">2012-03-23T10:24:57Z</dcterms:modified>
  <cp:revision>6</cp:revision>
  <dc:subject/>
  <dc:title>Slide 1</dc:title>
</cp:coreProperties>
</file>