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D88-E386-4839-B94D-650672FA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8B-6BC1-4959-AD8B-B193729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7E2-ADBB-4236-997F-D10B83EB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60F-E27C-4466-AC89-62534B35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32D-844E-4978-88BC-92DFAE9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A3E-9070-4CEA-8911-BBA113E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9E7-C072-4C0B-9BD2-3E2944E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74B-5B0D-4258-B464-0FDE0E36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F05-05CA-475B-BF92-8F39317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C4A-4308-4088-8490-023A231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C74-410C-417B-AEB0-A2BA502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E23-A5FD-4725-83C2-E1ED0E2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56E-9C0D-4EC4-997C-BE796B40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or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cuenta y 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veintitré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senta y sie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uarenta y u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einta y och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senta y cuatr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-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tenta y och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ochent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oventa y 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tenta y u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senta y se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oventa y sie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1-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55:16Z</dcterms:created>
  <dc:creator>Clare</dc:creator>
  <dc:description/>
  <dc:language>en-US</dc:language>
  <cp:lastModifiedBy>Clare</cp:lastModifiedBy>
  <dcterms:modified xsi:type="dcterms:W3CDTF">2012-03-23T10:24:57Z</dcterms:modified>
  <cp:revision>6</cp:revision>
  <dc:subject/>
  <dc:title>Slide 1</dc:title>
</cp:coreProperties>
</file>