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D445-14E3-4702-BE2E-AAF3490A6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9233-C53C-4CC4-90BB-93A836A63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85AF-D84D-4D5E-B3CC-19D2E147F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7C29-17D2-40EB-A956-2FBEB34E9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C38F-B6A3-4B60-824C-F6C9DACCC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DDC2-F3D7-468D-B125-FC5B716EB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77A6-E89E-4F0B-A7B3-BD003B1BB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044F-72C5-45BB-AD49-CD52840FF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5C09-2B45-413D-8E70-E745888B0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34A9-56DC-42D1-A44B-1D82041CA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C5DC-A512-497E-BD99-344C8339A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2B94-00F0-4F4A-A8DC-3D4D10DE3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21950-E83F-4664-9E63-5C0FF0ED1D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28440"/>
            <a:ext cx="8785440" cy="66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Comic Sans MS"/>
              </a:rPr>
              <a:t>hui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Comic Sans MS"/>
              </a:rPr>
              <a:t>quatr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Comic Sans MS"/>
              </a:rPr>
              <a:t>u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Comic Sans MS"/>
              </a:rPr>
              <a:t>sep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Comic Sans MS"/>
              </a:rPr>
              <a:t>troi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Comic Sans MS"/>
              </a:rPr>
              <a:t>dix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96360" y="6597720"/>
            <a:ext cx="15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 -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79280" y="28440"/>
            <a:ext cx="8785440" cy="66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Comic Sans MS"/>
              </a:rPr>
              <a:t>deux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Comic Sans MS"/>
              </a:rPr>
              <a:t>quinz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Comic Sans MS"/>
              </a:rPr>
              <a:t>douz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Comic Sans MS"/>
              </a:rPr>
              <a:t>dix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Comic Sans MS"/>
              </a:rPr>
              <a:t>neuf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Comic Sans MS"/>
              </a:rPr>
              <a:t>cinq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596360" y="6597720"/>
            <a:ext cx="15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 -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79280" y="28440"/>
            <a:ext cx="8785440" cy="66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Comic Sans MS"/>
              </a:rPr>
              <a:t>quatorz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Comic Sans MS"/>
              </a:rPr>
              <a:t>neuf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Comic Sans MS"/>
              </a:rPr>
              <a:t>cinq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Comic Sans MS"/>
              </a:rPr>
              <a:t>dix-neuf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Comic Sans MS"/>
              </a:rPr>
              <a:t>douz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Comic Sans MS"/>
              </a:rPr>
              <a:t>seiz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596360" y="6597720"/>
            <a:ext cx="15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 -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79280" y="28440"/>
            <a:ext cx="8785440" cy="66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Comic Sans MS"/>
              </a:rPr>
              <a:t>cinquante-cinq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Comic Sans MS"/>
              </a:rPr>
              <a:t>vingt-troi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Comic Sans MS"/>
              </a:rPr>
              <a:t>soixante-sep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Comic Sans MS"/>
              </a:rPr>
              <a:t>quarante-et-u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Comic Sans MS"/>
              </a:rPr>
              <a:t>trente-hui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Comic Sans MS"/>
              </a:rPr>
              <a:t>soixante-quatr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596360" y="6597720"/>
            <a:ext cx="15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0-6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79280" y="28440"/>
            <a:ext cx="8785440" cy="66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Comic Sans MS"/>
              </a:rPr>
              <a:t>soixante-dix-hui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Comic Sans MS"/>
              </a:rPr>
              <a:t>quatre-vingt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Comic Sans MS"/>
              </a:rPr>
              <a:t>quatre-vingt-quinz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Comic Sans MS"/>
              </a:rPr>
              <a:t>soixante-et-onz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Comic Sans MS"/>
              </a:rPr>
              <a:t>soixante-six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Comic Sans MS"/>
              </a:rPr>
              <a:t>quatre-vingt-dix-sep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596360" y="6597720"/>
            <a:ext cx="15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61-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3T09:55:16Z</dcterms:created>
  <dc:creator>Clare</dc:creator>
  <dc:description/>
  <dc:language>en-US</dc:language>
  <cp:lastModifiedBy>Clare</cp:lastModifiedBy>
  <dcterms:modified xsi:type="dcterms:W3CDTF">2012-03-23T10:19:42Z</dcterms:modified>
  <cp:revision>5</cp:revision>
  <dc:subject/>
  <dc:title>Slide 1</dc:title>
</cp:coreProperties>
</file>