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EF3-3EDA-41B6-8198-18574413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2C5-8DBB-44F3-8DD0-A3D871A1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86C-2B19-49DA-8A8A-B7B3D7DB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7D7-3062-4DC5-8C5F-21ACB2F3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4C8-151A-4C7C-BCE4-A97A593C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105-A01F-4B2D-B2F6-4CE1C9F7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C46-BE49-4BEF-A4D9-2434430A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18D-A631-4032-837D-B2D0F898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ABB-2737-4733-A576-2E2EBD74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694-C505-4635-9E39-058DC44B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156-C06B-4483-BF2B-A791490D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3D1-B978-4091-93B0-1E2258E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4778-DFEF-4469-BDEA-FA15D4A7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in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or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x-neu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quante-cin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vingt-troi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sep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rante-et-u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trente-hu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quat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0-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dix-hu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re-ving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re-vingt-quin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et-on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oixante-six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re-vingt-dix-sep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1-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9:55:16Z</dcterms:created>
  <dc:creator>Clare</dc:creator>
  <dc:description/>
  <dc:language>en-US</dc:language>
  <cp:lastModifiedBy>Clare</cp:lastModifiedBy>
  <dcterms:modified xsi:type="dcterms:W3CDTF">2012-03-23T10:19:42Z</dcterms:modified>
  <cp:revision>5</cp:revision>
  <dc:subject/>
  <dc:title>Slide 1</dc:title>
</cp:coreProperties>
</file>