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68CB6-2EA7-4AF8-9F0C-3EE6FF5082A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6EC35-1E5A-464C-82D1-1EC45FE98CA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5D39-2248-49D2-89C3-22A080F58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87EA-796F-4ECA-B374-AA1FD5CC4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BBFE-1E93-45CB-AAD3-5CBC5A676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3F17-FDC3-4537-BAE8-62703645C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786C4-CD4C-4C9A-9E5B-1E6AE6739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56D6D-9C9F-4CAF-8001-93A6ACF3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315E0-69CB-48A7-83B6-81376C0F4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13453-99F6-42C7-BD60-1E1173632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057F4-497D-48DE-BA83-8AB936CAB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9913B-B9A4-4D76-8B10-0F8FFF0A6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2AEE3-674D-41FA-87F8-6289138C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670C-2675-4017-96B7-48572618A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A35E2-1486-458B-B05F-6E5BA8D5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89C0E-F557-4062-B0FE-FD2AEDEF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2A598-897E-4707-BD32-DAFC3F60D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EC877-F5E2-4704-9010-2E62104B3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22F25-EDFD-4FA1-B633-B5FB8B9E0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30F19-9603-45AC-9F42-64A99BEF4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0532F-421E-4A18-9D45-038A49045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B921F-E7A6-4F14-924F-6A0F94FB3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54FD8-6016-44C7-A89D-D28540221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6F2A2-46BF-4C57-AF35-65BDE184B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B38A-ABD0-484D-A7C7-7AD71DB40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46D67-BB08-4AFB-9DD1-F5075E245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90509-2DF6-40B5-A5C7-DA78FE15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5BD30-5A78-49CC-8E13-34B412B8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4B5E9-8500-4A3E-88EA-71FCA933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7BC2F-30AB-46E9-BAFF-9889A14BB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8E648-C24A-45F4-8DDE-BFD973608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9AAB9-35C7-4324-BF71-D5332BC06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11F1-D8A7-4250-A7E4-1175392B9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0A95-E355-4047-9594-11FDB380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DAF3-F96C-45D3-A680-F241B8E00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4A83-1019-458D-B31D-CAAA74D8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33DE-D442-468C-A5EE-B79E1163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9614-75D4-4860-BBD0-35101AD9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C2F45-7562-44CC-A40B-2E8B3C87711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CB506-3F98-45DD-BD8A-970AB85B031A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BD405-7627-4257-8AA4-7378C473E163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at have we found out from the domino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340000" y="1406520"/>
            <a:ext cx="71294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7"/>
                </a:solidFill>
                <a:latin typeface="Comic Sans MS"/>
              </a:rPr>
              <a:t>30</a:t>
            </a: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treinta</a:t>
            </a:r>
            <a:br>
              <a:rPr sz="4400"/>
            </a:br>
            <a:r>
              <a:rPr b="1" lang="en-GB" sz="4400" spc="-1" strike="noStrike">
                <a:solidFill>
                  <a:srgbClr val="fffff7"/>
                </a:solidFill>
                <a:latin typeface="Comic Sans MS"/>
              </a:rPr>
              <a:t>40</a:t>
            </a: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cuarenta</a:t>
            </a:r>
            <a:br>
              <a:rPr sz="4400"/>
            </a:br>
            <a:r>
              <a:rPr b="1" lang="en-GB" sz="4400" spc="-1" strike="noStrike">
                <a:solidFill>
                  <a:srgbClr val="fffff7"/>
                </a:solidFill>
                <a:latin typeface="Comic Sans MS"/>
              </a:rPr>
              <a:t>50</a:t>
            </a: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cincuenta</a:t>
            </a:r>
            <a:br>
              <a:rPr sz="4400"/>
            </a:br>
            <a:r>
              <a:rPr b="1" lang="en-GB" sz="4400" spc="-1" strike="noStrike">
                <a:solidFill>
                  <a:srgbClr val="fffff7"/>
                </a:solidFill>
                <a:latin typeface="Comic Sans MS"/>
              </a:rPr>
              <a:t>60</a:t>
            </a: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sesenta</a:t>
            </a:r>
            <a:br>
              <a:rPr sz="4400"/>
            </a:br>
            <a:r>
              <a:rPr b="1" lang="en-GB" sz="4400" spc="-1" strike="noStrike">
                <a:solidFill>
                  <a:srgbClr val="fffff7"/>
                </a:solidFill>
                <a:latin typeface="Comic Sans MS"/>
              </a:rPr>
              <a:t>70</a:t>
            </a: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setenta</a:t>
            </a:r>
            <a:br>
              <a:rPr sz="4400"/>
            </a:br>
            <a:r>
              <a:rPr b="1" lang="en-GB" sz="4400" spc="-1" strike="noStrike">
                <a:solidFill>
                  <a:srgbClr val="fffff7"/>
                </a:solidFill>
                <a:latin typeface="Comic Sans MS"/>
              </a:rPr>
              <a:t>80</a:t>
            </a: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ochenta</a:t>
            </a:r>
            <a:br>
              <a:rPr sz="4400"/>
            </a:br>
            <a:r>
              <a:rPr b="1" lang="en-GB" sz="4400" spc="-1" strike="noStrike">
                <a:solidFill>
                  <a:srgbClr val="fffff7"/>
                </a:solidFill>
                <a:latin typeface="Comic Sans MS"/>
              </a:rPr>
              <a:t>90</a:t>
            </a: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noventa</a:t>
            </a:r>
            <a:br>
              <a:rPr sz="4400"/>
            </a:br>
            <a:r>
              <a:rPr b="1" lang="en-GB" sz="4400" spc="-1" strike="noStrike">
                <a:solidFill>
                  <a:srgbClr val="fffff7"/>
                </a:solidFill>
                <a:latin typeface="Comic Sans MS"/>
              </a:rPr>
              <a:t>100</a:t>
            </a: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cien / c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2-05-10T19:19:35Z</dcterms:modified>
  <cp:revision>216</cp:revision>
  <dc:subject/>
  <dc:title>TITLE</dc:title>
</cp:coreProperties>
</file>