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0675-AC03-402E-825B-47B5118391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C378-D6F3-4611-B54F-FE6B7626A3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74D-58E7-4E7B-B083-FB9290D4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5F8-C58B-409C-B993-278DA535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5E9-CBE1-4250-826D-CBE2370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5AB-0F9E-4482-B836-EAB92945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CC0D-F1A0-487A-956A-EB2B3A65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BC68-0839-47DA-903B-ABF549A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DE8-1E0D-4F06-AFBC-B97B6665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676A-6905-4BEA-AD28-B2DD09AA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E34-2A5B-4EEE-B7E9-A10FDB52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C97-16AA-451B-995B-6B5B5F5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82E1-B12A-4AF5-B636-4F508CC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560-6CFB-4BB5-857D-6007E77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EABA-E9F0-4B60-9E22-902F83D4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A7E4-CC79-4A2A-BA61-D491476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2EE2-B5BB-4678-9991-C076E200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1F33-41D3-441C-BA5D-D884AAAC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8CA4-B500-4667-A572-CDBA38A1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0BFD-C066-4AC5-BD71-210EA5A7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ADBA-2E63-4098-B83B-6D96B43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398A-D978-436A-8E67-A168EA0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81C4-042B-4EB1-B594-2A0F2B1C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C8A8-4676-450E-AC9A-C4C2A89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54A-1C7F-4F50-8FD2-4AC13DE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D2D3-2403-4BE4-B903-92DC976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80DB-3F57-40EA-9D83-B933FDD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CE83-7FEA-4986-9CB1-D2B99FB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3BE5-EFE7-49CF-ABE5-2DFBDED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ED6B-03C9-4A5A-89ED-77932F6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B861-8015-4D4E-8E18-DCF6F3A6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3B62-3170-452D-ACF4-3F604041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A93-7763-47F5-B7D3-86A81FD4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6C5-57E5-4A26-9A6B-0628441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329-2887-4C7B-9958-327886D6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4A4-5045-4A6C-98EC-8966481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202-7E4B-4439-AEFE-8B3A5CC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81A-48C9-47D5-81BA-3006924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13C-EF0B-4D53-8243-F30C842D3B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BE8E-1832-41F9-9BE3-FE9F539975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3A5-617C-4562-B9FF-AD737FBB60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have we found out from the domino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1406520"/>
            <a:ext cx="7129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3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rei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4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uar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5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incu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6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es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7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et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8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ch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9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v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10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ien / c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19:35Z</dcterms:modified>
  <cp:revision>216</cp:revision>
  <dc:subject/>
  <dc:title>TITLE</dc:title>
</cp:coreProperties>
</file>