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6DF-8CE3-4027-9065-56CE358E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02D-574A-4F67-9D4A-665191E4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CD2-BBC3-411A-A03F-3C4A2F5F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F0B-8AB2-4A2E-BEF5-05C820C4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6177-4061-4137-BE65-AF7293D7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0C49-8C27-4BDE-A01B-1B1650D1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C51D-525F-4E14-B531-D378FE6F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9DE0-E62B-492C-AA49-C6A6917C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E28B-C211-40B8-BC7B-09B40E79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0B75-D1F0-4365-A1AE-49F28CFF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A75A-0352-4727-8A80-EF959644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836-CDF3-44B2-A4C3-B4EEA320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6761-BD9D-4872-B6B3-07982A2C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CC1A-983D-4071-AB71-A3A09314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F20C-6444-40CF-86F0-BA82D95A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F5B0-D79D-4CB1-B357-F1254A5E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D34C-1375-4607-B747-4067F9F5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0484-A070-4189-B7AA-F480D93C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D8D45-01EE-414E-9AB7-2F0AEB2E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F27B9-FDA5-43B9-BA32-87178BEC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9A47-4D3C-435D-B715-1EABB4E7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E042-0566-4CD3-8B36-F7D08C6F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C28-8D93-4B90-B640-5AB94203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511FC-DD39-4A2E-A036-6A1F842B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C67CE-86D0-4874-8401-0A342401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E601A-F8AD-4FA2-8D94-87D8870D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6190-F3A6-479C-B27F-0F7B4CDA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C122A-FE82-42E9-8D4E-7490C2B1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A1FEB-763B-4342-A4FF-AD8200CE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24224-7483-476B-AA96-567C438C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EFC90-9682-403B-B707-EDA235E1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43E15-D6D0-4C18-B427-B27413BE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D8163-9771-4C8D-A733-4FA0781D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D40-6A80-42E0-B9C9-E8C842DC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7D678-F647-41ED-B489-830B15DA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EAA1F-DE04-4425-9A13-0FB18F84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73654-583A-49B7-8283-D248D427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26841-5B36-4A5F-A9D6-4D10DB95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2E70-969F-4FFF-A1C1-FE3C4019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1E30-70AF-4C81-AE48-5DB72CEA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A1478-963E-4867-9DFF-4C6053FB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8D2D2-A817-4FFE-9FB2-21F22B5E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2EA45-9FDA-4F9B-B1B5-570E6EF5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A58-145F-429B-92EA-B98EF5F6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E84-DF01-4DF8-B02A-20E45BB8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A7D-A248-43AF-BA17-281FF5DD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B63-E751-4565-9F12-CF57057A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0D1-E776-4CFA-AF22-A186D22A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E00E-5B16-4AE8-B692-A8860CAD1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8944-0065-4543-BF28-83AF9FB29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7F3F-E962-4D35-A410-BC150F5EB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5BA0-98B7-46FF-A718-B15D080B6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4861080"/>
            <a:ext cx="9144000" cy="199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 un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6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six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1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onze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6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seize     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60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soixante</a:t>
            </a:r>
            <a:br>
              <a:rPr sz="2500"/>
            </a:b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deux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7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sept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2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douze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20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vingt     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00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cent</a:t>
            </a:r>
            <a:br>
              <a:rPr sz="2500"/>
            </a:b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trois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8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huit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3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treize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30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trente</a:t>
            </a:r>
            <a:br>
              <a:rPr sz="2500"/>
            </a:b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4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quatre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9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neuf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4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quatorze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40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quarante</a:t>
            </a:r>
            <a:br>
              <a:rPr sz="2500"/>
            </a:b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5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cinq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0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dix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5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quinze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50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cinquan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drawingml/2006/table">
            <a:tbl>
              <a:tblPr/>
              <a:tblGrid>
                <a:gridCol w="684360"/>
                <a:gridCol w="2592360"/>
                <a:gridCol w="2735280"/>
                <a:gridCol w="3132000"/>
              </a:tblGrid>
              <a:tr h="100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ze x cinq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nte-huit + trente-sep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nt - trent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rante x deu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ixante-et-un + ving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quante-six + vingt-quat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ixante-douze + vingt-hui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tre-vingt-un + vingt-neuf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torze + soixante-seiz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nt – 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nte-et-u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ze x s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rante + 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nte-hui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ixante-six + d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tre-vingt-dix – dix-sep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ngt-et-un + cinquante-deu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156360" y="0"/>
            <a:ext cx="2987640" cy="90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9280" y="1052640"/>
            <a:ext cx="2987640" cy="90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56360" y="2133720"/>
            <a:ext cx="2987640" cy="90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3068640"/>
            <a:ext cx="2987640" cy="90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3933720"/>
            <a:ext cx="2987640" cy="908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3-20T09:52:09Z</dcterms:modified>
  <cp:revision>61</cp:revision>
  <dc:subject/>
  <dc:title>Slide 1</dc:title>
</cp:coreProperties>
</file>