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C52-09D0-4E89-84F1-EA3CF265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E34-DA16-4DF6-A399-B224CB48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08F-390D-4084-83A4-402A170F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76C-E4C1-47F1-A54C-5E81BF59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01D0-1FB8-45D7-BC98-7D0E00B3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680-3950-44C3-838A-1C6F4C7A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4D9F-FBC9-4DBC-900A-D80D52E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2CA-11CB-4A9F-9141-47A53D1F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9072-C165-477F-B552-53F59D7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1EA4-BC81-486E-9F58-A492E704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31A-72E5-47DD-8ED1-C5833DF8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2EF-298B-4B77-8730-AE8427B0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5B1A-DA6A-48C1-9D59-9151786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A660-7A01-461C-9520-7126ACF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6A5-DACD-4E9E-B210-33C10E2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4C35-2176-4AB4-AE5A-F73C918D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1D5-D15D-4259-8340-BAB6BA3E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F193-06C0-4E53-B0D4-143F8796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D8DE-7207-40B6-91EC-163C12E4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24F6-C974-4176-A575-128411C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FC1A-0BA7-4A70-BA28-1E2235B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5835-D02C-4977-AE23-42616EB0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3E2-D47B-4921-A903-0EE02B7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A23F-DFA6-4055-9EE8-CFBE783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D4F3-9E3D-40DD-9FA8-C510B67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D2A2-DF0C-45F6-997F-CA494C8D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BFBC-8160-4851-A1E0-32C5087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5041-D930-4939-B74D-77F2C17E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4E87-090A-4E1B-A98B-99A246A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C298-1348-4F34-B9A8-B0ABAF77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0DF5-4940-4A69-93FB-21FBC737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2B9C-C36B-47F8-A53A-0F9E4BBC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9F07-B746-48E5-9CA5-C38D6037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253-D4B8-4725-8ED5-6AB4A10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04C1-31D9-4F86-A89A-69A86315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6DD6-0186-42E2-AB93-2B4313C8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F9F1-F6ED-4804-B627-ACDC7967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BE62-45FD-49A3-A592-3B46A33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A162-BB4A-491A-8E3E-FDC2A4D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BD94-A784-4188-99E4-9F6C3D5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E4B2-8FCC-49AF-9398-BBBE8CC0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FF2E-8296-4D69-AFD9-0FE93617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6D8B-7E86-4977-9C44-A7A95C9C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8CF-DB95-450D-9294-5C066B9A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8AD-B5A1-4A95-915E-E1F44B2F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93B-71E7-4314-AEBD-9E084AA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F91-EF00-4A61-B259-ACC526F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016-1168-42A4-99CF-539EB1F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1C4-4995-4B4D-B398-67987B9A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9EC7-84F4-4B97-AA09-FE9033C7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8A6-845B-46F6-97B7-A2B36DE02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6851-9C24-4A87-BF2E-F5CB02A88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861080"/>
            <a:ext cx="9144000" cy="199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 un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6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ix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1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on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6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eize     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6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oixante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deux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7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sept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2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dou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vingt     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0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cent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trois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8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huit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3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trei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3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trente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atr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9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neuf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4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ator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arante</a:t>
            </a:r>
            <a:br>
              <a:rPr sz="2500"/>
            </a:b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cinq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dix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15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quinze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cinquan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drawingml/2006/table">
            <a:tbl>
              <a:tblPr/>
              <a:tblGrid>
                <a:gridCol w="684360"/>
                <a:gridCol w="2592360"/>
                <a:gridCol w="2735280"/>
                <a:gridCol w="3132000"/>
              </a:tblGrid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ze x cinq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nte-huit + trente-sep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 - trent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rante x deu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xante-et-un + ving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quante-six + vingt-quat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xante-douze + vingt-hui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tre-vingt-un + vingt-neuf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torze + soixante-seiz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 – 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nte-et-u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ze x s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rante + </a:t>
                      </a:r>
                      <a:br>
                        <a:rPr sz="2600"/>
                      </a:b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nte-hui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xante-six + d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tre-vingt-dix – dix-sep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ngt-et-un + cinquante-deu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156360" y="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105264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213372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3068640"/>
            <a:ext cx="2987640" cy="90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933720"/>
            <a:ext cx="2987640" cy="908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3-20T09:52:09Z</dcterms:modified>
  <cp:revision>61</cp:revision>
  <dc:subject/>
  <dc:title>Slide 1</dc:title>
</cp:coreProperties>
</file>