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F05D-04F5-4FAA-BA9E-D270D66EA4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45C3-5F7E-4A32-8884-E22AB58B4C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B17-09B5-4E3C-8B04-8CAB1696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437-A4B4-4518-A45E-93423793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F91-965D-45BB-83FF-37ECFBDA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7CA-FCA7-4A39-B3BE-3EA95CF3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91C3-7087-441C-B42D-9440B417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2643-7999-44CC-9620-C0BF2E40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D514-6D99-45AC-947A-AC38B1FE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B9A7-6FBF-41C9-8A59-F266EEE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501C-15D6-4306-B9BA-2CAE35B8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4CAE-0208-4E38-AFA4-F9621A8A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45EB-A91F-4ED1-A7BF-E3B1B70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AF5-237E-4AED-80E9-4385935C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C596-7D73-4861-B475-6DCF1366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1D52-5887-4DC9-890E-3BEEC6AE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10B2-E43A-4E72-A119-0B96AC85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68F1-376A-4C81-AFDE-11CA6634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686A-DE8A-4329-91E3-C93DA87B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5521-514C-4F7B-938F-4AFA4D02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A032-9F5A-4515-84C3-23EBCC1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F4AB-E8B1-49B0-8F2D-D2275777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7947-81AC-4AC3-A24C-ECEF936F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79D2-ED46-4FE2-90EC-B8DCCD4F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991-6506-4C52-82CB-51924D61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7834-B3F1-427D-A3CF-3035DC21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8FCB-32C9-4D45-9A9E-6BF8833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2F08-4320-4153-8410-C828800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AA4A-EC0F-41EC-8621-2B927DB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3F47-84CD-4A71-8C92-1951171B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8F2E-F551-4DC4-A024-F03176EF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A033-7336-45D9-B311-4CF57478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1A8-854C-439A-B2FB-AD9C4BA3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5A3-A2BB-4DD5-9010-56998396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F12-8E72-46C9-9357-B852F900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72D-6494-4858-95D7-81BF0995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C33-DC61-4220-AA48-BCE69336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8C2-8473-4233-B8C4-1E93FBD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4679-E2E8-49B2-A527-566E884FBB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7F35-20C5-4C06-A976-0B99144E70E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DD46-2365-4592-9489-DB2A80578AE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Redondeam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66920" y="4510080"/>
            <a:ext cx="0" cy="1150920"/>
          </a:xfrm>
          <a:prstGeom prst="line">
            <a:avLst/>
          </a:prstGeom>
          <a:ln w="7632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366920" y="2061720"/>
            <a:ext cx="0" cy="1079640"/>
          </a:xfrm>
          <a:prstGeom prst="line">
            <a:avLst/>
          </a:prstGeom>
          <a:ln w="7632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213000"/>
            <a:ext cx="25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or arriba</a:t>
            </a:r>
            <a:br>
              <a:rPr sz="3200"/>
            </a:b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por 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155628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7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1772280"/>
            <a:ext cx="252108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98792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4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220392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4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2419920"/>
            <a:ext cx="252108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63592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8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285156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7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306756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5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3283560"/>
            <a:ext cx="252072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9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499200"/>
            <a:ext cx="252108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Black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10T19:35:44Z</dcterms:modified>
  <cp:revision>216</cp:revision>
  <dc:subject/>
  <dc:title>TITLE</dc:title>
</cp:coreProperties>
</file>