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28B-EDB7-42A1-931F-8B7DFFE387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3BB-2AC3-4409-AE94-6CD4F3082F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518-D6AD-43D1-85DF-8DCB265B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218-03C4-4980-A068-DF080E6E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133-DF8A-4025-B8D4-23276D1B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B19-4733-49BC-9E4C-C2CDD14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3911-19FD-4A91-87DB-D957FAE7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EEDA-1A8B-477B-8151-CAAB6E37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AB4-0DAB-4098-85CA-91E5A11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E285-AC34-4A9A-BE98-1D18248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DC3-0E22-40CC-A370-CE71048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AA7-17BD-466C-80E8-DF71F06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9A57-C81F-4CC1-B890-9AA1EDD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31A-4AD9-4850-98CE-3D7B79AC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2489-AEB2-4CF5-BD82-5FC8A0F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1C9-5941-431C-9304-1BA0632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FA43-7A51-4121-9E21-5F1B610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D3F-9C86-46C8-BDB0-5635BA43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E20-DFC2-434B-87B5-F2A376CC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F96C-6241-4872-B9B5-BD651BCB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C385-8B14-4B7E-889E-B75FB10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9633-F0AE-4375-8FB0-93E503E7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A3DB-D319-4FCD-97EB-CE5F01D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7E38-BDBB-4D0F-A16E-981F629D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136-A2A5-4C2A-9171-3D1FDEF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F041-806A-4876-9C7A-4EFE16E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73F2-4D64-4FE4-938C-F7D0569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3759-C88B-4CBF-BFFD-5517DEF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96CE-ECE4-4A0B-8C3B-6C0ED1B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F6B1-BA87-463E-A942-A587E98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08AF-85F1-4092-9BED-151CA278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9691-0D6E-4AF4-8B97-75900C82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416-7228-4673-AFAC-8FA7E758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ECB-5CFD-4506-850C-FA5A744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7B8-1C56-498F-8397-DF6C2C4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4BC-B77D-4C69-96F7-38E7438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A57-6CAF-4C87-874C-E703E00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28B-D2A6-47F2-9248-EC39BD7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E830-6E54-4745-B6CB-74B018C7C5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D7F-BAB3-4E84-9163-D8F8C587A70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8953-073D-423E-87D2-328EAAB1822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Redondea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66920" y="4510080"/>
            <a:ext cx="0" cy="115092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66920" y="2061720"/>
            <a:ext cx="0" cy="107964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21300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or arriba</a:t>
            </a:r>
            <a:br>
              <a:rPr sz="3200"/>
            </a:b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or 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155628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7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77228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87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4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2203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1992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635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8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851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7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067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283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9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49920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5:44Z</dcterms:modified>
  <cp:revision>216</cp:revision>
  <dc:subject/>
  <dc:title>TITLE</dc:title>
</cp:coreProperties>
</file>