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1BE4-7E2C-4645-BDB3-5789614180B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C044-18E0-463E-8027-0C8D03F746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E408-B71E-42BC-9F15-45D681B3D9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3235-58AF-4DBA-B04A-A9DE2052E97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713B-B97F-4F65-9B20-9B8C5B6EA4B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AE3-9874-4119-B128-70DAD54D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ADAE-0794-465B-89F9-11D6D601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CA12-24D8-4FCC-880A-19F19747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26B-8F43-4ABB-A754-060DF863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4899-C40C-4A6F-B68C-BA53306D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DAAB-5B59-4821-96F7-8A0C882B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237B-D327-44DC-96EA-DD07D8A5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0585-CB9B-4D47-A584-6CC45D45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5903-323A-4E45-B270-65093D75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0951-AA21-4031-B690-58B46B93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6F06-9040-4FE3-8024-50C1EF63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AB53-4800-4E58-875E-A8C93A62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CC48-0DF3-4BB2-9C1B-AFA5FBB0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E662-341B-4C65-A40A-F5DB1FEB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AEAE-2D9D-4127-AE31-FB8A902A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77BC-1F2D-4DEE-B9FA-135F76DF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BF8A-9453-462C-986A-4DAE7B65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02A02-9C0D-47F1-BEC4-82C21C32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12978-0BE5-433F-8B3D-A650B343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F0E39-7C0E-4E25-8A6A-8253852F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01D33-D6E8-4C82-ACD8-953E315B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4B294-6F64-4972-8E0F-FB097971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638-21A1-41E8-AD37-25A8631F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67E11-F4FE-4B79-ACCF-48CEE34E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8300F-B387-47D4-BB15-EB5CF870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6B23E-5639-4210-81A5-F3720149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5971A-8902-44B6-A78C-78DE36C5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8797A-298E-4017-9758-FB5E7150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89569-B082-49A4-90B1-DE36058A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558FD-7388-46CE-923C-943F670D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681-8B9D-47A6-B719-0746A7E1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1637-AF60-4FBD-8E4D-BC479DFC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8423-4DF4-46AF-B7DB-0F873FEE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6BCC-81C6-45E1-9D32-FAFDB4FB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2BBD-2644-48EC-8CAB-A4C400C7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8A8-3DD3-4023-A82D-653D3BF2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6675-6165-4E4F-9E2B-71FB42916AA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45F4-752A-4BC0-A27C-3A119A6920E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F68E-C8C7-4053-9072-0CBC1892923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981000"/>
            <a:ext cx="7020000" cy="57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treinta y sie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ochenta y d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sesenta y o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ochen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noventa y cin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cuarenta y se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Pon en el orden correct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16720" y="981000"/>
            <a:ext cx="1800360" cy="572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095880"/>
            <a:ext cx="3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81000"/>
            <a:ext cx="7020000" cy="57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setenta y t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cincuenta y sie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ochenta y o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setenta y se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cuarenta y cuat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sesenta y u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Pon en el orden correct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16720" y="981000"/>
            <a:ext cx="1800360" cy="572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095880"/>
            <a:ext cx="4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981000"/>
            <a:ext cx="7020000" cy="57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noventa y cuat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trein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cuarenta y nue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ciento veintidó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cincuenta y o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cincuen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Pon en el orden correct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16720" y="981000"/>
            <a:ext cx="1800360" cy="572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095880"/>
            <a:ext cx="4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81000"/>
            <a:ext cx="7020000" cy="57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setenta y sie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sesenta y cin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sesenta y d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setenta y cuat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noventa y nue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7"/>
                </a:solidFill>
                <a:latin typeface="Comic Sans MS"/>
              </a:rPr>
              <a:t>setenta y o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Pon en el orden correct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16720" y="981000"/>
            <a:ext cx="1800360" cy="572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095880"/>
            <a:ext cx="4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5-10T19:38:47Z</dcterms:modified>
  <cp:revision>216</cp:revision>
  <dc:subject/>
  <dc:title>TITLE</dc:title>
</cp:coreProperties>
</file>