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BEB8-2AF0-4C0D-845C-0333638C58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28C8-274C-4BB8-B6B3-9EA90F9FF5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B51B-A96F-4ACB-A386-12ACD9D281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6EEA-2437-45A2-B52C-86A91E143B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F857-5FF7-40F7-8842-A9E8E3BF4D1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542-87DA-436B-8A13-4B9AA7DE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56B-46DE-49E2-95E7-7B069086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E51-A604-4132-80A6-02A34180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DD6-2C41-462D-B51E-FDFC3652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75B7-5C20-4423-88DD-87BB818F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BF31-A396-43C5-AFB4-584A8A2A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E0F7-5E37-4925-BDE5-7224E2B6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3BDA-E4C8-40C6-B8FF-BB06CC3F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0AE2-C6A4-4F3A-9CFC-23DF67DF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0A45-84BA-4E8D-8EDF-842A963A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AF2E-B866-41FF-A083-F2AE654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1A1-1D1D-49D2-939C-133B22E2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8BB6-BFC6-4A92-A414-C7E0C05C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D659-B1BF-4380-8FAC-12D9C97C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97B0-4DB4-442A-93CC-798ED41D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8568-8215-4992-941C-41D2FD7D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D263-ABEF-4D87-ABC5-69837EEC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08AB5-8838-4C48-AE51-161F6AB1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6B94-C60B-4707-8C48-05CD1570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4182F-D8F6-469F-B305-EA5F72CB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64FF-FF0E-4C8E-B89F-2C4F5E53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C99D0-9FD3-4559-AB76-99A0254E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FAD-A486-4DA2-B8C0-F68FAC55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DBC9-22C2-4CF1-AEFB-892105D1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D42E-A366-44FB-894F-DB8098AD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3AE6-E708-49AD-97FA-E6CA75F8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F43A-E570-4FEE-9230-C74AA282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C9AB-D04A-49A5-9382-D8B6BCC9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76944-BCC8-4A34-A68B-5B24167B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3B87-3EA5-4615-9DA2-86979E1B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8EA-F462-49DB-8EDF-30C6A928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60B-1D63-4247-8C17-37FBDB5C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E7D-A7B2-439E-B8F8-CFAD8943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669-EB0E-4CA3-9B36-254A794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450-49D4-426A-B762-96AD698E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2C7-04CB-4C49-BBFB-62269CE1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550A-D099-4C39-86CA-219CA26329B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3B9E-C7EE-4DBA-8F7D-7A5F1FF2557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F5FD-E5FC-44D2-AFC8-7415829F4AF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81000"/>
            <a:ext cx="702000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reinta y sie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ochenta y d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senta y o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ochen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noventa y cin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uarenta y s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Pon en el orden correct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981000"/>
            <a:ext cx="1800360" cy="572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095880"/>
            <a:ext cx="3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81000"/>
            <a:ext cx="702000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tenta y t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incuenta y sie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ochenta y o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tenta y s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uarenta y cuat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senta y u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Pon en el orden correct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981000"/>
            <a:ext cx="1800360" cy="572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095880"/>
            <a:ext cx="4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981000"/>
            <a:ext cx="702000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noventa y cuat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rein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uarenta y nue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iento veintidó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incuenta y o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incuen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Pon en el orden correct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981000"/>
            <a:ext cx="1800360" cy="572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095880"/>
            <a:ext cx="4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81000"/>
            <a:ext cx="702000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tenta y sie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senta y cin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senta y d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tenta y cuat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noventa y nue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tenta y o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Pon en el orden correct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16720" y="981000"/>
            <a:ext cx="1800360" cy="572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95880"/>
            <a:ext cx="4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10T19:38:47Z</dcterms:modified>
  <cp:revision>216</cp:revision>
  <dc:subject/>
  <dc:title>TITLE</dc:title>
</cp:coreProperties>
</file>