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6D8-838E-4CFC-945E-8C059B55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12B-622C-4CA2-8A3E-BF0EA9F0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D8E-EBB3-480B-946E-0417E8E5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402-F614-4333-A101-34038F2E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896-D7D4-440E-82B5-7CDB3110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0F65-9891-49CF-9E93-512AB588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E744-03AB-40E8-B3DD-F21B7CEE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EDB-1719-49F9-B437-75D0C7E5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34E5-C3C5-45AD-AFD0-6FC3D009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0AD2-56D4-4434-B211-00349B02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658-DBDE-4027-8F20-39A0A4CE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0F9-EFF3-490F-ABE8-5C547B0A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92D6-101A-40CF-B22D-E683091D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642-9EDA-495E-9F48-B1CD347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61A7-0ABC-4C41-98C8-9B349CB7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468F-1E1D-4315-ADCA-AA820D69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6D00-9415-416F-BFB7-2C7D67F0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BFE3-C240-42A9-A60F-8A3ABC21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7DD5-FC7F-4501-89D6-41B613CF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32E8-87A0-4246-9D56-824D9941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0576-D3D8-46B0-88C6-72E86730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820E-3BF9-4282-AECF-257DB5D1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762-2151-4FD7-9922-7DC912A0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4466-C146-416E-86D6-374BC7A4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DC75-9D62-43CD-900C-5020C6F9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1D2C-5A45-4B03-9E50-24D3FD3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B16E-E310-40AC-9549-DA0A8BD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BDD9-20CD-40B4-9616-42EAB08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017B-FEAC-4628-998A-1460D1B5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3B8D-DF86-4120-8094-2452198C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6764-9237-4B03-A697-BFA3746C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AF0B-7849-4073-A5C0-DEDC9A7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C92A-5F4C-4657-BD3E-35697F84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55E-86EE-4AAC-8461-DC0A7E0D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EB16-FABB-4757-B1E0-34DF8AEF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116B-961D-4ACD-A058-042E5EE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3B63-E777-4007-A091-1BE20F93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A6C3-C39D-40D9-B6A7-CB2A33FE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E241-E478-449F-8649-42C1C0A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D68CE-71F6-4868-AA61-16967F9E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EB25-EDDB-48D0-BED6-7028F12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FE8E-0567-45B3-B651-1E574EC2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ED80-8B50-4D2C-A7F0-C92FD14D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9F0-7FD3-41E0-99EC-EE21E830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3FE-BBB9-4B0E-8275-AE571410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CB9-40A0-4BBE-8FD7-32F90961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A7A-7332-4A3F-8532-67DBEEE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B68-24D5-499F-AB74-C728D49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1E5E-7E29-4500-BED0-2DE91BB3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ECCF-57F5-4EAC-B344-4764C54FA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714B-B9C8-432E-AC30-AD56392E05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5AB7-BC58-490A-A04B-A07C4350F00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33360"/>
            <a:ext cx="9144000" cy="60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a  b  c  d  e  f  g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Comic Sans MS"/>
              </a:rPr>
              <a:t>h  i  j  k  l  m  n  o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p  q  r  s  t  u  v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Comic Sans MS"/>
              </a:rPr>
              <a:t>w   x  y  z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43280" y="5157720"/>
            <a:ext cx="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16360" y="6165720"/>
            <a:ext cx="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5734080"/>
            <a:ext cx="217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95280" y="5734080"/>
            <a:ext cx="215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3640" y="5157720"/>
            <a:ext cx="14436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339640" y="5300280"/>
            <a:ext cx="142920" cy="14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93000"/>
            <a:ext cx="71280" cy="14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40000" y="6021000"/>
            <a:ext cx="14436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20638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356000" y="476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super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2924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pas m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55166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nu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404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Comic Sans MS"/>
              </a:rPr>
              <a:t>a  e  i  o  u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t_r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1927080" cy="1944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03280" y="170028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l_tt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55736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376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b_x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155736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2297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Comic Sans MS"/>
              </a:rPr>
              <a:t>v_ _l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155736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1557360"/>
            <a:ext cx="93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1998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280" y="1628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h_ndb_ll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155736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155736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958080" y="1484280"/>
            <a:ext cx="2185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t_nn_s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62864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162864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192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1641600" cy="1655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1729080" cy="1714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268360" y="4869000"/>
            <a:ext cx="1741680" cy="180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7845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164360" y="2492280"/>
            <a:ext cx="1825560" cy="1809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7236000" y="4797360"/>
            <a:ext cx="1768320" cy="1800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54936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e t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92428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lut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30064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box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54936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 vo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2924280"/>
            <a:ext cx="33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hand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530064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tenn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4-24T09:52:43Z</dcterms:modified>
  <cp:revision>43</cp:revision>
  <dc:subject/>
  <dc:title>Slide 1</dc:title>
</cp:coreProperties>
</file>