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F7A-50A4-4D7F-8318-97F21495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04E-716D-4B2D-AD2C-8014E41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F48-3ED0-4158-99CF-4CC714DE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885-DB88-4FD3-864E-EB6FF1B6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443-4773-4BD1-A99C-1FA7CC00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E76-EC4A-4134-896C-B7A1D70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4BB8-08E7-4F15-A50B-ED040F6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7B0-B916-43CA-91E2-BC61494E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8A51-1FF7-44CF-B91F-A24C865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E925-1CD9-4DEC-B3F4-AA9A0BEC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5945-0777-4E92-A2A0-3AF6BBF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9E1-9BFD-47F1-B8B3-0DCC6F22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F9A7-53EB-4A4C-AB36-231DBE0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977-3D6C-4CBC-B198-6034A0E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E62-BD6A-4051-927C-136890B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2D1A-70B6-4BB4-A950-8FECEF91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B18-50F7-4727-B079-FBC5E2EB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7511-1D52-4F03-8BEB-6147A599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F337-CD59-4525-B4C9-23F3DFA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2D5B-CBCB-4FC4-ACA0-AC8E04F7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C4FA-4090-4789-9E6E-9A73CB8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026F-607F-498B-8DC7-1F8A0B4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BCA-555C-4639-9397-A1FD157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134C-72F6-47A4-9B9B-C5F0218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04BE-6B77-415B-949E-70B234F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A0CE-270C-4661-8328-5BFF2D1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76CB-61E3-4295-924E-20297FD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B39F-CC70-40B0-B891-3F846CC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F7BA-FBAA-4A18-9A0E-0FEA5AFB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08D9-009E-4746-91B3-3ADF18E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4946-B1DA-4EF4-9419-F11CB573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977C-5346-4289-8609-11D79FEF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2555-6149-4243-ADED-CA9841F0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B1F-27DC-44D0-ABAA-E0D1168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8B64-DE25-45B0-8C33-E20820B1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4379-17E7-4102-BA22-AC1533C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A2D1-5572-4749-9D48-91CD625E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53E6-9D60-4E42-8CC7-8E18152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C855-F56F-48BA-B78D-F39AF7B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DA8F-B98F-4200-B470-897D60A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494B-8BBF-4F30-AE29-F2C9C8A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C66A-AB7A-46B1-B8DC-9CEAB833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502C-4D0C-49D2-9CF0-A17F33E0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0AE-54D0-4D1E-9C6E-CBF73CB8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DFD-1FB6-42A4-990C-09EFDEC9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54B-FD86-4A86-8677-53F65DD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3BA-B204-4EED-903B-F8DD3AA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9A9-065D-440C-BEA6-67236EC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B36B-C340-499C-9B61-52E9EFD9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D9D-F1A2-479D-8A15-4FC38E7D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F47-0371-4017-BC17-7A85E80682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497-844F-40CA-A905-3BCE24F064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33360"/>
            <a:ext cx="9144000" cy="60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a  b  c  d  e  f  g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 Sans MS"/>
              </a:rPr>
              <a:t>h  i  j  k  l  m  n  o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p  q  r  s  t  u  v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 Sans MS"/>
              </a:rPr>
              <a:t>w   x  y  z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43280" y="5157720"/>
            <a:ext cx="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16360" y="6165720"/>
            <a:ext cx="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5734080"/>
            <a:ext cx="217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95280" y="5734080"/>
            <a:ext cx="215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3640" y="5157720"/>
            <a:ext cx="14436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339640" y="5300280"/>
            <a:ext cx="14292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3000"/>
            <a:ext cx="71280" cy="144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40000" y="6021000"/>
            <a:ext cx="144360" cy="1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20638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356000" y="476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super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92428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pas m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5516640"/>
            <a:ext cx="47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’est nu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40464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omic Sans MS"/>
              </a:rPr>
              <a:t>a  e  i  o  u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t_r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1927080" cy="194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170028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l_tt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55736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376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b_x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155736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2297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omic Sans MS"/>
              </a:rPr>
              <a:t>v_ _l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1557360"/>
            <a:ext cx="93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1998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1628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h_ndb_ll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155736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958080" y="1484280"/>
            <a:ext cx="2185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162864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t_nn_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 e  i  o  u 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62864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628640"/>
            <a:ext cx="14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192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1641600" cy="1655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172908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68360" y="4869000"/>
            <a:ext cx="1741680" cy="180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7845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164360" y="2492280"/>
            <a:ext cx="1825560" cy="1809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7236000" y="4797360"/>
            <a:ext cx="1768320" cy="1800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549360"/>
            <a:ext cx="21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e t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2428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lut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30064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la box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54936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 vo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924280"/>
            <a:ext cx="33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hand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53006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e tenn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4-24T09:52:43Z</dcterms:modified>
  <cp:revision>43</cp:revision>
  <dc:subject/>
  <dc:title>Slide 1</dc:title>
</cp:coreProperties>
</file>