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0A9-D6ED-49EC-8D9D-85549723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994-4290-4859-9147-39AFD161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B8B-D795-4F5F-91EF-CE521514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EFB-C1A5-4589-AC2E-4BEECB71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2FD9-6360-4332-A048-61B27E92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4911-A4D2-4264-9084-53FC6200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81A6-E351-4D6E-B269-FF2312D4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CD72-4986-4983-B631-456AF371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2103-C991-4BE4-994C-6B59D605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FD6A-7280-43E7-953F-3BC6B4B8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9009-5785-484F-A452-DA18BAC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AE2-6F9D-439A-A442-67D8C53D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E1FD-B7EC-4CBC-8BD0-6FF4F77D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4A6A-FA7B-4177-A188-1D724F5D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303B-3BA4-4F31-B5C0-C91453F4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3CF8-114B-471E-8AAB-356E186D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52E8-4E1C-4F84-AC1E-F30CA856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7176-4693-458F-AC0D-AE97D379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AF8B9-6CE7-4F37-B143-7044A427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977E-FD54-4473-9C59-27204259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89210-644F-4DE2-87BA-7C6C7551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7C17-EBEF-44BD-95F6-A6CEA09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2D1-EE23-494E-B5BA-D941E8F1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280B-490F-413C-93AD-5648EAC3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9920C-21F6-4447-9EF3-AE8FB2E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B926-8FBF-4FFF-A8FB-B565DCC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CB00-18D1-44C1-B753-8D15A0BF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050E-6600-4CFB-89CA-3B51FAB5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7BF3-79D1-4F4D-B3E8-59D71B82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0F42-405B-4758-BBDE-26996C87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89161-73F7-4D3E-884E-15294797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BDAB-2C73-437B-B1C7-591A2231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41336-D18C-4503-8A55-77EC3379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FB1-1F2D-4528-B8CC-96FD119C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E12C-E048-4F88-8F1C-8073991E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D037E-8E7C-41DD-97B2-7FBEB60E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4F583-05AC-49F9-BAAE-42E5EB70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0B126-7B7D-4B0F-9FD2-2A04C634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57AE-EBDF-44F2-B7BB-0D40ABA1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2C3B-266B-47D6-9786-A52B8972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EF2A4-ADE4-40EA-A655-C94CED33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40A6-8B45-4CE8-B8AA-883707F8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5B90-4296-479B-ACE8-EC42CE1E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1A0-FE9D-4972-A3CE-53945D62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B73-98B1-4D7A-AB14-D6D9F1C8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307-1295-4C3A-B030-A118779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F15-BA64-40D0-822F-8D53AB66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61A-3DCB-4A72-AC93-E9D23799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18BA-1255-4869-855D-CDB057370F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AD30-5B65-42D5-B7F7-9C9D63974D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3771-581D-4FE3-BD15-C045D0E34D1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129B-9B8C-4EDD-9728-2AEEED6E9B1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trois mille huit cent quarante-deu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384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sept mille cinq cent</a:t>
            </a:r>
            <a:br>
              <a:rPr sz="7200"/>
            </a:b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cinquante-et-u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755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mille deux cent</a:t>
            </a:r>
            <a:br>
              <a:rPr sz="7200"/>
            </a:b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soixante-quatorz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127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deux mille douz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205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201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93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eadcf7"/>
                </a:solidFill>
                <a:latin typeface="Comic Sans MS"/>
              </a:rPr>
              <a:t>Londr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4-24T09:55:02Z</dcterms:modified>
  <cp:revision>64</cp:revision>
  <dc:subject/>
  <dc:title>Slide 1</dc:title>
</cp:coreProperties>
</file>