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9C6-99D4-4AA1-B0A1-4D0986F6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F90-DCAB-43DF-8817-04897E41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A72-F89B-49DD-A2BE-A9932316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593-4B81-444C-94E4-0424B1FF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DAFF-B2E6-4141-BE16-7465C2CF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26A-7E1A-4757-A214-E9A0B5F1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C1D4-3680-47E3-B2B2-99F7996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674-ADF2-4AED-9951-37FCDA73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144-1384-4BCB-AFDF-71BD5D66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14C0-F52A-4921-9F2A-DADA2CA5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9182-B930-41F2-9130-D1618368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BDC-E0C4-4637-8F5F-6D6625FA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9710-7A40-452C-B894-D097FFB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5F96-FF89-47D4-949C-C94F210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BCCD-3C5B-4209-9621-2469776E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2711-5E04-4BB0-9A69-F2A3830F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5BC-7C9E-4C07-81B6-C93C3824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0A4A-E643-416A-9678-849BC52A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96F4-6ADC-4A92-9F16-B5543850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81A6-8CBA-458A-9D79-9F464361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D67E-70EF-44A1-8361-4F53401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3633-1EC5-45BE-94F7-CADB111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E53-B21F-45E7-A01F-CBDAA11A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9B8A-E367-4455-A719-88B6531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71D1-B0E0-4016-9A01-F5AC24A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78B8-1776-4E0B-A335-4F3E9F7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0C38-BEEE-4075-B86C-BA54487A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48F7-6FDD-4F79-9646-E0B7A48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A202-E99D-401A-846D-0E45F871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600A-62FA-4419-B47D-7F6296AA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F071-F61F-4919-A07F-0776F07C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9D9D-965F-4467-9504-D0A16B04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E263-1023-4C3D-84DA-EA80D616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E94-A5EF-432F-B7C7-2DA6058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754E-CBD8-4B97-A2E6-3E48F3FC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A6E0-739E-43F3-B786-EE43A7C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7531-A772-4495-AA8D-49F0C04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FCDE-E231-4C5D-8CC7-8AB4689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CA19-CFD6-4649-8583-5AB0CB4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1CCB-B718-45D3-9FFD-495699E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5C1F-6274-46D2-999B-CA9D25AB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FC00-061F-4224-84D2-1B9A3FA4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5805-1722-4C97-ACE8-B766233F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0D7-037E-48B6-AD35-46AB882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1EE-3636-49A0-8552-7CA58A85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D11-68A4-4AFC-9A01-213ED76D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0F9-F8E8-4437-A000-358D8AC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D10-3C85-4327-890D-B5526F9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3AE-6F91-4675-B93C-04CE97B4E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44F-4AA3-4688-8A98-F7089408C2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13BA-94B6-4095-8739-7191F2071B4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CD6F-E268-4D91-9EB0-4916B78BD13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trois mille huit cent quarante-deu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384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ept mille cinq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cinquante-et-u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755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mille deux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oixante-quatorz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127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deux mille douz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205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201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9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eadcf7"/>
                </a:solidFill>
                <a:latin typeface="Comic Sans MS"/>
              </a:rPr>
              <a:t>Londr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4-24T09:55:02Z</dcterms:modified>
  <cp:revision>64</cp:revision>
  <dc:subject/>
  <dc:title>Slide 1</dc:title>
</cp:coreProperties>
</file>