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72A-1E19-460F-96D5-B057D3E3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050-B0A7-4811-85C8-D64C387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2AE-6908-419F-873A-032533AB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D75-3E33-460E-BB30-89D3E85F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97A-9730-4629-B792-FE064447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B6A-A711-4176-ACDA-31D3065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4DFB-5CEE-4C04-A5A2-69CC8DB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8E2-226B-4BBD-8AF7-AF85BD2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C6BA-B92A-4424-BBDB-38786E5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555-D68A-409C-9B43-6C87486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374-A076-4F51-B5D2-E7EBA27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14A-809F-4273-A05A-3224C369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0EF-97C1-4435-9D9B-5FBDA5F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9AC9-8E43-4C3B-876C-0554B2F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8A6-B70A-492F-9668-E269E60E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AC18-75E7-4B80-B051-1A7FF9EC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0945-8125-4C68-961B-221F3C9A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CEF6-3D72-45BD-B21E-D304A81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2EC9-D7E9-4556-9BCB-4BFE848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CF90-1442-4AB8-B804-447AE82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41FB-FDD2-411B-8E24-2C0134A8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3F28-8C15-45FB-8323-550B4A30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C04-1698-44DE-B654-6C8D1C9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3E71-0340-4F24-ADB4-0EEDA286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FEEC-D712-4CDF-928D-D90BAE2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812A-D73C-4FED-86CB-22E7FD0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BFA3-8476-4329-BFDC-337AED6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1398-25FC-4AEF-B77B-9A1630FE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84BC-643F-4E5A-8001-BD59BF90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A727-236C-4F75-A334-A176B176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D68A-0823-477D-AB8E-225663BE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949C-CE20-4B08-845F-63AFB57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10FA-939D-4A73-98A9-EBE9F41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8BA-1831-45DC-BF30-3302DC6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EFDE-9177-43F7-9DB2-81D02450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1747-6A5F-4D03-A554-0F0FC6C3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AC62-D7CA-4FFD-A9F6-CA79005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2843-755C-4CB6-A3AC-BB93065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A03B-70FB-40BB-99C8-DDC44E4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BA3C-AE69-4102-B292-434EACC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5861-C5FB-4EC7-A48D-1C3538C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4F72-8927-4339-A032-BF6E7EC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4093-2390-47E5-A2C5-401CBEA5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7ED-EC77-4F0B-B5B8-FCFC6B46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245-6CCE-4D3D-8697-1D46ED1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AB7-DB84-4FD0-AE93-2634B57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B74-3472-4C26-AD98-8161667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934-27AF-4DB1-8CFA-36624D2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78B-390D-4529-B69E-E1C73CE2E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AE1-1109-4D1A-B825-A470DEE484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9AD-69C4-4A92-A326-37CD7D5910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CCEC-922B-4086-A7EC-DD52FBE536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trois mille huit cent quarante-deux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3842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ept mille cinq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cinquante-et-un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7551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ille deux cent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soixante-quatorze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1274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deux mille seize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2205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Comic Sans MS"/>
              </a:rPr>
              <a:t>2016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eadcf7"/>
                </a:solidFill>
                <a:latin typeface="Comic Sans MS"/>
              </a:rPr>
              <a:t>Rio de Janeiro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2-26T12:31:04Z</dcterms:modified>
  <cp:revision>65</cp:revision>
  <dc:subject/>
  <dc:title>Slide 1</dc:title>
</cp:coreProperties>
</file>