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8043-BCCA-406A-921C-84146450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161C-2C12-45C2-B075-B0DAC7E3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615C-6447-420F-8C31-95115C35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87CD-D7BE-4569-A719-BCB22D8C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A355-9ED0-4023-B0FF-4539CDF3A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4078-9FBD-4374-9783-673FA373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648E-B156-4539-867F-A7997524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7882-4E09-4C88-A772-A324FFCF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6CDF-F004-45B4-A954-C8D484DD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7F98-6808-48BA-BA9F-21191C4A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050E-6319-4D73-95A4-7E189106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063A-14AD-4E44-ACD7-46E77D50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B753-A63D-4591-8345-25783A76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D4F3-3394-4F42-B7F4-2E423FBB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1ECB-A777-4BCD-8B52-FD062DD2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CB16-FC81-4CC4-B510-0153ACB5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24B3-1BEB-42DD-B3AE-98CE7DF76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29EBC-E19E-4FD1-9097-48D6946D3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57E4E-D519-44EA-A225-8B883AA4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1E912-E5AF-4EFB-9102-48ED95E6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A190C-CBFA-42EE-8998-E1F36CC1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8312C-7AF6-44A0-8448-B3671C00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E5EE-EC86-4EFB-9768-F57C8982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FE42E-2764-4E5E-BAA5-7D330B24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7B671-6C5C-40FB-A396-275CC3CB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A19E5-2002-4006-A683-C770B9C3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B420E-349A-4A83-9C76-F781E4DF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33109-F4B4-4896-B4FF-A6C475A7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58981-C2BE-42DE-96C8-86370734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C9F66-D7F3-4CAA-992B-964AC45B6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78213-C1FC-412A-9F1C-467EF399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1C925-50D6-4ED1-B6F5-2FD5FBB4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AE67B-720B-48BA-ADF5-7465C85A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8994-1E6B-4B97-B5DC-98BA3499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79B35-D5AF-4197-BDAE-BC896664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483DE-D80A-4F1B-8188-2E7BB32A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8CE69-DAE2-4A7B-BE45-0A8D44AB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003B9-D532-464D-B63D-C4B86944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62FBE-953E-46AB-A619-619DB3EF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B26FE-C6AE-420A-B66D-A280F1DB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9C920-7E91-42A0-8197-18778BD8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0C1BF-056A-4442-B525-EEBDE4591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5CDC9-50D0-42B3-A705-576145B3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925D-DCAB-420C-B453-24039359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299B-0BBB-4F12-8ACF-B1DABD70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ADB2-FEB8-4C62-A729-F76B8496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7C2E-6907-4FA3-9EC9-ECAE1A49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1030-FB93-419F-9A7D-DCB90668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9846-61A0-4C8A-82C7-4CB26FCD58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18CA-339B-4F19-87A8-C006467462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EA33-9436-4CB1-A208-3868EA6982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0374-95E5-4B6A-84C7-03B600BD39E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5"/>
          <p:cNvSpPr/>
          <p:nvPr/>
        </p:nvSpPr>
        <p:spPr>
          <a:xfrm>
            <a:off x="0" y="3333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trois mille huit cent quarante-deux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0" y="29973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3842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0" y="3333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sept mille cinq cent</a:t>
            </a:r>
            <a:br>
              <a:rPr sz="7200"/>
            </a:b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cinquante-et-un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0" y="29973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7551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0" y="3333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mille deux cent</a:t>
            </a:r>
            <a:br>
              <a:rPr sz="7200"/>
            </a:b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soixante-quatorze 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29973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1274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0" y="333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deux mille seize 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0" y="2205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2016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0" y="3933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eadcf7"/>
                </a:solidFill>
                <a:latin typeface="Comic Sans MS"/>
              </a:rPr>
              <a:t>Rio de Janeiro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6-02-26T12:31:04Z</dcterms:modified>
  <cp:revision>65</cp:revision>
  <dc:subject/>
  <dc:title>Slide 1</dc:title>
</cp:coreProperties>
</file>