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13F-B1E0-41C3-BA11-E10D9058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BB5-1ABB-492A-9423-41AB007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AC1-54C4-4F11-B29B-1868CDCA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9D3-BBCD-435D-8AAF-096729EF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1DBB-D4C4-4768-B33A-3C346465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6B74-AFC4-49A5-A246-73DEDD1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99A-F536-4C80-86ED-B391B6F6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0EBE-042B-4C11-A8BB-837F850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F17D-C096-4172-B74E-B7D03D6C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5002-6FB2-43DD-A9C9-5A92727B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CAC1-B525-4DF7-BB1D-6DE249B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BE3-82C4-4552-BFE3-09573C4E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3336-362B-4054-BEEC-543D031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44B-2EBE-4260-9B44-6A9D0A1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BD6F-00FB-42F5-B8C0-88B6D9CF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EE7C-D162-4510-AE41-3E00BB98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E9F2-D0A8-47CE-A1F5-6022A29C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00B3-79E6-44E3-97D0-06A448D0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FA06-64CA-4E32-9EC0-4C15366C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8CA2-823E-438E-B07D-6B447EFE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32F6-1836-4B06-A7C1-FC58B176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0880-B1CC-4D2F-AADC-2807B9E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934-CAA8-4A20-B312-AEB4D12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5FAC-4274-4094-ADCA-E64ECB4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2B43-CE03-4BBC-9CA3-11020C6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2FDE-E318-4F67-8003-4BBFAAA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B738-0C31-4D02-9E2E-F9EC68CE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B6FB-2A7F-456A-AE2A-77430382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2E33-0426-4636-8A1D-6FB0594C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4C2A-ACCB-42F7-B9DE-9BB64B29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E811-6482-4A99-A0D2-74D87DCD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7246-5B3E-44FE-B0CB-5033C4C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ADFD-53FF-4D96-B55A-1AAF7EF3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0F4-BC41-4F31-91FB-EFB6CD03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068F-611B-46D6-B3B4-5E057764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89E2-160F-47CE-85AE-73B0EF6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CB0D-E1DE-418A-8C11-40B300A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1875-3DFD-449E-AA8F-BAC0D1C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D8CC-3692-423B-B703-C1E183D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F9DA-E75F-4D3D-A594-1D1BED3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FB3F-2C29-4CD0-AD70-D8B38C8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B9AB-4235-43D2-B887-0AD890DB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05F4-F1D2-4BB5-809D-F5AE5D4B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3DE-59D5-47C0-A1FE-4EF462EA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0B5-302A-437E-8739-2653EFF8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2EF-1BBD-43EB-834C-4C2A2FC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987-68FF-4C88-A5D3-7B56518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7C1-07E1-46F1-8DC0-030FCEA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A0A6-DF14-4EFB-A381-5435AB9D1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516-3A67-4195-BF77-8E18353B2F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1F1-BD01-4A98-BECD-DDBAD89806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475-FAD3-4780-B215-91B43F4403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413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.26.3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.17.3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.24.3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.9.3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4824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1976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6-05T19:44:41Z</dcterms:modified>
  <cp:revision>50</cp:revision>
  <dc:subject/>
  <dc:title>Slide 1</dc:title>
</cp:coreProperties>
</file>