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95D8-36DE-49E3-9D52-B01BCAC17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67D3-ADC5-4F4E-8447-0F83E0CE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7C00-45B6-4345-82EF-D5EB22F5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8836-D17E-42C9-998E-2EAE55805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6353-FAEA-4093-9DDE-AF8E6D8B0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4402-74E8-4A6E-B220-7D144106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A40E-ED99-4F3D-A4A4-5DF66E33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5B5E-211E-4A61-9064-444B816E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F2AF-1D6A-41C5-A982-D866C4C6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3263-91AE-4E78-BF94-F31CD992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C309-60CA-43C5-A24C-E0D5BA01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CEAA-C003-4C9E-BA14-ECFA8399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DDE6-A694-4DEF-B3CC-CD96792E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ABA9-FCA5-4B18-9ED6-C6895398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656E-8348-4A20-BBAC-9274B118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CD3D-C578-4309-B3FD-B56D1619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0B5B-EFB7-42A7-AD59-7B7C2C390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2BB30-E1A4-428D-8FC6-0826F874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75637-26A8-4087-AC56-A5B8B777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E197F-8C70-458E-99CC-D30A1B50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C5247-935C-448B-B2DB-26A1B573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94533-E55C-493F-9E3B-28871429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5E34-EFAF-418A-9A74-45AB102E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962D2-1597-4BA9-A3EF-6F2C72E7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940F5-A95C-4629-80DA-B0789F62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11FE2-5EC9-4768-A928-C8AC4E11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A6663-EDA7-4284-B6EF-0CCCC658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BC553-9531-4BFE-A005-CDE80525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BAB14-45D2-4160-9888-31E1A8E9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3DA48-3D89-4656-96CD-A2C1EFAB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0C0A5-EAB0-4FDE-9972-CB43EAC8A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1468F-E513-4896-96AA-D7B2D889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EBCC9-723F-4D92-B86E-95CE7C90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ECCE-6224-4B3D-8F84-B6492647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B5322-7DD1-4BC0-9A1E-83224054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C9CC3-8364-4BA8-82FC-A806DE31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66C13-7200-4823-995E-6C7C1517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6188F-C692-4AF4-A588-A6236CF6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D37B8-3B77-4EAC-B15B-2B27F82E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D13C6-9517-4132-A582-EF1BC633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A3447-4129-49B5-8970-3D3A10BB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42ABA-4343-4408-9E0E-1955C8361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5FEB3-352E-4C9B-A7D8-1F5A21C2F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A5BB-BCCD-4821-AB78-34A2FDAD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ED9E-AF44-4DFB-9251-689BEB90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BAB9-BF15-441F-A863-0D36CBA2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5914-2D19-4C90-A49E-658CDB7A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B2C1-B6AF-44F0-B01B-2BA39F1F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042E-963F-40F7-9377-1F83D810C7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E852-9768-4122-B618-7A0BE05D39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CC5A-C898-4918-AE67-3BE3D10A8F2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9840-E1A2-450B-BAB8-06A16B2FDBC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826920" y="1413000"/>
            <a:ext cx="756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f"/>
                </a:solidFill>
                <a:latin typeface="Comic Sans MS"/>
              </a:rPr>
              <a:t>Français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4713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692360" y="26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19280" y="1628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2852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79640" y="3284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189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12000" y="2276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00720" y="19890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16720" y="16286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59640" y="1268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59640" y="9079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940360" y="620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40360" y="18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44000" y="285264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620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604360" y="1916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88360" y="148428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88360" y="26028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08360" y="29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3357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24360" y="37162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51280" y="400536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08360" y="4365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27640" y="4365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940360" y="4005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56360" y="3716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7640" y="3357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867280" y="2997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43640" y="2637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51280" y="1268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64000" y="1628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95640" y="1916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80000" y="2349360"/>
            <a:ext cx="50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35280" y="2637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51280" y="9079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56000" y="544500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1.26.3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47131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692360" y="26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19280" y="1628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24000" y="2852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79640" y="3284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80000" y="189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12000" y="2276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00720" y="19890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16720" y="16286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59640" y="1268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9079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940360" y="620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940360" y="18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244000" y="285264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4000" y="620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604360" y="1916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388360" y="148428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88360" y="26028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29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067280" y="3357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24360" y="37162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51280" y="400536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08360" y="4365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227640" y="4365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40360" y="4005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56360" y="3716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27640" y="3357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867280" y="2997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43640" y="2637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51280" y="1268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64000" y="1628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95640" y="1916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80000" y="2349360"/>
            <a:ext cx="50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35280" y="2637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51280" y="9079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56000" y="544500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2.17.3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47131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692360" y="26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19280" y="1628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24000" y="2852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79640" y="3284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189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12000" y="2276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00720" y="19890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16720" y="16286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59640" y="1268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59640" y="9079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40360" y="620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18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244000" y="285264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620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604360" y="1916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388360" y="148428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388360" y="26028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08360" y="29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67280" y="3357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24360" y="37162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400536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08360" y="4365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227640" y="4365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940360" y="4005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56360" y="3716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227640" y="3357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2997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443640" y="2637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51280" y="1268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564000" y="1628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95640" y="1916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80000" y="2349360"/>
            <a:ext cx="50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635280" y="2637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51280" y="9079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56000" y="544500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4.24.3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47131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692360" y="26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619280" y="1628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124000" y="2852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79640" y="3284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780000" y="189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12000" y="2276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00720" y="19890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516720" y="16286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659640" y="1268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659640" y="9079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940360" y="620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940360" y="18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244000" y="285264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564000" y="620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604360" y="1916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388360" y="148428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388360" y="26028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08360" y="29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067280" y="3357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24360" y="37162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51280" y="400536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08360" y="4365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227640" y="4365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940360" y="4005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156360" y="3716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27640" y="3357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867280" y="2997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443640" y="2637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51280" y="1268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64000" y="1628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995640" y="1916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80000" y="2349360"/>
            <a:ext cx="50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635280" y="2637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51280" y="9079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556000" y="544500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3.9.3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4305600" cy="48243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41976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6-05T19:44:41Z</dcterms:modified>
  <cp:revision>50</cp:revision>
  <dc:subject/>
  <dc:title>Slide 1</dc:title>
</cp:coreProperties>
</file>