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C7D-CD09-4037-ADF6-7A8D13D0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511-2A6C-4628-BBEA-F6AAC7D3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FAE-5866-4EBD-B6C3-F1556F13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A53-210B-4E2C-AB5D-99C44007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3D0C-0193-4704-B2C8-0427295C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0309-A37E-4F4D-9788-EB6288C3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CC2F-B050-4D7F-AA7D-62CD150F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DD03-7831-4DC3-B0C4-9EE2B84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FADB-C41A-4B22-B177-BA97F723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305-EC0D-4996-B8A2-623AD82A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841F-B9DA-43C8-BB6B-D22DD98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96E-CBB0-4C08-ABE6-EF656E3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DD41-D1D6-4AFD-ADC0-6F580A23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970D-DFE8-48B0-9E19-629687B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BD51-8265-44D2-B816-36C03AF7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D588-B5D3-4EC8-B89B-8E47577F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7C8A-5C61-4748-BBFC-78D5FC3D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79E5-DD24-4CBB-88C9-BEF662FB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F0AF-802B-452E-91D2-DCB2CD1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DAD3-14DF-49D1-982E-D2C077E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3684-2C24-47E6-BE0F-26F85314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E993-6727-4F5B-8A87-A5D05A11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C82-83DF-4481-AE14-79711591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710E-86BC-43A9-B936-D939A1A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FA3D-37DC-4B18-94D9-4A940E0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50F8-28D7-422B-9AAB-BA80659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16AC-7B93-4604-A2D4-0F68B7A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A584-FF24-4E85-929A-F537313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E98D-FA45-4E8A-BC53-9B0BECC7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BDB8-9A15-40D2-8447-2E735B0E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9CA7-1FB9-4FD3-96DB-1D5D0E3D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5079-4DCF-4F98-B856-85C34119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11AC-CF61-4C94-A035-5B237D6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6B4-3DF0-4F53-B5E4-14053565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2434-3ED8-462F-BFBE-AFA5003A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CAB4-D35F-463D-94AE-B96BCDA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783B-1876-453D-9DFC-719724C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F9CA-8299-4F60-8BC4-3382F7D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110D-9F0D-4CD3-8090-05A41C9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AC3B-B2BF-4406-97E8-46B90E7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32E1-DFAB-4042-913B-EAB1032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5628-1615-4711-A567-8278C551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ED8E-40D7-4745-A253-292F30A8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B3A-CE86-450C-9570-29D06B80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93F-AEC8-44A1-A69E-09E9AD3E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E5B-3E36-474B-A2C8-80DF415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8A9-B4CF-49CC-B11D-69235EA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F83-AB6F-4836-A1A1-9537F1B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0C11-8358-4DC1-B9AD-9887EBBA1F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7226-08E0-44F0-8F11-E5AAEFADBE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48F9-21D7-4C94-886C-29BCB7A3236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2248-9C21-4372-9120-3C345FE368B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1641600" cy="165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1729080" cy="1714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268360" y="4869000"/>
            <a:ext cx="1741680" cy="180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784520" cy="180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7164360" y="2492280"/>
            <a:ext cx="1825560" cy="180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236000" y="4797360"/>
            <a:ext cx="1768320" cy="180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54936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e t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92428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lut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30064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box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54936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 vo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2924280"/>
            <a:ext cx="33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hand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530064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tenn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20638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476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super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2924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pas m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55166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nu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56000" y="1922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do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1943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693960"/>
            <a:ext cx="47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544500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déte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31960" y="0"/>
            <a:ext cx="26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5-05T20:57:37Z</dcterms:modified>
  <cp:revision>46</cp:revision>
  <dc:subject/>
  <dc:title>Slide 1</dc:title>
</cp:coreProperties>
</file>