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84B-3210-4C38-813F-F203EFBD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FED-376B-487B-A1C3-40166E8A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679-7E2A-4404-A501-1D41EC72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F89-B8DA-465F-BE6B-431DCAFF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6708-0D09-4D77-B98B-BABE5F8E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01E1-226F-4721-98D2-2E534D4E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E067-AFEB-4CA3-89B0-3C1A3FB7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9FDB-BF9A-43AA-8310-9CA77538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82A6-B18D-4709-96A7-0F4FC578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5917-0CA4-41FC-8E1A-C7080A35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B787-DB21-4A20-ABD9-44402B1E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D3A-F630-4367-AB2F-E4F7E2BB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94B5-9FF7-43CA-B5F3-C6CEEE6D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BCD2-C0E0-4B8F-9854-B56373E4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F732-268E-45E1-9B4C-85336FA2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C509-980B-4092-A60D-4E38FAFF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30D2-39FD-433A-9102-9ADDEE91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F244-36B1-4E21-A250-F1132183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83111-6274-470A-B989-060D594F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66711-A210-49F1-B85E-17482550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CA54F-99DB-4E00-84EB-AB29B5E6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167F6-A387-4536-A979-FDA8FDDA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AB2-5F20-416F-A257-63095D59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758FD-342C-45BB-897C-B708736C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89AC1-410B-4566-9E43-F80A6459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4C2AF-3D89-4558-8583-B26B3E51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DC2D-B40B-4533-AB9F-5A708CC7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CCE7-8F13-43AF-A45A-D82C81C5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667A2-BCDC-446D-8712-48ECFCA0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DB16A-BD21-4E98-9CF4-ACAF8B5E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3DE2A-E096-45C3-8F72-65D865D9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5D3EB-1635-48B9-A55C-6EAB229F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50D9F-8544-4286-90C7-19C0E661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C7E-01BF-49F5-B9B2-F5C84A94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4BB84-DB0E-4CDB-9A57-2D614A49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F140D-B5A8-4BB8-A14F-D72314EE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2A31B-06DA-43C0-9EE5-6AC780E6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3D095-FF54-4273-A8B2-FAE4C615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FDF71-10E5-49C2-B6BE-6DDA73E0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B100B-508B-4C75-A293-91FF52C4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07F7E-9463-4058-A079-F68AEB4A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14EF1-7537-41DE-91F3-74AE93B2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A10BB-FFE2-4FE5-BCC6-F3954E0D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7067-9D4C-48BD-B095-4376A2BE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40E-D797-4F18-A48E-233F2899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896-A891-471E-9602-8A115FC7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C95-036D-41DD-97C6-C1617272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B4F-74C9-49EE-AB07-5144E9EF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7D41-984F-4FB9-81EB-31A157B553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C3C3-0148-47FB-BDB2-5B807E7FA4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9DDC-F91B-48E2-BF78-CDF760A4D96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5BA1-B763-46C2-82BC-06FC75F2DDE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1641600" cy="1655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268360" y="2565360"/>
            <a:ext cx="1729080" cy="1714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268360" y="4869000"/>
            <a:ext cx="1741680" cy="1800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7164360" y="189000"/>
            <a:ext cx="1784520" cy="1800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7164360" y="2492280"/>
            <a:ext cx="1825560" cy="1809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7236000" y="4797360"/>
            <a:ext cx="1768320" cy="1800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549360"/>
            <a:ext cx="21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le ti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924280"/>
            <a:ext cx="22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la lut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300640"/>
            <a:ext cx="22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la box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67280" y="549360"/>
            <a:ext cx="29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 vo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51280" y="2924280"/>
            <a:ext cx="334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e handb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11640" y="5300640"/>
            <a:ext cx="29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e tenn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20638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356000" y="47628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’est super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292428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’est pas m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551664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’est nu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356000" y="19224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’ado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194328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’ai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6000" y="3693960"/>
            <a:ext cx="47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e n’aime p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544500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e détes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731960" y="0"/>
            <a:ext cx="263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5-05T20:57:37Z</dcterms:modified>
  <cp:revision>46</cp:revision>
  <dc:subject/>
  <dc:title>Slide 1</dc:title>
</cp:coreProperties>
</file>