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AB6-63A9-464B-908F-7699BB1A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13E-D16F-4C72-8DF3-6E58DFAB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F65-5681-45D1-B909-E6B3574E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C24-47FB-475C-BBEB-4F5C311A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D270-C8D0-4B70-B282-1B32D764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6EEA-6B1C-41D8-A9E9-F516E504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5297-941B-4A9E-AC6E-AE9A2C7F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35B5-D33E-446C-B344-FC8BB15F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0A96-B07B-4CF2-A669-C46F1BBE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EC3F-6570-4ED8-B02B-299763C0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3001-B1C4-4177-8596-76814510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683-D2E7-4ABC-9C5F-080C364B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A01E-05F7-4460-8C9A-60A8C70D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FB0F-FF96-42BF-B11A-9F431276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36EC-451F-46E8-8AC0-66CC343C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CC5F-362C-4FC3-AD49-9B1F0EA6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DD23-E01A-4433-B013-EFA02DE1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42D72-1194-4682-B50F-4423A232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82E82-85FD-490B-8E69-561B6410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F0A3B-BD2C-443D-B2CD-93876966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F877E-C5D0-4AA6-8793-9BC2CBA9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6DA89-4031-47E0-B4D5-DB6CF529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3A3-35F2-4592-80F0-765A121D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7AA9E-3069-4762-AE29-262C8C63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1B6BA-B1FB-4ED0-A74B-8F340AB3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B8AB5-CE21-4B84-AB9B-B14778AD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D1A2A-742D-436D-AA51-15FCBBEA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8995D-8538-4468-9282-EDE2165A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D3A7-8DCE-4C1B-9A80-16CB6BC3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4C522-6173-4794-9B47-379883CB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E556F-D6A1-49D9-8157-313647B9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956F8-E361-4368-8A2D-AFCF60CD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AF6BE-6611-4B43-B6EA-BF68D3AE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FEE-99E8-4D36-BB9D-C3EA672B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1F8FD-030C-4109-A857-37BC04B6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EC11C-B9BF-47D3-A0A5-16AD9970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0529E-E241-4C4A-A3C0-B9836C39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FC78E-A9F3-4A0C-9A4A-D0D4EA63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97D0B-6BAD-4C21-8CF1-C78C57E2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7B3B3-83E8-4744-8CEF-B4E181E7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77126-A531-4542-BDE7-FF246773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5A9C8-BFA4-446E-B70E-63EE9011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86A28-F133-4395-BF3E-D2F9C20E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10D-A39B-45BD-9B83-39C2400C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615-AF02-432D-BD0F-7AF2A6AC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A13-3271-4525-810B-05EFE7C7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35D-572D-4A47-A76D-C564ACC3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D48-2B5A-4501-976F-48D9B7A9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68F1-263E-45D1-9BA9-749BAA2827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C301-5E54-4481-B708-74725B66A2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0F65-1229-4A46-B486-0D229E69EC4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F4A5-934B-4370-8F2B-B04F0469C01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2-02-20T11:24:29Z</dcterms:modified>
  <cp:revision>44</cp:revision>
  <dc:subject/>
  <dc:title>Slide 1</dc:title>
</cp:coreProperties>
</file>