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614-B93E-4606-96BE-46EEF947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536-5345-4A0A-8970-852E459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61B-E88D-4FFE-8F8C-9FBB5B98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777-850C-4C08-9FF7-8F9FC35B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F232-1B7D-4CF5-A27F-1716E3DF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BBB-0D27-4098-B74B-3031EFC9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986-0AF5-4F43-95FF-82873985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9025-AB70-467A-A1B5-677DDA5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3FC7-BD07-4234-816F-471A8F86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A0CF-519B-4C67-BAD5-16E2D68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B207-E385-43F1-B7CB-95D66AB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E10-88DD-4E8E-95B6-B531E8C4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76C-AE7D-41D0-B699-33D550D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8D43-D08D-41DE-A46C-3FE2A37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3D40-325F-49A5-98E7-B4C890E7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0161-FEB4-427A-982C-A67D87A3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AA6-674C-4E3D-9B08-EE82D45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BE10-0C33-47E7-801B-B50225F7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4362-8EE6-41AF-816C-18B3C184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8D39-1957-4959-8180-4AE7B48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C5B8-1188-45EE-B3FF-F857F4E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4542-BB9E-4B16-8723-FF12C10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136-61F5-4B63-BB0E-B749FF8A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3442-6EDE-41CF-838A-ED288409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1938-4514-4C15-9D5D-A49DE68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3447-A79E-4A6F-BE2D-74FCE5B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8512-5E0C-4E65-9E87-7590710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03FF-DBA9-4F89-A51D-9810CFB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94F0-10AD-4CCB-9615-81D2B716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3C88-FCAF-4E8A-A3D3-1210F1F6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BEFE-415F-4E98-9176-9EC67F4F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678F-71D9-4FDD-B729-D1C1602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0F20-AE6A-406D-B2A8-8708661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992-D49F-4CA4-A01B-1F6FDFB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8D70-C031-4E39-85EB-17727E76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A4F7-3B1A-4839-B238-D515F30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7C4A-B1B7-4498-8535-A612508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9FCB-B559-47A7-A25C-59773BB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A865-FCC0-4A52-9F77-22BFCC0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668D-5C3A-4838-BC5E-3463DB85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F946-8A29-40BE-9A72-51D02792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7D60-E799-465B-B02D-02C7670D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A02E-2FD4-404B-B545-5A94B07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828-D5F1-4B3A-933A-207DA56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679-57C1-424A-896A-B3A3E34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1FC-6E3A-49D1-919D-17B8129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BBB-090A-4323-911B-C342843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A77-AB63-4BDD-87B1-29FCDD3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2847-9A22-4BC0-9481-10144F16E9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1C4A-A97E-4A70-8FD5-C1E27A7A29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308-A33A-4D27-B7EC-A7065C0AEB8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6B6-19CB-4FB1-9F01-47576521022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4:29Z</dcterms:modified>
  <cp:revision>44</cp:revision>
  <dc:subject/>
  <dc:title>Slide 1</dc:title>
</cp:coreProperties>
</file>