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BADD-4D3B-497B-A946-C0039B06F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884C-FAE3-4780-9FF2-BDE2E3A33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2DAC-FB92-47E4-A0EE-F27C01A62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8154-52AD-4301-9DF8-1A5896F54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8E9FC-DF79-4DE3-98AA-CD25F06A7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B04C1-81CE-473F-AC9C-FAE985E27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AD053-5EB5-4D85-8928-A68B7831C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A0675-2693-45E0-B6EF-10EC22C1C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20B0E-435E-4C06-ABFC-D5EDF2AEE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C22A8-755C-4665-81F3-C419F901E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DFEC5-9187-4373-B535-215FB6BB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32DF-FD38-4DB5-B3D0-7496B1A38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C9146-6D78-44D1-A2DA-2205FE06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B5DCE-7FAE-4AAE-997E-5FEABD6B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A8FDF-8D3A-452E-880F-C9AC8CD7A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04EAD-3C75-4779-AA20-AFAB71688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41078-E089-4924-AA7C-1CFC3E1E4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5E692-9382-4297-BA7F-DA4503F19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A7209-6C3A-43D9-9572-A5476EE85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62693-2B01-4028-A0EE-CAC7C9A86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2E1B6-9CB0-4E39-86AC-69B8BBC8D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22335-EEB3-49DA-AC41-182A33625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2507-C878-40A0-8684-56DAC8401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6F4B8-CAD9-408E-82B2-278D870BB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087DF-493E-4BA0-B222-B95B6F91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DE6F6-CA87-4D21-B222-B1F5529F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4D162-46DD-4246-947B-574838E69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13BCF-9B7E-4716-B187-B993CD7FF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B7B5D-6F26-41AE-AEEB-A35B516C6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E6A24-C79F-4CAF-A9D1-599FBA7C5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063CA-EF11-4A5F-8D6C-989D4E410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0AA6C-AEB9-460E-B3AE-610057433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435C8-9B30-4DD1-8281-800FCF39B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0676-E233-4429-97D1-4FE63EBD2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6C71B-9464-475B-994C-F95A9EE47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87B74-49B9-485D-BFC3-3B5919F25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01286-A2E6-45A6-B922-143DA4C99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EED44-0297-47A3-8331-3E7EFA5A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AE7C7-5896-46E0-8317-91A898AC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6563C-813F-4CB8-BA1F-835C2DCC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0A6D8-95CB-49FD-9622-FC523EDA1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86F49-A70E-474A-BC36-7A7E6AE89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8696A-A2CA-4698-980B-BE39508D0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1F2F-CEF2-4B2A-9C5C-1B502A3C8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F717-EBDA-4CAF-AE9B-B374D48B6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FAED-1195-49B8-9ED2-6B19650B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0F20-3952-4A62-8012-29AB8AE3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C6FD-E5E8-437A-A5FD-D694DECE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AAB0D-33B0-4CE1-B9A5-96747FCE37F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37EE6-C877-450C-AD04-CDB956D56A4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3F54F-B70C-4D1B-8A18-81A33A21A4D3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5400" y="2130120"/>
            <a:ext cx="7313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CBC4E-262B-4CF3-BB2D-A649A33454CE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179280" y="189000"/>
          <a:ext cx="8713800" cy="5322960"/>
        </p:xfrm>
        <a:graphic>
          <a:graphicData uri="http://schemas.openxmlformats.org/drawingml/2006/table">
            <a:tbl>
              <a:tblPr/>
              <a:tblGrid>
                <a:gridCol w="871560"/>
                <a:gridCol w="871560"/>
                <a:gridCol w="871560"/>
                <a:gridCol w="871560"/>
                <a:gridCol w="871560"/>
                <a:gridCol w="870120"/>
                <a:gridCol w="871200"/>
                <a:gridCol w="871560"/>
                <a:gridCol w="871560"/>
                <a:gridCol w="871560"/>
              </a:tblGrid>
              <a:tr h="85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179280" y="189000"/>
          <a:ext cx="8713800" cy="5322960"/>
        </p:xfrm>
        <a:graphic>
          <a:graphicData uri="http://schemas.openxmlformats.org/drawingml/2006/table">
            <a:tbl>
              <a:tblPr/>
              <a:tblGrid>
                <a:gridCol w="871560"/>
                <a:gridCol w="871560"/>
                <a:gridCol w="871560"/>
                <a:gridCol w="871560"/>
                <a:gridCol w="871560"/>
                <a:gridCol w="870120"/>
                <a:gridCol w="871200"/>
                <a:gridCol w="871560"/>
                <a:gridCol w="871560"/>
                <a:gridCol w="87156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179280" y="189000"/>
          <a:ext cx="8713800" cy="5322960"/>
        </p:xfrm>
        <a:graphic>
          <a:graphicData uri="http://schemas.openxmlformats.org/drawingml/2006/table">
            <a:tbl>
              <a:tblPr/>
              <a:tblGrid>
                <a:gridCol w="871560"/>
                <a:gridCol w="871560"/>
                <a:gridCol w="871560"/>
                <a:gridCol w="871560"/>
                <a:gridCol w="871560"/>
                <a:gridCol w="870120"/>
                <a:gridCol w="871200"/>
                <a:gridCol w="871560"/>
                <a:gridCol w="871560"/>
                <a:gridCol w="87156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179280" y="189000"/>
          <a:ext cx="8713800" cy="5322960"/>
        </p:xfrm>
        <a:graphic>
          <a:graphicData uri="http://schemas.openxmlformats.org/drawingml/2006/table">
            <a:tbl>
              <a:tblPr/>
              <a:tblGrid>
                <a:gridCol w="871560"/>
                <a:gridCol w="871560"/>
                <a:gridCol w="871560"/>
                <a:gridCol w="871560"/>
                <a:gridCol w="871560"/>
                <a:gridCol w="870120"/>
                <a:gridCol w="871200"/>
                <a:gridCol w="871560"/>
                <a:gridCol w="871560"/>
                <a:gridCol w="87156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 Seccombe</cp:lastModifiedBy>
  <dcterms:modified xsi:type="dcterms:W3CDTF">2012-02-20T11:27:50Z</dcterms:modified>
  <cp:revision>48</cp:revision>
  <dc:subject/>
  <dc:title>Slide 1</dc:title>
</cp:coreProperties>
</file>