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471-4268-42FF-8A6B-FE6E1B1E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623-AEF3-4585-9C61-11DE9AA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8CB-DA54-4852-93F3-F4B482C4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B61-77B2-4842-8FC1-E6D95DFC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C50-49A2-4786-BE8A-35E7864F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8C73-F621-4D37-BCE0-26CBC060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0E1-9F6B-47FB-AA50-240DDD8D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618-8F00-4F33-A4C2-35DE9681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9AF-80C5-4028-AD97-1F94F1D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600D-8501-4E41-9CFD-A5959EC9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90C-3A6C-4710-A755-0C99DBF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044-7567-41F5-AA63-2728E54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3B3-5C75-4548-88B0-E788705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E277-F697-42DF-BC15-C41EAEF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40B-D66D-4819-A605-0060F2E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3EB-B995-49D7-AEFC-5387A659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33C4-3A9C-411A-8E8C-C47EE08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6134-F27D-4D90-ADDD-AAF6B071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77B8-B298-427B-B168-702B3E6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39E7-B13D-48E0-9AEE-90FF55C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0E87-B202-4DC2-9D7F-880481F5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5B16-21DF-46A2-B073-01306D0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D13-6A45-4330-B9C8-515454F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D009-F398-446A-92DF-97D8072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D53A-3005-40B4-8634-692A424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25D7-6FCA-418F-A40B-F1054FE0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2336-00AF-4337-851D-F4C5212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0AEB-037F-4D6F-92FC-757D1C1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969C-D1F3-4785-A7AB-CBAFBD54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E23C-9C6C-4CB8-A8FA-7703890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7E0B-7716-41FF-93B7-7B8803CA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1E70-02DA-4CC9-B77A-A5AFB92B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9F74-0902-4C3C-8D1E-E485C6E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507-18A4-400C-A7B1-77323F86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8766-CAE3-49F8-BEB2-FE96CAB7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7EEC-7A1F-4DF6-B917-A8E3851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8E6C-F8AA-4638-A191-15400B2E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5C23-CDC2-4553-8B21-D48C8C8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318C-C547-4D10-942E-9594F8B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CB26-B931-4C45-9AA9-E58AD61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773C-100D-4073-9214-F34236F6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E6D1-E7F6-4C9A-93BD-1808336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52EB-9E30-4D0E-A6BF-FE800447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19B-DA36-44A7-82F1-D97FA882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F06-AA1B-4DC4-BD97-94CC1D02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8D1-5B9C-4695-B26C-34C88FE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728-9F54-4DB0-8301-4F470B8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D10-FB4F-42E7-9E79-199687E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C28-4F49-4E02-9B18-F6B99744AB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DFB-94AE-4003-9130-17F4D3096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447-1161-45FD-9A5C-C1586A008DA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86F7-818D-4BA7-A642-D10DEDD2833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7:50Z</dcterms:modified>
  <cp:revision>48</cp:revision>
  <dc:subject/>
  <dc:title>Slide 1</dc:title>
</cp:coreProperties>
</file>