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8E68-7ADD-4D58-9BBA-AA3BDD64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1548-28C7-4A13-92C6-12E47700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6C35-FCD3-40D3-9E5F-DC8CEEFB8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07FD-ADA9-40B2-B0A9-0C8C60924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458C-1C5E-4428-B905-38083A4A5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530D-F9A6-4C09-8819-47CEF33A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243A-BC70-4551-BC2C-0511AC53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34E9-83BA-480A-B1DE-9FC48060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B6D8-3B92-4D6E-A0B6-64607894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10ED-6CA8-4A4F-B644-A1C6B2E6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CB9D-2CF8-4E56-A516-1F3D0B65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A7EC-F859-4F64-A9CE-C84F4DEB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229C-CC05-4ADB-8190-7BA41F73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7C4E-B050-4092-B2AA-70A3FA28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E310-F6D5-454F-9190-5B440DC9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EA75-6517-4F3E-B91A-86589097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762A-1F9A-4489-9DDB-DCBD8387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30B4C-52D4-416C-821E-62CC7BE1B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D8AD5-E472-4E7E-BAD6-7BE33CE8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8B83C-2C7B-4833-B56B-41C22DA1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955E2-3E35-491C-99FB-D87C1AA2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FBB3C-239B-4BE3-90C1-41A90388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B7C3-3AB1-4BF9-8F83-8F970BC0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C5ADF-F878-4756-8D39-C9ED9368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982D4-4402-4B13-89F4-493CB6BA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68E82-9FDA-4C58-92BD-2FAFF337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03780-61CA-4B94-95CA-F6225E25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8DC16-2381-4DDE-B0C2-44D14CF0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99F60-B7A5-4CF3-847F-D04793442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CF9DD-9069-4785-99E2-0D0F9BE98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EB274-BFFD-4259-9437-5749A1F09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48002-E409-4E3D-8B14-8C32D8E2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83283-E203-4371-8117-52D4424D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4120-C74F-49E3-9C1F-753FD821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EE47D-A6DC-4EA9-A55E-12E0ED41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41B8E-48DC-480F-AE46-84B679FF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02AC2-5178-48A3-9A73-40DC99CB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F0811-322E-443D-A85B-D8090198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6FE45-F9A8-41A7-AD6A-31EE12B8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8DE2E-9D09-4279-8386-6A73AEDD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36D8B-3147-4BAA-A8F1-DBD98D73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2004F-95DE-4F7F-BA79-BF1B29C9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78275-9EAD-46B0-A476-37F787E0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8F2D-1B18-40C1-B377-FC71B69B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1B41-F202-4736-9F36-20E5E51A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DF13-F528-4D2E-BDEC-CE54BCF6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6B7A-D17E-4EAA-91A1-D9A5F433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0C12-144F-4F37-A7BF-DCAC24A4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DED7-0EC3-4310-8B5D-700A045E85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78E5-193F-42E1-B5D2-53036583A9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9609-D716-4FCC-92E8-50B7740F90B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5DBB-A3E3-400B-B6F4-0C68A5338D9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611280" y="476280"/>
          <a:ext cx="8064360" cy="360036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8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611280" y="476280"/>
          <a:ext cx="8064360" cy="360036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8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1" name=""/>
          <p:cNvSpPr/>
          <p:nvPr/>
        </p:nvSpPr>
        <p:spPr>
          <a:xfrm>
            <a:off x="4067280" y="907920"/>
            <a:ext cx="1152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00000" y="2637000"/>
            <a:ext cx="115272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4360" y="98100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651640" y="2708280"/>
            <a:ext cx="1152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2692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84360" y="2637000"/>
            <a:ext cx="115272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30872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067280" y="2708280"/>
            <a:ext cx="1152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0828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611280" y="476280"/>
          <a:ext cx="8064360" cy="360036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8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611280" y="476280"/>
          <a:ext cx="8064360" cy="360036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8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572436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611280" y="476280"/>
          <a:ext cx="8064360" cy="360036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8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572436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8436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611280" y="476280"/>
          <a:ext cx="8064360" cy="360036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8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572436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8436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08720" y="270828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611280" y="476280"/>
          <a:ext cx="8064360" cy="360036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8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>
            <a:off x="572436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8436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308720" y="270828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40360" y="2637000"/>
            <a:ext cx="115236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611280" y="476280"/>
          <a:ext cx="8064360" cy="360036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8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572436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08720" y="270828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140360" y="2637000"/>
            <a:ext cx="115236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2692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611280" y="476280"/>
          <a:ext cx="8064360" cy="360036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8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572436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8436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308720" y="270828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140360" y="2637000"/>
            <a:ext cx="115236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2692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24360" y="270828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611280" y="476280"/>
          <a:ext cx="8064360" cy="360036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8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572436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48436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308720" y="270828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140360" y="2637000"/>
            <a:ext cx="115236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2692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24360" y="270828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0872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611280" y="476280"/>
          <a:ext cx="8064360" cy="360036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8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7" name=""/>
          <p:cNvSpPr/>
          <p:nvPr/>
        </p:nvSpPr>
        <p:spPr>
          <a:xfrm>
            <a:off x="572436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436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308720" y="270828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40360" y="2637000"/>
            <a:ext cx="115236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2692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724360" y="270828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30872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84360" y="270828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611280" y="476280"/>
          <a:ext cx="8064360" cy="360036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8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4067280" y="907920"/>
            <a:ext cx="1152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611280" y="476280"/>
          <a:ext cx="8064360" cy="360036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8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572436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8436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308720" y="270828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40360" y="2637000"/>
            <a:ext cx="115236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2692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724360" y="270828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30872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84360" y="270828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140360" y="836640"/>
            <a:ext cx="1152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611280" y="476280"/>
          <a:ext cx="8064360" cy="360036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8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4067280" y="907920"/>
            <a:ext cx="1152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00000" y="2637000"/>
            <a:ext cx="115272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611280" y="476280"/>
          <a:ext cx="8064360" cy="360036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8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4067280" y="907920"/>
            <a:ext cx="1152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2637000"/>
            <a:ext cx="115272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24360" y="98100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611280" y="476280"/>
          <a:ext cx="8064360" cy="360036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8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4067280" y="907920"/>
            <a:ext cx="1152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2637000"/>
            <a:ext cx="115272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24360" y="98100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51640" y="2708280"/>
            <a:ext cx="1152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611280" y="476280"/>
          <a:ext cx="8064360" cy="360036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8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4067280" y="907920"/>
            <a:ext cx="1152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2637000"/>
            <a:ext cx="115272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24360" y="98100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51640" y="2708280"/>
            <a:ext cx="1152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611280" y="476280"/>
          <a:ext cx="8064360" cy="360036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8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4067280" y="907920"/>
            <a:ext cx="1152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2637000"/>
            <a:ext cx="115272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24360" y="98100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51640" y="2708280"/>
            <a:ext cx="1152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692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84360" y="2637000"/>
            <a:ext cx="115272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611280" y="476280"/>
          <a:ext cx="8064360" cy="360036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8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4067280" y="907920"/>
            <a:ext cx="1152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00000" y="2637000"/>
            <a:ext cx="115272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24360" y="98100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651640" y="2708280"/>
            <a:ext cx="1152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2637000"/>
            <a:ext cx="115272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0872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611280" y="476280"/>
          <a:ext cx="8064360" cy="360036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8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2" name=""/>
          <p:cNvSpPr/>
          <p:nvPr/>
        </p:nvSpPr>
        <p:spPr>
          <a:xfrm>
            <a:off x="4067280" y="907920"/>
            <a:ext cx="1152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00000" y="2637000"/>
            <a:ext cx="115272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724360" y="98100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651640" y="2708280"/>
            <a:ext cx="1152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84360" y="2637000"/>
            <a:ext cx="115272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907920"/>
            <a:ext cx="115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067280" y="2708280"/>
            <a:ext cx="1152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4-01-10T09:37:10Z</dcterms:modified>
  <cp:revision>22</cp:revision>
  <dc:subject/>
  <dc:title>Slide 1</dc:title>
</cp:coreProperties>
</file>