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5183-DF32-4577-ABCF-DB2612DDF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0482-BB92-49F4-BB00-25071B1E6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446D-B10C-413F-8B16-2A97DCBC2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27ED-8870-4DB3-92A7-CFE559064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F5D8E-99AA-437C-8515-9F9585B8B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E35C7-9665-49BF-9FA2-8438DA694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32C73-6022-422F-A5A1-FA78DF4DC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DBB8F-30BD-4AEA-8450-0444FC794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04743-C74F-4269-A004-8C501B5C1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E033E-9167-46BB-8DC5-692AAAA16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2E7EF-9B10-4DFA-AF64-28F2EECB4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C884-9426-4B8A-87E5-26B9D2BFA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209D4-14A2-45DB-898D-6C600A923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9BCA3-60A6-4458-B47F-976461C8A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CB180-F36D-4ADF-8410-9CE8D817D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5A68D-DD05-475B-AC8F-06793BA33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759DF-CD2A-4E80-9B09-D9A9B82DA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28C92-E89B-4074-A8C3-CF9F9A78E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AE22C-F61A-4978-81EF-B370B95E1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83C1D-001F-4E81-9CCA-A69FA1729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49760-17A8-4570-AACE-3D57EE1D5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2B376-56CE-4F99-8F2C-171E197CC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041F-E089-4017-9541-7CA5620D7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47DBC-24AB-4DEB-B679-86978F6CA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1F2AE-AC51-4CD8-9CE8-064FA3491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53F7D-BFFB-425C-80B9-5CA2FF761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6E743-FFE9-4EB5-9F1B-7115F62AB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4305E-1B96-4B35-999F-D4D27CBF1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4A5C5-6794-42C0-A3E9-5D6900042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E2EDA-B0BF-4671-BBF7-AFE00B3AA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4D36E-C192-4F45-B236-216DC706C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E19CD-5384-4B98-AED2-37ABFB239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6C7DE-9BD1-4A9C-98A0-6014D9F6F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CAC2-4B39-4822-AD5E-1FE431386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4932D-3ACE-4B8E-8AF8-1E3B91C43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5A3E0-5453-4694-9D72-79FDBB131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4A9C1-A750-4B01-85BB-BC50EE725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EA594-952A-465D-8BC8-F1357D3B9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ED5A6-8A24-4DF9-8F13-F2E43C09C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BB1C0-94F2-4153-9AE6-7DAE98FD9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55466-38DA-4ED2-8EA4-C1F510E14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0928B-9B5E-4329-959C-E80EAFD73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C3D5F-4B61-4709-A1E9-A73F87591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3FF7-7AD1-45C3-AD49-EEEBB4CE8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F57A-E7F1-4B66-AC9E-B17CCED6E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9EE5-8404-4763-90D7-96B93DA7A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63AC-8CA5-4B60-B4BB-35AD796A1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F28B-1033-4692-8A33-95C54BB15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E9133-92A0-4859-9C49-0E1F2F49568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F6E8D-C350-443C-A7B2-CB703F6085D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B785C-4E9C-4799-9A9E-515F1C417DC3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130120"/>
            <a:ext cx="7313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722C5-207C-4BC1-911F-3712C7671A8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611280" y="476280"/>
          <a:ext cx="8064360" cy="3600360"/>
        </p:xfrm>
        <a:graphic>
          <a:graphicData uri="http://schemas.openxmlformats.org/drawingml/2006/table">
            <a:tbl>
              <a:tblPr/>
              <a:tblGrid>
                <a:gridCol w="1612800"/>
                <a:gridCol w="1612800"/>
                <a:gridCol w="1613160"/>
                <a:gridCol w="1612800"/>
                <a:gridCol w="1612800"/>
              </a:tblGrid>
              <a:tr h="180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1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2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3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4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5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00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6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7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8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9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"/>
          <p:cNvGraphicFramePr/>
          <p:nvPr/>
        </p:nvGraphicFramePr>
        <p:xfrm>
          <a:off x="611280" y="476280"/>
          <a:ext cx="8064360" cy="3600360"/>
        </p:xfrm>
        <a:graphic>
          <a:graphicData uri="http://schemas.openxmlformats.org/drawingml/2006/table">
            <a:tbl>
              <a:tblPr/>
              <a:tblGrid>
                <a:gridCol w="1612800"/>
                <a:gridCol w="1612800"/>
                <a:gridCol w="1613160"/>
                <a:gridCol w="1612800"/>
                <a:gridCol w="1612800"/>
              </a:tblGrid>
              <a:tr h="180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1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2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3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4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5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00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6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7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8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9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11" name=""/>
          <p:cNvSpPr/>
          <p:nvPr/>
        </p:nvSpPr>
        <p:spPr>
          <a:xfrm>
            <a:off x="4067280" y="907920"/>
            <a:ext cx="115236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00000" y="2637000"/>
            <a:ext cx="1152720" cy="93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4360" y="981000"/>
            <a:ext cx="115272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651640" y="2708280"/>
            <a:ext cx="115236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26920" y="907920"/>
            <a:ext cx="115272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484360" y="2637000"/>
            <a:ext cx="1152720" cy="93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308720" y="907920"/>
            <a:ext cx="115272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067280" y="2708280"/>
            <a:ext cx="115236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308720" y="2708280"/>
            <a:ext cx="115272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0" name=""/>
          <p:cNvGraphicFramePr/>
          <p:nvPr/>
        </p:nvGraphicFramePr>
        <p:xfrm>
          <a:off x="611280" y="476280"/>
          <a:ext cx="8064360" cy="3600360"/>
        </p:xfrm>
        <a:graphic>
          <a:graphicData uri="http://schemas.openxmlformats.org/drawingml/2006/table">
            <a:tbl>
              <a:tblPr/>
              <a:tblGrid>
                <a:gridCol w="1612800"/>
                <a:gridCol w="1612800"/>
                <a:gridCol w="1613160"/>
                <a:gridCol w="1612800"/>
                <a:gridCol w="1612800"/>
              </a:tblGrid>
              <a:tr h="180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1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2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3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4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5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00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6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7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8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9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1" name=""/>
          <p:cNvGraphicFramePr/>
          <p:nvPr/>
        </p:nvGraphicFramePr>
        <p:xfrm>
          <a:off x="611280" y="476280"/>
          <a:ext cx="8064360" cy="3600360"/>
        </p:xfrm>
        <a:graphic>
          <a:graphicData uri="http://schemas.openxmlformats.org/drawingml/2006/table">
            <a:tbl>
              <a:tblPr/>
              <a:tblGrid>
                <a:gridCol w="1612800"/>
                <a:gridCol w="1612800"/>
                <a:gridCol w="1613160"/>
                <a:gridCol w="1612800"/>
                <a:gridCol w="1612800"/>
              </a:tblGrid>
              <a:tr h="180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1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2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3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4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5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00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6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7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8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9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22" name=""/>
          <p:cNvSpPr/>
          <p:nvPr/>
        </p:nvSpPr>
        <p:spPr>
          <a:xfrm>
            <a:off x="5724360" y="907920"/>
            <a:ext cx="115272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3" name=""/>
          <p:cNvGraphicFramePr/>
          <p:nvPr/>
        </p:nvGraphicFramePr>
        <p:xfrm>
          <a:off x="611280" y="476280"/>
          <a:ext cx="8064360" cy="3600360"/>
        </p:xfrm>
        <a:graphic>
          <a:graphicData uri="http://schemas.openxmlformats.org/drawingml/2006/table">
            <a:tbl>
              <a:tblPr/>
              <a:tblGrid>
                <a:gridCol w="1612800"/>
                <a:gridCol w="1612800"/>
                <a:gridCol w="1613160"/>
                <a:gridCol w="1612800"/>
                <a:gridCol w="1612800"/>
              </a:tblGrid>
              <a:tr h="180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1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2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3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4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5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00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6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7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8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9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24" name=""/>
          <p:cNvSpPr/>
          <p:nvPr/>
        </p:nvSpPr>
        <p:spPr>
          <a:xfrm>
            <a:off x="5724360" y="907920"/>
            <a:ext cx="115272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484360" y="907920"/>
            <a:ext cx="115272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6" name=""/>
          <p:cNvGraphicFramePr/>
          <p:nvPr/>
        </p:nvGraphicFramePr>
        <p:xfrm>
          <a:off x="611280" y="476280"/>
          <a:ext cx="8064360" cy="3600360"/>
        </p:xfrm>
        <a:graphic>
          <a:graphicData uri="http://schemas.openxmlformats.org/drawingml/2006/table">
            <a:tbl>
              <a:tblPr/>
              <a:tblGrid>
                <a:gridCol w="1612800"/>
                <a:gridCol w="1612800"/>
                <a:gridCol w="1613160"/>
                <a:gridCol w="1612800"/>
                <a:gridCol w="1612800"/>
              </a:tblGrid>
              <a:tr h="180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1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2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3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4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5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00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6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7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8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9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27" name=""/>
          <p:cNvSpPr/>
          <p:nvPr/>
        </p:nvSpPr>
        <p:spPr>
          <a:xfrm>
            <a:off x="5724360" y="907920"/>
            <a:ext cx="115272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484360" y="907920"/>
            <a:ext cx="115272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308720" y="2708280"/>
            <a:ext cx="115272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0" name=""/>
          <p:cNvGraphicFramePr/>
          <p:nvPr/>
        </p:nvGraphicFramePr>
        <p:xfrm>
          <a:off x="611280" y="476280"/>
          <a:ext cx="8064360" cy="3600360"/>
        </p:xfrm>
        <a:graphic>
          <a:graphicData uri="http://schemas.openxmlformats.org/drawingml/2006/table">
            <a:tbl>
              <a:tblPr/>
              <a:tblGrid>
                <a:gridCol w="1612800"/>
                <a:gridCol w="1612800"/>
                <a:gridCol w="1613160"/>
                <a:gridCol w="1612800"/>
                <a:gridCol w="1612800"/>
              </a:tblGrid>
              <a:tr h="180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1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2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3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4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5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00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6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7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8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9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1" name=""/>
          <p:cNvSpPr/>
          <p:nvPr/>
        </p:nvSpPr>
        <p:spPr>
          <a:xfrm>
            <a:off x="5724360" y="907920"/>
            <a:ext cx="115272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484360" y="907920"/>
            <a:ext cx="115272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308720" y="2708280"/>
            <a:ext cx="115272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40360" y="2637000"/>
            <a:ext cx="1152360" cy="93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5" name=""/>
          <p:cNvGraphicFramePr/>
          <p:nvPr/>
        </p:nvGraphicFramePr>
        <p:xfrm>
          <a:off x="611280" y="476280"/>
          <a:ext cx="8064360" cy="3600360"/>
        </p:xfrm>
        <a:graphic>
          <a:graphicData uri="http://schemas.openxmlformats.org/drawingml/2006/table">
            <a:tbl>
              <a:tblPr/>
              <a:tblGrid>
                <a:gridCol w="1612800"/>
                <a:gridCol w="1612800"/>
                <a:gridCol w="1613160"/>
                <a:gridCol w="1612800"/>
                <a:gridCol w="1612800"/>
              </a:tblGrid>
              <a:tr h="180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1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2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3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4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5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00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6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7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8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9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6" name=""/>
          <p:cNvSpPr/>
          <p:nvPr/>
        </p:nvSpPr>
        <p:spPr>
          <a:xfrm>
            <a:off x="5724360" y="907920"/>
            <a:ext cx="115272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84360" y="907920"/>
            <a:ext cx="115272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308720" y="2708280"/>
            <a:ext cx="115272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140360" y="2637000"/>
            <a:ext cx="1152360" cy="93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26920" y="907920"/>
            <a:ext cx="115272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1" name=""/>
          <p:cNvGraphicFramePr/>
          <p:nvPr/>
        </p:nvGraphicFramePr>
        <p:xfrm>
          <a:off x="611280" y="476280"/>
          <a:ext cx="8064360" cy="3600360"/>
        </p:xfrm>
        <a:graphic>
          <a:graphicData uri="http://schemas.openxmlformats.org/drawingml/2006/table">
            <a:tbl>
              <a:tblPr/>
              <a:tblGrid>
                <a:gridCol w="1612800"/>
                <a:gridCol w="1612800"/>
                <a:gridCol w="1613160"/>
                <a:gridCol w="1612800"/>
                <a:gridCol w="1612800"/>
              </a:tblGrid>
              <a:tr h="180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1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2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3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4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5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00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6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7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8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9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42" name=""/>
          <p:cNvSpPr/>
          <p:nvPr/>
        </p:nvSpPr>
        <p:spPr>
          <a:xfrm>
            <a:off x="5724360" y="907920"/>
            <a:ext cx="115272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84360" y="907920"/>
            <a:ext cx="115272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308720" y="2708280"/>
            <a:ext cx="115272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140360" y="2637000"/>
            <a:ext cx="1152360" cy="93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826920" y="907920"/>
            <a:ext cx="115272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724360" y="2708280"/>
            <a:ext cx="115272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" name=""/>
          <p:cNvGraphicFramePr/>
          <p:nvPr/>
        </p:nvGraphicFramePr>
        <p:xfrm>
          <a:off x="611280" y="476280"/>
          <a:ext cx="8064360" cy="3600360"/>
        </p:xfrm>
        <a:graphic>
          <a:graphicData uri="http://schemas.openxmlformats.org/drawingml/2006/table">
            <a:tbl>
              <a:tblPr/>
              <a:tblGrid>
                <a:gridCol w="1612800"/>
                <a:gridCol w="1612800"/>
                <a:gridCol w="1613160"/>
                <a:gridCol w="1612800"/>
                <a:gridCol w="1612800"/>
              </a:tblGrid>
              <a:tr h="180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1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2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3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4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5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00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6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7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8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9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5724360" y="907920"/>
            <a:ext cx="115272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484360" y="907920"/>
            <a:ext cx="115272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308720" y="2708280"/>
            <a:ext cx="115272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140360" y="2637000"/>
            <a:ext cx="1152360" cy="93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26920" y="907920"/>
            <a:ext cx="115272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24360" y="2708280"/>
            <a:ext cx="115272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08720" y="907920"/>
            <a:ext cx="115272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6" name=""/>
          <p:cNvGraphicFramePr/>
          <p:nvPr/>
        </p:nvGraphicFramePr>
        <p:xfrm>
          <a:off x="611280" y="476280"/>
          <a:ext cx="8064360" cy="3600360"/>
        </p:xfrm>
        <a:graphic>
          <a:graphicData uri="http://schemas.openxmlformats.org/drawingml/2006/table">
            <a:tbl>
              <a:tblPr/>
              <a:tblGrid>
                <a:gridCol w="1612800"/>
                <a:gridCol w="1612800"/>
                <a:gridCol w="1613160"/>
                <a:gridCol w="1612800"/>
                <a:gridCol w="1612800"/>
              </a:tblGrid>
              <a:tr h="180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1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2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3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4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5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00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6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7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8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9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57" name=""/>
          <p:cNvSpPr/>
          <p:nvPr/>
        </p:nvSpPr>
        <p:spPr>
          <a:xfrm>
            <a:off x="5724360" y="907920"/>
            <a:ext cx="115272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4360" y="907920"/>
            <a:ext cx="115272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308720" y="2708280"/>
            <a:ext cx="115272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140360" y="2637000"/>
            <a:ext cx="1152360" cy="93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26920" y="907920"/>
            <a:ext cx="115272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724360" y="2708280"/>
            <a:ext cx="115272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308720" y="907920"/>
            <a:ext cx="115272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84360" y="2708280"/>
            <a:ext cx="115272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611280" y="476280"/>
          <a:ext cx="8064360" cy="3600360"/>
        </p:xfrm>
        <a:graphic>
          <a:graphicData uri="http://schemas.openxmlformats.org/drawingml/2006/table">
            <a:tbl>
              <a:tblPr/>
              <a:tblGrid>
                <a:gridCol w="1612800"/>
                <a:gridCol w="1612800"/>
                <a:gridCol w="1613160"/>
                <a:gridCol w="1612800"/>
                <a:gridCol w="1612800"/>
              </a:tblGrid>
              <a:tr h="180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1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2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3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4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5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00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6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7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8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9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" name=""/>
          <p:cNvSpPr/>
          <p:nvPr/>
        </p:nvSpPr>
        <p:spPr>
          <a:xfrm>
            <a:off x="4067280" y="907920"/>
            <a:ext cx="115236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5" name=""/>
          <p:cNvGraphicFramePr/>
          <p:nvPr/>
        </p:nvGraphicFramePr>
        <p:xfrm>
          <a:off x="611280" y="476280"/>
          <a:ext cx="8064360" cy="3600360"/>
        </p:xfrm>
        <a:graphic>
          <a:graphicData uri="http://schemas.openxmlformats.org/drawingml/2006/table">
            <a:tbl>
              <a:tblPr/>
              <a:tblGrid>
                <a:gridCol w="1612800"/>
                <a:gridCol w="1612800"/>
                <a:gridCol w="1613160"/>
                <a:gridCol w="1612800"/>
                <a:gridCol w="1612800"/>
              </a:tblGrid>
              <a:tr h="180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1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2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3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4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5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00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6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7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8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9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66" name=""/>
          <p:cNvSpPr/>
          <p:nvPr/>
        </p:nvSpPr>
        <p:spPr>
          <a:xfrm>
            <a:off x="5724360" y="907920"/>
            <a:ext cx="115272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484360" y="907920"/>
            <a:ext cx="115272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308720" y="2708280"/>
            <a:ext cx="115272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140360" y="2637000"/>
            <a:ext cx="1152360" cy="93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26920" y="907920"/>
            <a:ext cx="115272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724360" y="2708280"/>
            <a:ext cx="115272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308720" y="907920"/>
            <a:ext cx="115272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484360" y="2708280"/>
            <a:ext cx="115272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140360" y="836640"/>
            <a:ext cx="115236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"/>
          <p:cNvGraphicFramePr/>
          <p:nvPr/>
        </p:nvGraphicFramePr>
        <p:xfrm>
          <a:off x="611280" y="476280"/>
          <a:ext cx="8064360" cy="3600360"/>
        </p:xfrm>
        <a:graphic>
          <a:graphicData uri="http://schemas.openxmlformats.org/drawingml/2006/table">
            <a:tbl>
              <a:tblPr/>
              <a:tblGrid>
                <a:gridCol w="1612800"/>
                <a:gridCol w="1612800"/>
                <a:gridCol w="1613160"/>
                <a:gridCol w="1612800"/>
                <a:gridCol w="1612800"/>
              </a:tblGrid>
              <a:tr h="180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1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2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3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4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5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00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6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7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8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9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9" name=""/>
          <p:cNvSpPr/>
          <p:nvPr/>
        </p:nvSpPr>
        <p:spPr>
          <a:xfrm>
            <a:off x="4067280" y="907920"/>
            <a:ext cx="115236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900000" y="2637000"/>
            <a:ext cx="1152720" cy="93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611280" y="476280"/>
          <a:ext cx="8064360" cy="3600360"/>
        </p:xfrm>
        <a:graphic>
          <a:graphicData uri="http://schemas.openxmlformats.org/drawingml/2006/table">
            <a:tbl>
              <a:tblPr/>
              <a:tblGrid>
                <a:gridCol w="1612800"/>
                <a:gridCol w="1612800"/>
                <a:gridCol w="1613160"/>
                <a:gridCol w="1612800"/>
                <a:gridCol w="1612800"/>
              </a:tblGrid>
              <a:tr h="180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1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2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3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4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5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00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6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7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8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9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2" name=""/>
          <p:cNvSpPr/>
          <p:nvPr/>
        </p:nvSpPr>
        <p:spPr>
          <a:xfrm>
            <a:off x="4067280" y="907920"/>
            <a:ext cx="115236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900000" y="2637000"/>
            <a:ext cx="1152720" cy="93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24360" y="981000"/>
            <a:ext cx="115272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"/>
          <p:cNvGraphicFramePr/>
          <p:nvPr/>
        </p:nvGraphicFramePr>
        <p:xfrm>
          <a:off x="611280" y="476280"/>
          <a:ext cx="8064360" cy="3600360"/>
        </p:xfrm>
        <a:graphic>
          <a:graphicData uri="http://schemas.openxmlformats.org/drawingml/2006/table">
            <a:tbl>
              <a:tblPr/>
              <a:tblGrid>
                <a:gridCol w="1612800"/>
                <a:gridCol w="1612800"/>
                <a:gridCol w="1613160"/>
                <a:gridCol w="1612800"/>
                <a:gridCol w="1612800"/>
              </a:tblGrid>
              <a:tr h="180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1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2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3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4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5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00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6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7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8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9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4067280" y="907920"/>
            <a:ext cx="115236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00000" y="2637000"/>
            <a:ext cx="1152720" cy="93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724360" y="981000"/>
            <a:ext cx="115272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651640" y="2708280"/>
            <a:ext cx="115236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611280" y="476280"/>
          <a:ext cx="8064360" cy="3600360"/>
        </p:xfrm>
        <a:graphic>
          <a:graphicData uri="http://schemas.openxmlformats.org/drawingml/2006/table">
            <a:tbl>
              <a:tblPr/>
              <a:tblGrid>
                <a:gridCol w="1612800"/>
                <a:gridCol w="1612800"/>
                <a:gridCol w="1613160"/>
                <a:gridCol w="1612800"/>
                <a:gridCol w="1612800"/>
              </a:tblGrid>
              <a:tr h="180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1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2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3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4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5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00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6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7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8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9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1" name=""/>
          <p:cNvSpPr/>
          <p:nvPr/>
        </p:nvSpPr>
        <p:spPr>
          <a:xfrm>
            <a:off x="4067280" y="907920"/>
            <a:ext cx="115236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00000" y="2637000"/>
            <a:ext cx="1152720" cy="93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724360" y="981000"/>
            <a:ext cx="115272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651640" y="2708280"/>
            <a:ext cx="115236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26920" y="907920"/>
            <a:ext cx="115272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"/>
          <p:cNvGraphicFramePr/>
          <p:nvPr/>
        </p:nvGraphicFramePr>
        <p:xfrm>
          <a:off x="611280" y="476280"/>
          <a:ext cx="8064360" cy="3600360"/>
        </p:xfrm>
        <a:graphic>
          <a:graphicData uri="http://schemas.openxmlformats.org/drawingml/2006/table">
            <a:tbl>
              <a:tblPr/>
              <a:tblGrid>
                <a:gridCol w="1612800"/>
                <a:gridCol w="1612800"/>
                <a:gridCol w="1613160"/>
                <a:gridCol w="1612800"/>
                <a:gridCol w="1612800"/>
              </a:tblGrid>
              <a:tr h="180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1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2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3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4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5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00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6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7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8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9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7" name=""/>
          <p:cNvSpPr/>
          <p:nvPr/>
        </p:nvSpPr>
        <p:spPr>
          <a:xfrm>
            <a:off x="4067280" y="907920"/>
            <a:ext cx="115236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900000" y="2637000"/>
            <a:ext cx="1152720" cy="93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724360" y="981000"/>
            <a:ext cx="115272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651640" y="2708280"/>
            <a:ext cx="115236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26920" y="907920"/>
            <a:ext cx="115272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484360" y="2637000"/>
            <a:ext cx="1152720" cy="93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"/>
          <p:cNvGraphicFramePr/>
          <p:nvPr/>
        </p:nvGraphicFramePr>
        <p:xfrm>
          <a:off x="611280" y="476280"/>
          <a:ext cx="8064360" cy="3600360"/>
        </p:xfrm>
        <a:graphic>
          <a:graphicData uri="http://schemas.openxmlformats.org/drawingml/2006/table">
            <a:tbl>
              <a:tblPr/>
              <a:tblGrid>
                <a:gridCol w="1612800"/>
                <a:gridCol w="1612800"/>
                <a:gridCol w="1613160"/>
                <a:gridCol w="1612800"/>
                <a:gridCol w="1612800"/>
              </a:tblGrid>
              <a:tr h="180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1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2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3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4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5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00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6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7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8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9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4" name=""/>
          <p:cNvSpPr/>
          <p:nvPr/>
        </p:nvSpPr>
        <p:spPr>
          <a:xfrm>
            <a:off x="4067280" y="907920"/>
            <a:ext cx="115236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900000" y="2637000"/>
            <a:ext cx="1152720" cy="93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724360" y="981000"/>
            <a:ext cx="115272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651640" y="2708280"/>
            <a:ext cx="115236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26920" y="907920"/>
            <a:ext cx="115272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484360" y="2637000"/>
            <a:ext cx="1152720" cy="93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308720" y="907920"/>
            <a:ext cx="115272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"/>
          <p:cNvGraphicFramePr/>
          <p:nvPr/>
        </p:nvGraphicFramePr>
        <p:xfrm>
          <a:off x="611280" y="476280"/>
          <a:ext cx="8064360" cy="3600360"/>
        </p:xfrm>
        <a:graphic>
          <a:graphicData uri="http://schemas.openxmlformats.org/drawingml/2006/table">
            <a:tbl>
              <a:tblPr/>
              <a:tblGrid>
                <a:gridCol w="1612800"/>
                <a:gridCol w="1612800"/>
                <a:gridCol w="1613160"/>
                <a:gridCol w="1612800"/>
                <a:gridCol w="1612800"/>
              </a:tblGrid>
              <a:tr h="180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1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2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3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4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5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00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6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7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8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9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02" name=""/>
          <p:cNvSpPr/>
          <p:nvPr/>
        </p:nvSpPr>
        <p:spPr>
          <a:xfrm>
            <a:off x="4067280" y="907920"/>
            <a:ext cx="115236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00000" y="2637000"/>
            <a:ext cx="1152720" cy="93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724360" y="981000"/>
            <a:ext cx="115272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651640" y="2708280"/>
            <a:ext cx="115236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26920" y="907920"/>
            <a:ext cx="115272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84360" y="2637000"/>
            <a:ext cx="1152720" cy="93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08720" y="907920"/>
            <a:ext cx="115272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067280" y="2708280"/>
            <a:ext cx="115236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 Seccombe</cp:lastModifiedBy>
  <dcterms:modified xsi:type="dcterms:W3CDTF">2014-01-10T09:37:10Z</dcterms:modified>
  <cp:revision>22</cp:revision>
  <dc:subject/>
  <dc:title>Slide 1</dc:title>
</cp:coreProperties>
</file>