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9F4-7D19-4DC2-81B1-04B18CBB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725-BDD5-402B-A121-2B7BAB32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9ED7-C40F-4902-B9A0-BCD68163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6D8-ADB0-4D82-93E3-A3241177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6BE2-2A87-48EA-9A0C-F1F46A8F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0725-577D-4923-81C7-9AB0DCA5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83B6-64F4-481A-A09A-4C890CE4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ABE8-B47E-4D08-AB17-89743317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1ABB-6B28-4F14-9CEB-574493CB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5040-C368-46A8-A6A3-731E11DA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09DA-A04F-4B61-B451-EF66BDE0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68F-95B6-4CE2-9CCD-17ED8B2D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7AF8-1848-44F3-B40F-65FED5B4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5E6E-1C75-4060-A2B0-AACAC512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BA95-4591-4DFA-9737-EA59CBBF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CA0A-028A-40C3-8588-7B597764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C3A5-8D96-4ABC-806B-40ED5637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C4D7-807B-4E2E-87D0-A08B2890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D6EFA-FC75-4F6E-AE7D-6DE85B96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EC8D1-2F4F-4153-836A-6DE5B2B3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F0DAC-4BED-49EC-B451-38F4D405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D9DA-1DC0-4B87-8A68-4AB48179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931-8BD1-4293-876C-BE75306B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AED44-69DD-4C7D-9E16-28F3C6B9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B73E7-F970-417A-90C2-7CFFC1D9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6A26F-7D70-4762-BE1D-A6FABF1F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5AB03-33C4-4A99-8A44-C1FEF523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5C7A1-BDDD-498F-A797-746339EA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84398-8C1B-4B89-B2CF-2348B690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02388-8564-49C6-9AE2-FB878534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D008B-7AE8-4CA3-BF3C-709B36CF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C2D2A-DFA4-4E58-BC81-95AC78FF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CAAFF-9816-4B90-9914-60C71628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2A0-BB13-4268-8241-2598335B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04C8E-2531-489A-8939-4589E1B1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C5B36-8E7E-484F-B223-134FB937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98B3D-C6DC-4F18-A439-FC5300C5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776BF-5E2E-44D1-A6AA-50F4C4A5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B90EA-AC6D-427B-82C4-BF423AB0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7678A-1B81-4F4C-9551-C711332B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72329-46D3-4A24-9E60-DD0AF420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C6E33-4129-4AA6-9521-EEE572E0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448CC-F6F7-41C0-83C6-33B7C8BB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4C2-590C-4DCC-B43F-C84A5E9E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C18-4BDA-495B-A6B6-BA81981C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ECD-D8D6-4082-B961-F7E082A4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059-B668-42E7-80FE-05843991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214-D7AD-4A8C-A357-49FB4834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4AEE-F36D-455F-8058-812C8081B3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4811-C059-4846-A163-FD1C374474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6332-9786-4BC8-8F87-974922BE117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230B-5987-41C1-95A2-6165093A38B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82692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155736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1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95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6000" y="371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2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1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2692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36000" y="155736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1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95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6000" y="371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4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82692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6000" y="155736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51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36000" y="371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82692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51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6000" y="371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82692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236000" y="371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82692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236000" y="371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82692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236000" y="371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82692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611280" y="260280"/>
          <a:ext cx="8064360" cy="4392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3995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51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236000" y="47628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692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95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51640" y="155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1128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95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236000" y="263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2692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128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5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1-10T09:36:08Z</dcterms:modified>
  <cp:revision>19</cp:revision>
  <dc:subject/>
  <dc:title>Slide 1</dc:title>
</cp:coreProperties>
</file>