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CB2-889E-47A1-97CD-AC8C3A2E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F22-FA51-43D5-8F83-04EE4624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A6F-0DC5-4F7C-8495-0846E28E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416-7732-412D-9F37-20367D37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634-3025-42D8-A288-B9867AB7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EDAA-6ED2-4185-99D2-8D075439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1367-89AA-4FC9-B649-3F857CE9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6420-75C2-41DF-AA3D-C62718B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A94E-F4B8-4BC1-B44D-F43BD11E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DFA2-38AA-4A0F-83DF-42ADABD2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9753-4A06-42AA-B33C-C07C3257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E43-E760-4E23-8E16-C958B11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A93D-8544-4ACD-9488-4DF9D1B1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9955-D6E8-453C-8494-386944DF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0D5B-31E4-4C88-8391-09BC5BF4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CB4D-F425-45BB-B374-6614AAAF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7165-515D-4171-BCE1-A61A232B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A20C-7B61-4CC5-B908-BEEFAD9C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99CF-28C1-4AD6-927C-6180B0D3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706B-9AD6-4EF4-85F8-A6FC41AB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6246-BF83-4B85-84BA-E791ED09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0734-8788-402A-9E53-070FCD6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992-343A-4547-9CDA-8119605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5FAC-5B6F-41A2-9CD5-C679CEA1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6A6B-80FC-45DB-A807-5308D9D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8890-E5DD-4AFB-8D09-D6D8FCE6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6796-7957-47FE-AB10-3D09EF7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0F1B-A95E-4EA5-9DCA-CD4BA9EF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4030C-92FC-43D9-B695-60C52A32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3602-ECE0-4441-A26D-1BD6C134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86E8-3FAB-4FC7-BD9B-FDDACCA6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7497-0F29-4FD3-AA26-6C0527C1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9BC5-49CD-4F67-AB58-814DEDEB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43F-92B1-4FFD-B4FE-279982C2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BD9E-007D-4710-B78A-E27FEAC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347A-B25E-4275-B744-5D3B4D5F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8195-17C3-48F9-9970-34475565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0393-F5B9-4E9C-8FDD-E4C48A93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D495-15A2-483D-83E2-19B40F45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CDD7-64C7-430C-BBE8-6FF0C5E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4EA4-3CD1-44CE-B464-B3DDBB3B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F8EE-B0A7-492E-A98A-1FB038F9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20F6-A2D2-40AF-8472-3629FBB4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73C-A7F2-473A-BEED-67ADD045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629-4389-4063-942F-9172289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816-3B7E-4702-8FF7-7E1667A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CED-C341-4058-BDF9-A93789F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130-E4EA-4EC5-80BE-F7C0B43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F6D7-EE1C-4BBE-914C-FB1D01748A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979-BB67-4ABC-A3CF-764A519513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365-35C4-4D89-9578-75AB7DCA8FF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01AA-AE6B-4440-B59E-DED5816F492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155736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2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36000" y="155736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155736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36:08Z</dcterms:modified>
  <cp:revision>19</cp:revision>
  <dc:subject/>
  <dc:title>Slide 1</dc:title>
</cp:coreProperties>
</file>