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C90-3EC4-404C-9294-596E0662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6D2-3032-43D2-B378-2786AE1D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110-6690-48F8-8B01-3C2A4AC7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843-49F1-4489-BF04-9A6467B9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3067-FD65-41FB-94EC-5D9DF96E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B18E-938C-40CF-85E4-B7B9400D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1E65-0299-4A40-BBD1-51B26F43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F0EC-1022-4EB8-BDF6-919F4F58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26F5-95E7-47FD-A845-63BC0A86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B0BC-CD07-4C77-AE24-1E7864A5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977D-B29D-4EEA-919F-7E2B7791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2E7-39AB-4B40-92F8-4F6C0344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42FD-059D-458D-B7FD-88B5AF6D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F187-8EE6-4442-B64E-530AA4D9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9D22-FE37-4C3B-A675-FB4872CE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8D84-0B48-469F-8D41-D33915E7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CB7D-5600-4371-88B5-0DF346A6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45D5-D5CB-4F5D-BF72-C167B012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FD6B-7BE2-4C94-920B-4E6075B3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53429-FB3F-4221-B4CA-A86B598A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5E50-2664-418E-ABAC-7F2CD6FB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D6BC-40CC-4AF4-8E53-1B64CA9C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885-B167-4EC3-B459-1739BB41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F6FE-2D67-4378-81BB-430277B9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A8BD1-8AD8-4F9A-A766-EF3FF444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744F-C8B2-476E-93C1-D1D48F92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487C4-5408-4070-9DCB-057817E6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D54F-9F55-4656-BD76-D946AB34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25462-8124-4118-A7EB-5C26F803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FC04-4D5F-4661-9B69-51B67621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49A7A-EBCE-422F-8403-48C54217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6F9E5-E4FB-405B-8E99-4A62B29B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A629F-DC61-478E-B277-1BAE3E32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6FC-5E45-49AB-9062-9AFD3C69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F363E-5076-4C68-903D-28BF1932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2A49-F80C-489B-BF31-9490295E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EED97-F905-4CCE-8196-11A7AF33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F6C7-AA54-4901-A82B-6492D081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1C9BE-0DED-4D46-B429-C9EFC57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CBB47-9EC8-474A-B6B8-4DB90489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3BBDC-081C-4C4B-B857-8470C685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FE0DD-B151-4918-916E-0F9EA0A8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8AC8A-D2AC-4765-B250-39BD1F12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BB5-B59C-4E90-9399-8AF32335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A96-BB69-4E2E-86BA-A6E3A54F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AAD-489D-44E6-BB8E-7D743FCD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60C-E958-46FB-BC59-75955A8A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18C-4DAE-414A-9FB9-CEE65799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50B1-0D42-4527-A6FB-79455EB573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857B-1EFC-4F51-8110-B592AFA1FA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01D4-F15D-458A-AFCF-38D5808FEA4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E7F6-A2DA-4229-BEC5-C718601EEDC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79280" y="189000"/>
          <a:ext cx="8713800" cy="304164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79280" y="189000"/>
          <a:ext cx="8713800" cy="304164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79280" y="189000"/>
          <a:ext cx="8713800" cy="304164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9280" y="189000"/>
          <a:ext cx="8713800" cy="3041640"/>
        </p:xfrm>
        <a:graphic>
          <a:graphicData uri="http://schemas.openxmlformats.org/drawingml/2006/table">
            <a:tbl>
              <a:tblPr/>
              <a:tblGrid>
                <a:gridCol w="871560"/>
                <a:gridCol w="871560"/>
                <a:gridCol w="871560"/>
                <a:gridCol w="871560"/>
                <a:gridCol w="871560"/>
                <a:gridCol w="870120"/>
                <a:gridCol w="871200"/>
                <a:gridCol w="871560"/>
                <a:gridCol w="871560"/>
                <a:gridCol w="8715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29:01Z</dcterms:modified>
  <cp:revision>53</cp:revision>
  <dc:subject/>
  <dc:title>Slide 1</dc:title>
</cp:coreProperties>
</file>