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C4B-B7AD-4F9B-9189-7D5AC0B9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346-F514-446C-9A20-AEBA5C9F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6A9-CE6C-464E-A1A8-A64B65BE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AAC-4B7A-43C6-A4E1-F0124663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A434-218A-41ED-9E78-4370A803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A22B-046A-42BE-ADBD-96C9B6BD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6A4E-5F9E-4774-8DA3-EB12B4AD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27C1-735B-4BA0-AE12-14AB6A08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9EAF-7CE2-4F0D-BD66-85434564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A122-2A18-446C-A4CD-FE056FCA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4217-9066-4030-8143-7AD1028A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0FD-12B7-467A-90DE-15164760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CB5F-D163-4DE6-A1D9-301F7DAF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0B1D-9727-4C89-A6CF-4C6700EE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E4AA-A509-467D-8F49-5451C3DF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22C7-CC6F-4DD7-8784-1BC649AA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8106-5E37-49CB-B6A8-41B9AEFD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3407E-C646-4A6C-A1F6-E7198335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23B0-2284-4FED-B6E7-28D2F523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03FCF-37EC-49FE-B411-5C29B9FC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666B-AA51-4AED-AE8E-78400FA1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79165-28E1-49F3-AA61-B0B38173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271-438E-43B0-BF5F-639BBC32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15C7E-78AD-4AC1-9901-6F188D6A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74BF9-45B8-455D-89CB-B8838C93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63137-57FB-4474-8F17-A8491FB9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4216-2585-4924-89D0-FAF6E7EF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D21A9-F4F8-4E02-B90C-C23AB846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1D1B5-D516-4417-876A-251758D1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E9E28-9500-4A59-A87C-A526FBAC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15678-C5A4-47B4-BE4E-615DA4E1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ACC92-88EE-4B77-AE2B-11F54B6C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A4D86-90DB-4563-846A-B4BC4768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3AEA-80D7-4F5A-A3B4-FDB16C6E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202AC-5475-4DA1-988E-5F0E164C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9AE68-CAAE-44D5-A56C-159236CA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8C704-9EE0-4F96-A934-6CDB79BE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5A62C-B792-417A-9904-525BC78F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008EB-E1CD-4510-995A-E26C96A3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F9871-403E-40BB-84A2-70899E91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54272-EBBB-43DC-B9E7-41A04C06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4DAF3-331A-4E5A-8A86-C2DDF64B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6B969-FCE8-4F7F-8A4E-89180A34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9B0-E764-4A2C-AC9A-D718923D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81A-EB09-438A-B94C-8FBD43ED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39E-0D59-44BF-8773-A9AE1225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1F8-3C0A-4404-A7BB-3D5C60CA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021-9DA9-4B55-8159-F8F8C413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0F1B-4931-40D6-B97A-3778D2A13C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F2D6-0AEA-4FBA-8382-C3DD6DB5EF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F89B-89EF-4D23-8E00-DB78D9928EE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C931-DB42-4819-8C28-A969939B3DA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79280" y="189000"/>
          <a:ext cx="8713800" cy="304164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79280" y="189000"/>
          <a:ext cx="8713800" cy="304164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79280" y="189000"/>
          <a:ext cx="8713800" cy="304164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9280" y="189000"/>
          <a:ext cx="8713800" cy="304164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2-02-20T11:29:01Z</dcterms:modified>
  <cp:revision>53</cp:revision>
  <dc:subject/>
  <dc:title>Slide 1</dc:title>
</cp:coreProperties>
</file>