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6B15-CFAA-4BDE-9E0F-E8B8B0F97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9A2A-3DB1-464A-940E-6789E584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F269-0221-49F5-84F1-575C2E18F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9EA9-517A-4655-BF59-FB0379E19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3BD5-6D38-44C7-8A79-DB8CDC759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F9B4-2B00-4C5C-9325-8025C2DC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4312-BB3D-4077-A8E1-8AA68E79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DF647-39E9-4E5A-B254-FEBE0E1E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A0CE-DEBB-4330-A5C8-57F296ED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7873B-91D1-43B0-B60F-C3A25FD8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EF54-4029-467D-BAAA-BC4812A6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E75F-81C6-4949-861C-00627FB2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3DA9-715E-48AB-856A-5A68DBEF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0087-F56A-4F47-AE2D-63029367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5A23-B5E7-4399-8034-1F1F441E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0C94-BF20-4B6D-8751-2FAED7CC2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D00D-D8E9-4FEA-8C8B-146F58F87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83083-C35D-4E84-98FC-5EDBA0FAD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6BA3F-B5E5-4FFF-A3B9-39B0B5E1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CB9BF-F23A-49F7-81A8-769376A4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7A23B-D096-4D0C-87AD-000CA3D5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378E4-D85C-41FC-931C-B32E2776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EAC5-CF1E-427D-9210-E4075E43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D0D11-829E-43EA-87B6-2E7ECA0E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0D6A0-9BD9-41E9-9EE9-A7B2413D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37F68-F59E-451F-8379-32782262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76FE2-F4F9-4F90-8B2D-FB38112B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81038-85FB-4DCA-B40A-B8BFAF95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F647F-59B3-43DC-82BB-62DA45AEF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5A49E-DFC9-4BA3-8DF0-D65322666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5E538-D289-44A4-BC4A-2F8F0FF1E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CBFA2-5EBB-4C29-A531-07D268CF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93907-6473-439B-8715-D810ABFA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BA4C-D8A8-426F-8FAB-7529F05F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CB149-ED41-4B5F-86CA-190DA844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F9A7E-BB4F-4474-B761-886012E5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2964B-62C2-4325-B501-0281630C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24429-1D4B-4323-9C3A-92F8467E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5E17E-CEB2-4097-8637-8D1199AE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7539D-64DF-497C-BBB0-E122FFD3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66D84-22A4-43DD-A03C-5BF68878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08B89-4514-4BD9-BFAE-D5AD4BF42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260EC-0894-47C5-825E-FA21A475F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29EB-64A4-4F9F-974C-64FF1752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01B1-83C1-453E-B692-2FE12A0D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6109-9457-4E09-99DA-251B15DF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A77F-27D9-4DC9-9E77-3A829ADE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5CD6-6BCC-49AD-85EB-1EBF2C49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C395-071E-4A68-8CFE-BDC5F37BDB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4A87-1A91-4A08-B790-6B2CB0D205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A52B-4486-47C0-A833-C97B72FC54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A012-ABD5-4E99-AEE1-E331CA0AD2C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1" descr="MC900232064"/>
          <p:cNvPicPr/>
          <p:nvPr/>
        </p:nvPicPr>
        <p:blipFill>
          <a:blip r:embed="rId2"/>
          <a:stretch/>
        </p:blipFill>
        <p:spPr>
          <a:xfrm>
            <a:off x="5508720" y="3429000"/>
            <a:ext cx="2881080" cy="2637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" descr="MC900232522"/>
          <p:cNvPicPr/>
          <p:nvPr/>
        </p:nvPicPr>
        <p:blipFill>
          <a:blip r:embed="rId3"/>
          <a:stretch/>
        </p:blipFill>
        <p:spPr>
          <a:xfrm>
            <a:off x="2771640" y="3357720"/>
            <a:ext cx="2194200" cy="2952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4" descr="MC900232144"/>
          <p:cNvPicPr/>
          <p:nvPr/>
        </p:nvPicPr>
        <p:blipFill>
          <a:blip r:embed="rId4"/>
          <a:stretch/>
        </p:blipFill>
        <p:spPr>
          <a:xfrm>
            <a:off x="468360" y="260280"/>
            <a:ext cx="2712960" cy="2952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5" descr="MC900232728"/>
          <p:cNvPicPr/>
          <p:nvPr/>
        </p:nvPicPr>
        <p:blipFill>
          <a:blip r:embed="rId5"/>
          <a:stretch/>
        </p:blipFill>
        <p:spPr>
          <a:xfrm>
            <a:off x="6227640" y="189000"/>
            <a:ext cx="1865520" cy="2952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6" descr="MC900232988"/>
          <p:cNvPicPr/>
          <p:nvPr/>
        </p:nvPicPr>
        <p:blipFill>
          <a:blip r:embed="rId6"/>
          <a:stretch/>
        </p:blipFill>
        <p:spPr>
          <a:xfrm>
            <a:off x="3348000" y="549360"/>
            <a:ext cx="24480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MCj04244680000[1]"/>
          <p:cNvPicPr/>
          <p:nvPr/>
        </p:nvPicPr>
        <p:blipFill>
          <a:blip r:embed="rId2"/>
          <a:stretch/>
        </p:blipFill>
        <p:spPr>
          <a:xfrm>
            <a:off x="6372360" y="1197000"/>
            <a:ext cx="1981080" cy="1863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MCj04244660000[1]"/>
          <p:cNvPicPr/>
          <p:nvPr/>
        </p:nvPicPr>
        <p:blipFill>
          <a:blip r:embed="rId3"/>
          <a:stretch/>
        </p:blipFill>
        <p:spPr>
          <a:xfrm>
            <a:off x="3780000" y="1268280"/>
            <a:ext cx="1974600" cy="1700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MCj04280650000[1]"/>
          <p:cNvPicPr/>
          <p:nvPr/>
        </p:nvPicPr>
        <p:blipFill>
          <a:blip r:embed="rId4"/>
          <a:stretch/>
        </p:blipFill>
        <p:spPr>
          <a:xfrm>
            <a:off x="324000" y="1197000"/>
            <a:ext cx="27684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2" descr="MC900232522"/>
          <p:cNvPicPr/>
          <p:nvPr/>
        </p:nvPicPr>
        <p:blipFill>
          <a:blip r:embed="rId2"/>
          <a:stretch/>
        </p:blipFill>
        <p:spPr>
          <a:xfrm>
            <a:off x="1908000" y="1341360"/>
            <a:ext cx="2194200" cy="2952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MCj04280650000[1]"/>
          <p:cNvPicPr/>
          <p:nvPr/>
        </p:nvPicPr>
        <p:blipFill>
          <a:blip r:embed="rId3"/>
          <a:stretch/>
        </p:blipFill>
        <p:spPr>
          <a:xfrm>
            <a:off x="4643280" y="1844640"/>
            <a:ext cx="27687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14" descr="MC900232144"/>
          <p:cNvPicPr/>
          <p:nvPr/>
        </p:nvPicPr>
        <p:blipFill>
          <a:blip r:embed="rId2"/>
          <a:stretch/>
        </p:blipFill>
        <p:spPr>
          <a:xfrm>
            <a:off x="2050920" y="1341360"/>
            <a:ext cx="2713320" cy="2952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MCj04244660000[1]"/>
          <p:cNvPicPr/>
          <p:nvPr/>
        </p:nvPicPr>
        <p:blipFill>
          <a:blip r:embed="rId3"/>
          <a:stretch/>
        </p:blipFill>
        <p:spPr>
          <a:xfrm>
            <a:off x="5508720" y="1967040"/>
            <a:ext cx="1974600" cy="16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5" descr="MC900232728"/>
          <p:cNvPicPr/>
          <p:nvPr/>
        </p:nvPicPr>
        <p:blipFill>
          <a:blip r:embed="rId2"/>
          <a:stretch/>
        </p:blipFill>
        <p:spPr>
          <a:xfrm>
            <a:off x="1979640" y="1268280"/>
            <a:ext cx="1865160" cy="2952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MCj04244660000[1]"/>
          <p:cNvPicPr/>
          <p:nvPr/>
        </p:nvPicPr>
        <p:blipFill>
          <a:blip r:embed="rId3"/>
          <a:stretch/>
        </p:blipFill>
        <p:spPr>
          <a:xfrm>
            <a:off x="5003640" y="1989000"/>
            <a:ext cx="197496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1" descr="MC900232064"/>
          <p:cNvPicPr/>
          <p:nvPr/>
        </p:nvPicPr>
        <p:blipFill>
          <a:blip r:embed="rId2"/>
          <a:stretch/>
        </p:blipFill>
        <p:spPr>
          <a:xfrm>
            <a:off x="1835280" y="1557360"/>
            <a:ext cx="2881080" cy="2636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MCj04244680000[1]"/>
          <p:cNvPicPr/>
          <p:nvPr/>
        </p:nvPicPr>
        <p:blipFill>
          <a:blip r:embed="rId3"/>
          <a:stretch/>
        </p:blipFill>
        <p:spPr>
          <a:xfrm>
            <a:off x="5003640" y="2060640"/>
            <a:ext cx="198144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6" descr="MC900232988"/>
          <p:cNvPicPr/>
          <p:nvPr/>
        </p:nvPicPr>
        <p:blipFill>
          <a:blip r:embed="rId2"/>
          <a:stretch/>
        </p:blipFill>
        <p:spPr>
          <a:xfrm>
            <a:off x="1908000" y="1628640"/>
            <a:ext cx="2448000" cy="2430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MCj04280650000[1]"/>
          <p:cNvPicPr/>
          <p:nvPr/>
        </p:nvPicPr>
        <p:blipFill>
          <a:blip r:embed="rId3"/>
          <a:stretch/>
        </p:blipFill>
        <p:spPr>
          <a:xfrm>
            <a:off x="4608360" y="1979640"/>
            <a:ext cx="27687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2"/>
          <a:srcRect l="3723" t="10553" r="2150" b="8988"/>
          <a:stretch/>
        </p:blipFill>
        <p:spPr>
          <a:xfrm>
            <a:off x="108000" y="115920"/>
            <a:ext cx="895032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2-10-15T09:54:16Z</dcterms:modified>
  <cp:revision>27</cp:revision>
  <dc:subject/>
  <dc:title>Slide 1</dc:title>
</cp:coreProperties>
</file>