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EAE-0D1C-4508-A808-8C685809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C69-0C2B-4D1E-9789-34454D5C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AC8-249E-4F91-970E-58C5EC49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9D9-0784-4316-B8F3-D83992FF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FBC0-191A-4228-875B-714198BE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7442-0777-4B02-BEBF-4D5C01C8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65D7-D48C-417F-8B77-E25BD5B1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F91A-24BE-4DBF-B634-CF227F83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40FC-AF9C-48A1-93F4-9B920BF7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D93-46E1-42DD-AECA-304D8580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BBF-98D4-442C-832A-959C5596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2A4-0583-4FC1-85C1-E30C57AB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906B-F3E0-409D-B6A3-931ED85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8540-426C-4972-87CA-81990EF5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EACA-91A8-404E-9800-15372FE5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DBF6-3725-4884-A37F-609D027C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27DB-8EA9-4045-8E67-524CCE46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4EFB-DCFE-4C37-BE51-9DCB6A19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1E4C-09E1-4F00-9343-DD711B5C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ADD7-82BE-43BC-A222-6DD9410D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E3C6-79A0-4BCC-886E-456A000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D8B9-EC07-4DC5-9298-D5652371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CA4-9454-478C-846F-01E0DE02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D739-A517-4C07-9C5B-5CBB853F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9E05-4C04-4370-80F7-8AD109AE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C73F-E9DB-4CE0-8296-15FDAC3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C36D-B425-4755-972F-C1F8A27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EEED-B9F2-4C2E-8112-CD1A563C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AA2F-8BA1-4D0E-81A7-F8C1DBEC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FC6B-6040-49C3-BAAB-65545B00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7FDD-820F-415D-B233-724B1961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45B9-FB97-4275-AF9E-45A819D6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B67B-5BD4-4FB3-A6F2-3DFBD21E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2A6-F3EF-4CA0-94C3-469344C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7C21-E843-4E53-A062-48B34E4C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7632-D486-4F09-A779-DE38F65E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D6DA-1F56-482F-99C0-5C431EB0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BC3E-BF3D-428F-8FDD-20A97C8B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EF5C-CBFC-4395-A8F5-9F1C507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771A1-5A97-4FE3-92DE-53FEB7E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05D6-50F2-404E-A388-42B52C6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2E77-62B5-43E9-9AC3-F414F724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D5737-8F8E-4C82-AC4D-1E514746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EDA-AF9D-4C19-960C-B199C602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04D-1EF0-405B-8B53-B783881E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87F-8EAE-4109-AC98-D87065C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601-EC73-4314-A36A-3F57EDB9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FC8-52F3-4715-8664-8456E12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D2CB-3936-4554-9BA5-3A7D7CFD18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7B61-3BCE-44C5-9D64-BED4C52C1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D6D3-24C4-4C8F-A606-CA4C306DB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C17-A459-4490-812A-02F591B829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MC900232064"/>
          <p:cNvPicPr/>
          <p:nvPr/>
        </p:nvPicPr>
        <p:blipFill>
          <a:blip r:embed="rId2"/>
          <a:stretch/>
        </p:blipFill>
        <p:spPr>
          <a:xfrm>
            <a:off x="5508720" y="3429000"/>
            <a:ext cx="2881080" cy="2637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MC900232522"/>
          <p:cNvPicPr/>
          <p:nvPr/>
        </p:nvPicPr>
        <p:blipFill>
          <a:blip r:embed="rId3"/>
          <a:stretch/>
        </p:blipFill>
        <p:spPr>
          <a:xfrm>
            <a:off x="2771640" y="3357720"/>
            <a:ext cx="219420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MC900232144"/>
          <p:cNvPicPr/>
          <p:nvPr/>
        </p:nvPicPr>
        <p:blipFill>
          <a:blip r:embed="rId4"/>
          <a:stretch/>
        </p:blipFill>
        <p:spPr>
          <a:xfrm>
            <a:off x="468360" y="260280"/>
            <a:ext cx="2712960" cy="2952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MC900232728"/>
          <p:cNvPicPr/>
          <p:nvPr/>
        </p:nvPicPr>
        <p:blipFill>
          <a:blip r:embed="rId5"/>
          <a:stretch/>
        </p:blipFill>
        <p:spPr>
          <a:xfrm>
            <a:off x="6227640" y="189000"/>
            <a:ext cx="1865520" cy="295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MC900232988"/>
          <p:cNvPicPr/>
          <p:nvPr/>
        </p:nvPicPr>
        <p:blipFill>
          <a:blip r:embed="rId6"/>
          <a:stretch/>
        </p:blipFill>
        <p:spPr>
          <a:xfrm>
            <a:off x="3348000" y="549360"/>
            <a:ext cx="244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MCj04244680000[1]"/>
          <p:cNvPicPr/>
          <p:nvPr/>
        </p:nvPicPr>
        <p:blipFill>
          <a:blip r:embed="rId2"/>
          <a:stretch/>
        </p:blipFill>
        <p:spPr>
          <a:xfrm>
            <a:off x="6372360" y="119700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MCj04244660000[1]"/>
          <p:cNvPicPr/>
          <p:nvPr/>
        </p:nvPicPr>
        <p:blipFill>
          <a:blip r:embed="rId3"/>
          <a:stretch/>
        </p:blipFill>
        <p:spPr>
          <a:xfrm>
            <a:off x="3780000" y="1268280"/>
            <a:ext cx="1974600" cy="17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MCj04280650000[1]"/>
          <p:cNvPicPr/>
          <p:nvPr/>
        </p:nvPicPr>
        <p:blipFill>
          <a:blip r:embed="rId4"/>
          <a:stretch/>
        </p:blipFill>
        <p:spPr>
          <a:xfrm>
            <a:off x="324000" y="1197000"/>
            <a:ext cx="2768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2" descr="MC900232522"/>
          <p:cNvPicPr/>
          <p:nvPr/>
        </p:nvPicPr>
        <p:blipFill>
          <a:blip r:embed="rId2"/>
          <a:stretch/>
        </p:blipFill>
        <p:spPr>
          <a:xfrm>
            <a:off x="1908000" y="1341360"/>
            <a:ext cx="2194200" cy="2952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Cj04280650000[1]"/>
          <p:cNvPicPr/>
          <p:nvPr/>
        </p:nvPicPr>
        <p:blipFill>
          <a:blip r:embed="rId3"/>
          <a:stretch/>
        </p:blipFill>
        <p:spPr>
          <a:xfrm>
            <a:off x="4643280" y="1844640"/>
            <a:ext cx="2768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4" descr="MC900232144"/>
          <p:cNvPicPr/>
          <p:nvPr/>
        </p:nvPicPr>
        <p:blipFill>
          <a:blip r:embed="rId2"/>
          <a:stretch/>
        </p:blipFill>
        <p:spPr>
          <a:xfrm>
            <a:off x="2050920" y="1341360"/>
            <a:ext cx="2713320" cy="295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j04244660000[1]"/>
          <p:cNvPicPr/>
          <p:nvPr/>
        </p:nvPicPr>
        <p:blipFill>
          <a:blip r:embed="rId3"/>
          <a:stretch/>
        </p:blipFill>
        <p:spPr>
          <a:xfrm>
            <a:off x="5508720" y="1967040"/>
            <a:ext cx="19746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5" descr="MC900232728"/>
          <p:cNvPicPr/>
          <p:nvPr/>
        </p:nvPicPr>
        <p:blipFill>
          <a:blip r:embed="rId2"/>
          <a:stretch/>
        </p:blipFill>
        <p:spPr>
          <a:xfrm>
            <a:off x="1979640" y="1268280"/>
            <a:ext cx="1865160" cy="295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Cj04244660000[1]"/>
          <p:cNvPicPr/>
          <p:nvPr/>
        </p:nvPicPr>
        <p:blipFill>
          <a:blip r:embed="rId3"/>
          <a:stretch/>
        </p:blipFill>
        <p:spPr>
          <a:xfrm>
            <a:off x="5003640" y="1989000"/>
            <a:ext cx="19749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MC900232064"/>
          <p:cNvPicPr/>
          <p:nvPr/>
        </p:nvPicPr>
        <p:blipFill>
          <a:blip r:embed="rId2"/>
          <a:stretch/>
        </p:blipFill>
        <p:spPr>
          <a:xfrm>
            <a:off x="1835280" y="1557360"/>
            <a:ext cx="2881080" cy="2636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244680000[1]"/>
          <p:cNvPicPr/>
          <p:nvPr/>
        </p:nvPicPr>
        <p:blipFill>
          <a:blip r:embed="rId3"/>
          <a:stretch/>
        </p:blipFill>
        <p:spPr>
          <a:xfrm>
            <a:off x="5003640" y="2060640"/>
            <a:ext cx="19814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" descr="MC900232988"/>
          <p:cNvPicPr/>
          <p:nvPr/>
        </p:nvPicPr>
        <p:blipFill>
          <a:blip r:embed="rId2"/>
          <a:stretch/>
        </p:blipFill>
        <p:spPr>
          <a:xfrm>
            <a:off x="1908000" y="1628640"/>
            <a:ext cx="2448000" cy="243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MCj04280650000[1]"/>
          <p:cNvPicPr/>
          <p:nvPr/>
        </p:nvPicPr>
        <p:blipFill>
          <a:blip r:embed="rId3"/>
          <a:stretch/>
        </p:blipFill>
        <p:spPr>
          <a:xfrm>
            <a:off x="4608360" y="1979640"/>
            <a:ext cx="2768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2"/>
          <a:srcRect l="3723" t="10553" r="2150" b="8988"/>
          <a:stretch/>
        </p:blipFill>
        <p:spPr>
          <a:xfrm>
            <a:off x="108000" y="115920"/>
            <a:ext cx="89503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10-15T09:54:16Z</dcterms:modified>
  <cp:revision>27</cp:revision>
  <dc:subject/>
  <dc:title>Slide 1</dc:title>
</cp:coreProperties>
</file>